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8FEE-A094-4031-A956-B2E3CC1C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683-FA63-4B01-AFAC-BF4ED638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33A-EF95-4CA8-95CA-548D1445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F5CA-E38B-470E-85E1-27754402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48D5-DCA6-4657-8A8B-BFA79BC3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71E7-3B8E-468D-8224-16C29CF1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EFA5-3899-408E-BF18-4FCBB4D2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4001-2088-468C-8F70-B50B86AC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5980-AC5C-4891-BC8E-3BC2E2C1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DDF0-B1B5-4E73-B3FA-3F32E711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6D1D-E0BE-4DAE-98B5-57CD12D8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6FF-4DE2-4B8E-BA11-FA3E0F7D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B063-33C3-425A-9C9F-F9C99B1C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657B-038B-42B3-95A7-19B0E51C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A3C7-1237-4511-9351-84C5137D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8B27-9F71-45B0-AE40-33295EA1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FEFC-34F7-4F13-BA69-2E90E5E9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484-1CA7-4EBF-B890-2A5A7EDA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9374DB-7301-45A6-87D6-040719EF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50A6B5-E807-40E0-A99C-7704DF5E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32CEE3-2CC8-4C14-8E0F-25DEDF7A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F138-91EA-41AD-A358-8DFDEDFE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8DE9F7-946C-49D2-B783-1F1BDCEF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BFF572-5698-40CA-9EEF-751400B0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AA9188-814D-496C-90E8-1A655C6D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8CE0F1-4DB6-46A3-9B18-1A3BDAE4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12E759-89A9-4874-8ADB-F589AAA9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13E7B5-1EF0-4F57-B2DE-EC1FA76B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972E7D-2DE2-4C52-B411-9ED14E87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917751-664E-46A1-9635-8B111A83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593F54-121F-4182-BE80-95F2A6C1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D37-0F51-419A-803B-A0CF3842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BEC-4E9D-435E-92E4-D3E94E31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522C-9D73-454E-BDC6-69348A3A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AB0B-D5D2-492A-B9DE-74FF7D33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E09-7B7E-4FD9-BE1D-99735752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C5FE-BE0C-465C-8077-53E4B2C5E7BF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8CE5-EB72-410F-A808-1279D51AC9A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Otoño 2007       8-</a:t>
            </a:r>
            <a:fld id="{2456DCF2-ADFA-4C35-9195-D47EEBCBED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059280" y="6021360"/>
            <a:ext cx="2874960" cy="65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9832-5A5E-4BCB-A020-BF573493A6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059280" y="6021360"/>
            <a:ext cx="2874960" cy="654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Procesos de Negocios - Clase 1</a:t>
            </a: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4000" spc="-1" strike="noStrike">
                <a:solidFill>
                  <a:srgbClr val="0000ff"/>
                </a:solidFill>
                <a:latin typeface="Verdana"/>
              </a:rPr>
              <a:t>Caracterización de los Procesos de Negoci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90360" y="380988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ntonio Holgado S.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de Negocios y Arquitectura de Sis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1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s procesos de negocios pueden considerarse el hilo conductor del desarrollo de un Sistema de Informaci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presentan la base de los sistema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dicionalmente, son un elemento estructural de su arquitectu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 conjunto con Datos, Interfaces, Redes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de Negocios</a:t>
            </a: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rporativos o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on aquellos procesos de negocio que si fallan, comprometen seriamente el resultado del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identifican por que son los que agregan más val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de Negocios</a:t>
            </a: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rporativos o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88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enta (p.ej. de Equipos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de Servi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antención de Servi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tiro de Servi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Postventa: mantención y atención de client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acturación (cliente in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ra y abastecimiento (cliente in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branza (cliente in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un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gramación y control de la produc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dministración de las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finición de políticas de crédi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tabil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dministración de subcontra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dministración de las invers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finición de políticas de inventar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Gestión de la capacit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 comparación con Funciones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Administrativas tales com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1676520"/>
            <a:ext cx="4889520" cy="3284280"/>
          </a:xfrm>
          <a:prstGeom prst="triangle">
            <a:avLst>
              <a:gd name="adj" fmla="val 4998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5257800"/>
            <a:ext cx="4873680" cy="8352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PRODUC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(recur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2286000"/>
            <a:ext cx="243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6600"/>
                </a:solidFill>
                <a:latin typeface="Times New Roman"/>
              </a:rPr>
              <a:t>PLANIFICACION    ESTRATE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3200400"/>
            <a:ext cx="30481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6600"/>
                </a:solidFill>
                <a:latin typeface="Times New Roman"/>
              </a:rPr>
              <a:t>CONTROL ADMINISTRATIVO</a:t>
            </a:r>
            <a:r>
              <a:rPr b="1" lang="es-ES_tradnl" sz="2000" spc="-1" strike="noStrike">
                <a:solidFill>
                  <a:srgbClr val="996600"/>
                </a:solidFill>
                <a:latin typeface="Times New Roman"/>
              </a:rPr>
              <a:t>, </a:t>
            </a:r>
            <a:r>
              <a:rPr b="1" lang="es-ES_tradnl" sz="1800" spc="-1" strike="noStrike">
                <a:solidFill>
                  <a:srgbClr val="996600"/>
                </a:solidFill>
                <a:latin typeface="Times New Roman"/>
              </a:rPr>
              <a:t>TACTICO O DE 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4267080"/>
            <a:ext cx="2971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00"/>
                </a:solidFill>
                <a:latin typeface="Times New Roman"/>
              </a:rPr>
              <a:t>CONTROL</a:t>
            </a:r>
            <a:r>
              <a:rPr b="1" lang="es-ES_tradnl" sz="18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996600"/>
                </a:solidFill>
                <a:latin typeface="Times New Roman"/>
              </a:rPr>
              <a:t>OPERACIONAL</a:t>
            </a:r>
            <a:r>
              <a:rPr b="1" lang="es-ES_tradnl" sz="16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3124080"/>
            <a:ext cx="2130480" cy="0"/>
          </a:xfrm>
          <a:prstGeom prst="line">
            <a:avLst/>
          </a:prstGeom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4191120"/>
            <a:ext cx="3657600" cy="0"/>
          </a:xfrm>
          <a:prstGeom prst="line">
            <a:avLst/>
          </a:prstGeom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0" y="4419720"/>
            <a:ext cx="0" cy="137160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429000" y="4419360"/>
            <a:ext cx="0" cy="136980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1752480"/>
            <a:ext cx="0" cy="1447920"/>
          </a:xfrm>
          <a:prstGeom prst="line">
            <a:avLst/>
          </a:prstGeom>
          <a:ln w="255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20040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DMINISTR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3538440"/>
            <a:ext cx="0" cy="141444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5181480"/>
            <a:ext cx="0" cy="304920"/>
          </a:xfrm>
          <a:prstGeom prst="line">
            <a:avLst/>
          </a:prstGeom>
          <a:ln w="255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486400"/>
            <a:ext cx="192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5794200"/>
            <a:ext cx="0" cy="30168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5943600"/>
            <a:ext cx="106380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37200" y="5943600"/>
            <a:ext cx="91152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773480" y="5410080"/>
            <a:ext cx="1370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DUCT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75800" y="5562720"/>
            <a:ext cx="1015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SU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de Negocios y los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ciclos de Planificación y Contro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400800" y="1676520"/>
            <a:ext cx="1655280" cy="888840"/>
            <a:chOff x="6400800" y="1676520"/>
            <a:chExt cx="1655280" cy="888840"/>
          </a:xfrm>
        </p:grpSpPr>
        <p:grpSp>
          <p:nvGrpSpPr>
            <p:cNvPr id="217" name=""/>
            <p:cNvGrpSpPr/>
            <p:nvPr/>
          </p:nvGrpSpPr>
          <p:grpSpPr>
            <a:xfrm>
              <a:off x="6400800" y="1676520"/>
              <a:ext cx="1604520" cy="888840"/>
              <a:chOff x="6400800" y="1676520"/>
              <a:chExt cx="1604520" cy="888840"/>
            </a:xfrm>
          </p:grpSpPr>
          <p:sp>
            <p:nvSpPr>
              <p:cNvPr id="218" name=""/>
              <p:cNvSpPr/>
              <p:nvPr/>
            </p:nvSpPr>
            <p:spPr>
              <a:xfrm>
                <a:off x="6400800" y="1676520"/>
                <a:ext cx="1604520" cy="888840"/>
              </a:xfrm>
              <a:custGeom>
                <a:avLst/>
                <a:gdLst/>
                <a:ahLst/>
                <a:rect l="l" t="t" r="r" b="b"/>
                <a:pathLst>
                  <a:path w="1011" h="560">
                    <a:moveTo>
                      <a:pt x="171" y="0"/>
                    </a:moveTo>
                    <a:lnTo>
                      <a:pt x="139" y="3"/>
                    </a:lnTo>
                    <a:lnTo>
                      <a:pt x="106" y="6"/>
                    </a:lnTo>
                    <a:lnTo>
                      <a:pt x="49" y="22"/>
                    </a:lnTo>
                    <a:lnTo>
                      <a:pt x="17" y="43"/>
                    </a:lnTo>
                    <a:lnTo>
                      <a:pt x="0" y="72"/>
                    </a:lnTo>
                    <a:lnTo>
                      <a:pt x="0" y="253"/>
                    </a:lnTo>
                    <a:lnTo>
                      <a:pt x="0" y="359"/>
                    </a:lnTo>
                    <a:lnTo>
                      <a:pt x="17" y="389"/>
                    </a:lnTo>
                    <a:lnTo>
                      <a:pt x="49" y="410"/>
                    </a:lnTo>
                    <a:lnTo>
                      <a:pt x="106" y="426"/>
                    </a:lnTo>
                    <a:lnTo>
                      <a:pt x="139" y="429"/>
                    </a:lnTo>
                    <a:lnTo>
                      <a:pt x="171" y="431"/>
                    </a:lnTo>
                    <a:lnTo>
                      <a:pt x="57" y="559"/>
                    </a:lnTo>
                    <a:lnTo>
                      <a:pt x="424" y="431"/>
                    </a:lnTo>
                    <a:lnTo>
                      <a:pt x="839" y="431"/>
                    </a:lnTo>
                    <a:lnTo>
                      <a:pt x="872" y="429"/>
                    </a:lnTo>
                    <a:lnTo>
                      <a:pt x="904" y="426"/>
                    </a:lnTo>
                    <a:lnTo>
                      <a:pt x="961" y="410"/>
                    </a:lnTo>
                    <a:lnTo>
                      <a:pt x="994" y="389"/>
                    </a:lnTo>
                    <a:lnTo>
                      <a:pt x="1010" y="359"/>
                    </a:lnTo>
                    <a:lnTo>
                      <a:pt x="1010" y="253"/>
                    </a:lnTo>
                    <a:lnTo>
                      <a:pt x="1010" y="72"/>
                    </a:lnTo>
                    <a:lnTo>
                      <a:pt x="994" y="43"/>
                    </a:lnTo>
                    <a:lnTo>
                      <a:pt x="961" y="22"/>
                    </a:lnTo>
                    <a:lnTo>
                      <a:pt x="904" y="6"/>
                    </a:lnTo>
                    <a:lnTo>
                      <a:pt x="872" y="3"/>
                    </a:lnTo>
                    <a:lnTo>
                      <a:pt x="839" y="0"/>
                    </a:lnTo>
                    <a:lnTo>
                      <a:pt x="424" y="0"/>
                    </a:lnTo>
                    <a:lnTo>
                      <a:pt x="171" y="0"/>
                    </a:lnTo>
                  </a:path>
                </a:pathLst>
              </a:custGeom>
              <a:solidFill>
                <a:srgbClr val="a3b2c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551280" y="1749240"/>
                <a:ext cx="1301400" cy="53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6402240" y="1752480"/>
              <a:ext cx="16538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PLAN LARGO PLAZ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934320" y="2666880"/>
            <a:ext cx="1765080" cy="976320"/>
            <a:chOff x="6934320" y="2666880"/>
            <a:chExt cx="1765080" cy="976320"/>
          </a:xfrm>
        </p:grpSpPr>
        <p:sp>
          <p:nvSpPr>
            <p:cNvPr id="222" name=""/>
            <p:cNvSpPr/>
            <p:nvPr/>
          </p:nvSpPr>
          <p:spPr>
            <a:xfrm>
              <a:off x="6934320" y="2666880"/>
              <a:ext cx="203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7014960" y="2895480"/>
              <a:ext cx="1684440" cy="747720"/>
              <a:chOff x="7014960" y="2895480"/>
              <a:chExt cx="1684440" cy="747720"/>
            </a:xfrm>
          </p:grpSpPr>
          <p:sp>
            <p:nvSpPr>
              <p:cNvPr id="224" name=""/>
              <p:cNvSpPr/>
              <p:nvPr/>
            </p:nvSpPr>
            <p:spPr>
              <a:xfrm>
                <a:off x="7014960" y="2895480"/>
                <a:ext cx="1684440" cy="747720"/>
              </a:xfrm>
              <a:custGeom>
                <a:avLst/>
                <a:gdLst/>
                <a:ahLst/>
                <a:rect l="l" t="t" r="r" b="b"/>
                <a:pathLst>
                  <a:path w="1061" h="471">
                    <a:moveTo>
                      <a:pt x="181" y="0"/>
                    </a:moveTo>
                    <a:lnTo>
                      <a:pt x="108" y="3"/>
                    </a:lnTo>
                    <a:lnTo>
                      <a:pt x="54" y="19"/>
                    </a:lnTo>
                    <a:lnTo>
                      <a:pt x="18" y="42"/>
                    </a:lnTo>
                    <a:lnTo>
                      <a:pt x="0" y="65"/>
                    </a:lnTo>
                    <a:lnTo>
                      <a:pt x="0" y="225"/>
                    </a:lnTo>
                    <a:lnTo>
                      <a:pt x="0" y="321"/>
                    </a:lnTo>
                    <a:lnTo>
                      <a:pt x="18" y="344"/>
                    </a:lnTo>
                    <a:lnTo>
                      <a:pt x="54" y="367"/>
                    </a:lnTo>
                    <a:lnTo>
                      <a:pt x="108" y="382"/>
                    </a:lnTo>
                    <a:lnTo>
                      <a:pt x="181" y="386"/>
                    </a:lnTo>
                    <a:lnTo>
                      <a:pt x="27" y="470"/>
                    </a:lnTo>
                    <a:lnTo>
                      <a:pt x="444" y="386"/>
                    </a:lnTo>
                    <a:lnTo>
                      <a:pt x="879" y="386"/>
                    </a:lnTo>
                    <a:lnTo>
                      <a:pt x="951" y="382"/>
                    </a:lnTo>
                    <a:lnTo>
                      <a:pt x="1006" y="367"/>
                    </a:lnTo>
                    <a:lnTo>
                      <a:pt x="1042" y="344"/>
                    </a:lnTo>
                    <a:lnTo>
                      <a:pt x="1060" y="321"/>
                    </a:lnTo>
                    <a:lnTo>
                      <a:pt x="1060" y="225"/>
                    </a:lnTo>
                    <a:lnTo>
                      <a:pt x="1060" y="65"/>
                    </a:lnTo>
                    <a:lnTo>
                      <a:pt x="1042" y="42"/>
                    </a:lnTo>
                    <a:lnTo>
                      <a:pt x="1006" y="19"/>
                    </a:lnTo>
                    <a:lnTo>
                      <a:pt x="951" y="3"/>
                    </a:lnTo>
                    <a:lnTo>
                      <a:pt x="879" y="0"/>
                    </a:lnTo>
                    <a:lnTo>
                      <a:pt x="444" y="0"/>
                    </a:lnTo>
                    <a:lnTo>
                      <a:pt x="181" y="0"/>
                    </a:lnTo>
                  </a:path>
                </a:pathLst>
              </a:custGeom>
              <a:solidFill>
                <a:srgbClr val="a3b2c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172280" y="2965320"/>
                <a:ext cx="137160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PROGRA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MEDIANO PLAZ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1981080" y="2666880"/>
            <a:ext cx="1447560" cy="913680"/>
            <a:chOff x="1981080" y="2666880"/>
            <a:chExt cx="1447560" cy="913680"/>
          </a:xfrm>
        </p:grpSpPr>
        <p:grpSp>
          <p:nvGrpSpPr>
            <p:cNvPr id="227" name=""/>
            <p:cNvGrpSpPr/>
            <p:nvPr/>
          </p:nvGrpSpPr>
          <p:grpSpPr>
            <a:xfrm>
              <a:off x="1981080" y="2666880"/>
              <a:ext cx="1375920" cy="913680"/>
              <a:chOff x="1981080" y="2666880"/>
              <a:chExt cx="1375920" cy="913680"/>
            </a:xfrm>
          </p:grpSpPr>
          <p:sp>
            <p:nvSpPr>
              <p:cNvPr id="228" name=""/>
              <p:cNvSpPr/>
              <p:nvPr/>
            </p:nvSpPr>
            <p:spPr>
              <a:xfrm>
                <a:off x="1981080" y="2666880"/>
                <a:ext cx="1375920" cy="913680"/>
              </a:xfrm>
              <a:custGeom>
                <a:avLst/>
                <a:gdLst/>
                <a:ahLst/>
                <a:rect l="l" t="t" r="r" b="b"/>
                <a:pathLst>
                  <a:path w="1169" h="530">
                    <a:moveTo>
                      <a:pt x="194" y="0"/>
                    </a:moveTo>
                    <a:lnTo>
                      <a:pt x="156" y="0"/>
                    </a:lnTo>
                    <a:lnTo>
                      <a:pt x="118" y="7"/>
                    </a:lnTo>
                    <a:lnTo>
                      <a:pt x="86" y="14"/>
                    </a:lnTo>
                    <a:lnTo>
                      <a:pt x="58" y="21"/>
                    </a:lnTo>
                    <a:lnTo>
                      <a:pt x="32" y="35"/>
                    </a:lnTo>
                    <a:lnTo>
                      <a:pt x="16" y="45"/>
                    </a:lnTo>
                    <a:lnTo>
                      <a:pt x="4" y="59"/>
                    </a:lnTo>
                    <a:lnTo>
                      <a:pt x="0" y="73"/>
                    </a:lnTo>
                    <a:lnTo>
                      <a:pt x="0" y="253"/>
                    </a:lnTo>
                    <a:lnTo>
                      <a:pt x="0" y="363"/>
                    </a:lnTo>
                    <a:lnTo>
                      <a:pt x="4" y="377"/>
                    </a:lnTo>
                    <a:lnTo>
                      <a:pt x="16" y="391"/>
                    </a:lnTo>
                    <a:lnTo>
                      <a:pt x="32" y="401"/>
                    </a:lnTo>
                    <a:lnTo>
                      <a:pt x="58" y="412"/>
                    </a:lnTo>
                    <a:lnTo>
                      <a:pt x="86" y="422"/>
                    </a:lnTo>
                    <a:lnTo>
                      <a:pt x="118" y="425"/>
                    </a:lnTo>
                    <a:lnTo>
                      <a:pt x="156" y="432"/>
                    </a:lnTo>
                    <a:lnTo>
                      <a:pt x="194" y="432"/>
                    </a:lnTo>
                    <a:lnTo>
                      <a:pt x="673" y="432"/>
                    </a:lnTo>
                    <a:lnTo>
                      <a:pt x="1168" y="529"/>
                    </a:lnTo>
                    <a:lnTo>
                      <a:pt x="962" y="432"/>
                    </a:lnTo>
                    <a:lnTo>
                      <a:pt x="1000" y="432"/>
                    </a:lnTo>
                    <a:lnTo>
                      <a:pt x="1035" y="425"/>
                    </a:lnTo>
                    <a:lnTo>
                      <a:pt x="1070" y="422"/>
                    </a:lnTo>
                    <a:lnTo>
                      <a:pt x="1095" y="412"/>
                    </a:lnTo>
                    <a:lnTo>
                      <a:pt x="1120" y="401"/>
                    </a:lnTo>
                    <a:lnTo>
                      <a:pt x="1136" y="391"/>
                    </a:lnTo>
                    <a:lnTo>
                      <a:pt x="1149" y="377"/>
                    </a:lnTo>
                    <a:lnTo>
                      <a:pt x="1152" y="363"/>
                    </a:lnTo>
                    <a:lnTo>
                      <a:pt x="1152" y="253"/>
                    </a:lnTo>
                    <a:lnTo>
                      <a:pt x="1152" y="73"/>
                    </a:lnTo>
                    <a:lnTo>
                      <a:pt x="1149" y="59"/>
                    </a:lnTo>
                    <a:lnTo>
                      <a:pt x="1136" y="45"/>
                    </a:lnTo>
                    <a:lnTo>
                      <a:pt x="1120" y="35"/>
                    </a:lnTo>
                    <a:lnTo>
                      <a:pt x="1095" y="21"/>
                    </a:lnTo>
                    <a:lnTo>
                      <a:pt x="1070" y="14"/>
                    </a:lnTo>
                    <a:lnTo>
                      <a:pt x="1035" y="7"/>
                    </a:lnTo>
                    <a:lnTo>
                      <a:pt x="1000" y="0"/>
                    </a:lnTo>
                    <a:lnTo>
                      <a:pt x="962" y="0"/>
                    </a:lnTo>
                    <a:lnTo>
                      <a:pt x="673" y="0"/>
                    </a:lnTo>
                    <a:lnTo>
                      <a:pt x="194" y="0"/>
                    </a:lnTo>
                  </a:path>
                </a:pathLst>
              </a:custGeom>
              <a:solidFill>
                <a:srgbClr val="a3b2c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098440" y="2749320"/>
                <a:ext cx="1122480" cy="58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1981800" y="2752920"/>
              <a:ext cx="14468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RESULT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MEDIANO PLAZ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286000" y="1752480"/>
            <a:ext cx="1628640" cy="820800"/>
            <a:chOff x="2286000" y="1752480"/>
            <a:chExt cx="1628640" cy="820800"/>
          </a:xfrm>
        </p:grpSpPr>
        <p:grpSp>
          <p:nvGrpSpPr>
            <p:cNvPr id="232" name=""/>
            <p:cNvGrpSpPr/>
            <p:nvPr/>
          </p:nvGrpSpPr>
          <p:grpSpPr>
            <a:xfrm>
              <a:off x="2286000" y="1752480"/>
              <a:ext cx="1628640" cy="820800"/>
              <a:chOff x="2286000" y="1752480"/>
              <a:chExt cx="1628640" cy="820800"/>
            </a:xfrm>
          </p:grpSpPr>
          <p:sp>
            <p:nvSpPr>
              <p:cNvPr id="233" name=""/>
              <p:cNvSpPr/>
              <p:nvPr/>
            </p:nvSpPr>
            <p:spPr>
              <a:xfrm>
                <a:off x="2286000" y="1752480"/>
                <a:ext cx="1628640" cy="820800"/>
              </a:xfrm>
              <a:custGeom>
                <a:avLst/>
                <a:gdLst/>
                <a:ahLst/>
                <a:rect l="l" t="t" r="r" b="b"/>
                <a:pathLst>
                  <a:path w="1026" h="613">
                    <a:moveTo>
                      <a:pt x="168" y="0"/>
                    </a:moveTo>
                    <a:lnTo>
                      <a:pt x="134" y="2"/>
                    </a:lnTo>
                    <a:lnTo>
                      <a:pt x="101" y="7"/>
                    </a:lnTo>
                    <a:lnTo>
                      <a:pt x="75" y="16"/>
                    </a:lnTo>
                    <a:lnTo>
                      <a:pt x="49" y="25"/>
                    </a:lnTo>
                    <a:lnTo>
                      <a:pt x="30" y="39"/>
                    </a:lnTo>
                    <a:lnTo>
                      <a:pt x="15" y="55"/>
                    </a:lnTo>
                    <a:lnTo>
                      <a:pt x="4" y="71"/>
                    </a:lnTo>
                    <a:lnTo>
                      <a:pt x="0" y="89"/>
                    </a:lnTo>
                    <a:lnTo>
                      <a:pt x="0" y="308"/>
                    </a:lnTo>
                    <a:lnTo>
                      <a:pt x="0" y="441"/>
                    </a:lnTo>
                    <a:lnTo>
                      <a:pt x="4" y="459"/>
                    </a:lnTo>
                    <a:lnTo>
                      <a:pt x="15" y="475"/>
                    </a:lnTo>
                    <a:lnTo>
                      <a:pt x="30" y="491"/>
                    </a:lnTo>
                    <a:lnTo>
                      <a:pt x="49" y="505"/>
                    </a:lnTo>
                    <a:lnTo>
                      <a:pt x="75" y="514"/>
                    </a:lnTo>
                    <a:lnTo>
                      <a:pt x="101" y="523"/>
                    </a:lnTo>
                    <a:lnTo>
                      <a:pt x="134" y="528"/>
                    </a:lnTo>
                    <a:lnTo>
                      <a:pt x="168" y="530"/>
                    </a:lnTo>
                    <a:lnTo>
                      <a:pt x="591" y="530"/>
                    </a:lnTo>
                    <a:lnTo>
                      <a:pt x="1025" y="612"/>
                    </a:lnTo>
                    <a:lnTo>
                      <a:pt x="839" y="530"/>
                    </a:lnTo>
                    <a:lnTo>
                      <a:pt x="873" y="528"/>
                    </a:lnTo>
                    <a:lnTo>
                      <a:pt x="906" y="523"/>
                    </a:lnTo>
                    <a:lnTo>
                      <a:pt x="936" y="514"/>
                    </a:lnTo>
                    <a:lnTo>
                      <a:pt x="958" y="505"/>
                    </a:lnTo>
                    <a:lnTo>
                      <a:pt x="980" y="491"/>
                    </a:lnTo>
                    <a:lnTo>
                      <a:pt x="995" y="475"/>
                    </a:lnTo>
                    <a:lnTo>
                      <a:pt x="1006" y="459"/>
                    </a:lnTo>
                    <a:lnTo>
                      <a:pt x="1010" y="441"/>
                    </a:lnTo>
                    <a:lnTo>
                      <a:pt x="1010" y="308"/>
                    </a:lnTo>
                    <a:lnTo>
                      <a:pt x="1010" y="89"/>
                    </a:lnTo>
                    <a:lnTo>
                      <a:pt x="1006" y="71"/>
                    </a:lnTo>
                    <a:lnTo>
                      <a:pt x="995" y="55"/>
                    </a:lnTo>
                    <a:lnTo>
                      <a:pt x="980" y="39"/>
                    </a:lnTo>
                    <a:lnTo>
                      <a:pt x="958" y="25"/>
                    </a:lnTo>
                    <a:lnTo>
                      <a:pt x="936" y="16"/>
                    </a:lnTo>
                    <a:lnTo>
                      <a:pt x="906" y="7"/>
                    </a:lnTo>
                    <a:lnTo>
                      <a:pt x="873" y="2"/>
                    </a:lnTo>
                    <a:lnTo>
                      <a:pt x="839" y="0"/>
                    </a:lnTo>
                    <a:lnTo>
                      <a:pt x="591" y="0"/>
                    </a:lnTo>
                    <a:lnTo>
                      <a:pt x="168" y="0"/>
                    </a:lnTo>
                  </a:path>
                </a:pathLst>
              </a:custGeom>
              <a:solidFill>
                <a:srgbClr val="a3b2c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6840" y="1819080"/>
                <a:ext cx="1301400" cy="57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2363760" y="1882440"/>
              <a:ext cx="1494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RESULT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LARGO PLAZ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 rot="20875200">
            <a:off x="5549400" y="2184480"/>
            <a:ext cx="924120" cy="1143000"/>
          </a:xfrm>
          <a:custGeom>
            <a:avLst/>
            <a:gdLst/>
            <a:ahLst/>
            <a:rect l="l" t="t" r="r" b="b"/>
            <a:pathLst>
              <a:path w="563" h="819">
                <a:moveTo>
                  <a:pt x="0" y="0"/>
                </a:moveTo>
                <a:lnTo>
                  <a:pt x="131" y="15"/>
                </a:lnTo>
                <a:lnTo>
                  <a:pt x="255" y="33"/>
                </a:lnTo>
                <a:lnTo>
                  <a:pt x="307" y="48"/>
                </a:lnTo>
                <a:lnTo>
                  <a:pt x="360" y="66"/>
                </a:lnTo>
                <a:lnTo>
                  <a:pt x="405" y="87"/>
                </a:lnTo>
                <a:lnTo>
                  <a:pt x="444" y="111"/>
                </a:lnTo>
                <a:lnTo>
                  <a:pt x="477" y="141"/>
                </a:lnTo>
                <a:lnTo>
                  <a:pt x="503" y="177"/>
                </a:lnTo>
                <a:lnTo>
                  <a:pt x="523" y="216"/>
                </a:lnTo>
                <a:lnTo>
                  <a:pt x="542" y="258"/>
                </a:lnTo>
                <a:lnTo>
                  <a:pt x="562" y="348"/>
                </a:lnTo>
                <a:lnTo>
                  <a:pt x="555" y="437"/>
                </a:lnTo>
                <a:lnTo>
                  <a:pt x="542" y="482"/>
                </a:lnTo>
                <a:lnTo>
                  <a:pt x="529" y="527"/>
                </a:lnTo>
                <a:lnTo>
                  <a:pt x="477" y="623"/>
                </a:lnTo>
                <a:lnTo>
                  <a:pt x="412" y="719"/>
                </a:lnTo>
                <a:lnTo>
                  <a:pt x="333" y="818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615000">
            <a:off x="3878280" y="2062080"/>
            <a:ext cx="879480" cy="1219320"/>
          </a:xfrm>
          <a:custGeom>
            <a:avLst/>
            <a:gdLst/>
            <a:ahLst/>
            <a:rect l="l" t="t" r="r" b="b"/>
            <a:pathLst>
              <a:path w="602" h="752">
                <a:moveTo>
                  <a:pt x="601" y="23"/>
                </a:moveTo>
                <a:lnTo>
                  <a:pt x="494" y="9"/>
                </a:lnTo>
                <a:lnTo>
                  <a:pt x="391" y="0"/>
                </a:lnTo>
                <a:lnTo>
                  <a:pt x="340" y="0"/>
                </a:lnTo>
                <a:lnTo>
                  <a:pt x="298" y="3"/>
                </a:lnTo>
                <a:lnTo>
                  <a:pt x="251" y="12"/>
                </a:lnTo>
                <a:lnTo>
                  <a:pt x="214" y="23"/>
                </a:lnTo>
                <a:lnTo>
                  <a:pt x="182" y="43"/>
                </a:lnTo>
                <a:lnTo>
                  <a:pt x="149" y="66"/>
                </a:lnTo>
                <a:lnTo>
                  <a:pt x="121" y="97"/>
                </a:lnTo>
                <a:lnTo>
                  <a:pt x="98" y="128"/>
                </a:lnTo>
                <a:lnTo>
                  <a:pt x="56" y="199"/>
                </a:lnTo>
                <a:lnTo>
                  <a:pt x="37" y="234"/>
                </a:lnTo>
                <a:lnTo>
                  <a:pt x="23" y="265"/>
                </a:lnTo>
                <a:lnTo>
                  <a:pt x="4" y="327"/>
                </a:lnTo>
                <a:lnTo>
                  <a:pt x="0" y="387"/>
                </a:lnTo>
                <a:lnTo>
                  <a:pt x="4" y="447"/>
                </a:lnTo>
                <a:lnTo>
                  <a:pt x="23" y="506"/>
                </a:lnTo>
                <a:lnTo>
                  <a:pt x="42" y="538"/>
                </a:lnTo>
                <a:lnTo>
                  <a:pt x="65" y="575"/>
                </a:lnTo>
                <a:lnTo>
                  <a:pt x="121" y="646"/>
                </a:lnTo>
                <a:lnTo>
                  <a:pt x="149" y="677"/>
                </a:lnTo>
                <a:lnTo>
                  <a:pt x="177" y="708"/>
                </a:lnTo>
                <a:lnTo>
                  <a:pt x="200" y="734"/>
                </a:lnTo>
                <a:lnTo>
                  <a:pt x="214" y="751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358800">
            <a:off x="3045960" y="3584160"/>
            <a:ext cx="844560" cy="835200"/>
          </a:xfrm>
          <a:custGeom>
            <a:avLst/>
            <a:gdLst/>
            <a:ahLst/>
            <a:rect l="l" t="t" r="r" b="b"/>
            <a:pathLst>
              <a:path w="616" h="705">
                <a:moveTo>
                  <a:pt x="615" y="20"/>
                </a:moveTo>
                <a:lnTo>
                  <a:pt x="503" y="8"/>
                </a:lnTo>
                <a:lnTo>
                  <a:pt x="399" y="0"/>
                </a:lnTo>
                <a:lnTo>
                  <a:pt x="303" y="4"/>
                </a:lnTo>
                <a:lnTo>
                  <a:pt x="259" y="8"/>
                </a:lnTo>
                <a:lnTo>
                  <a:pt x="219" y="20"/>
                </a:lnTo>
                <a:lnTo>
                  <a:pt x="184" y="40"/>
                </a:lnTo>
                <a:lnTo>
                  <a:pt x="152" y="61"/>
                </a:lnTo>
                <a:lnTo>
                  <a:pt x="124" y="89"/>
                </a:lnTo>
                <a:lnTo>
                  <a:pt x="96" y="122"/>
                </a:lnTo>
                <a:lnTo>
                  <a:pt x="56" y="187"/>
                </a:lnTo>
                <a:lnTo>
                  <a:pt x="24" y="248"/>
                </a:lnTo>
                <a:lnTo>
                  <a:pt x="8" y="305"/>
                </a:lnTo>
                <a:lnTo>
                  <a:pt x="0" y="362"/>
                </a:lnTo>
                <a:lnTo>
                  <a:pt x="8" y="419"/>
                </a:lnTo>
                <a:lnTo>
                  <a:pt x="24" y="476"/>
                </a:lnTo>
                <a:lnTo>
                  <a:pt x="40" y="504"/>
                </a:lnTo>
                <a:lnTo>
                  <a:pt x="64" y="537"/>
                </a:lnTo>
                <a:lnTo>
                  <a:pt x="92" y="570"/>
                </a:lnTo>
                <a:lnTo>
                  <a:pt x="124" y="602"/>
                </a:lnTo>
                <a:lnTo>
                  <a:pt x="152" y="635"/>
                </a:lnTo>
                <a:lnTo>
                  <a:pt x="180" y="663"/>
                </a:lnTo>
                <a:lnTo>
                  <a:pt x="203" y="684"/>
                </a:lnTo>
                <a:lnTo>
                  <a:pt x="219" y="70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370160" y="4186080"/>
            <a:ext cx="1525320" cy="919440"/>
            <a:chOff x="1370160" y="4186080"/>
            <a:chExt cx="1525320" cy="919440"/>
          </a:xfrm>
        </p:grpSpPr>
        <p:sp>
          <p:nvSpPr>
            <p:cNvPr id="240" name=""/>
            <p:cNvSpPr/>
            <p:nvPr/>
          </p:nvSpPr>
          <p:spPr>
            <a:xfrm>
              <a:off x="1370160" y="4186080"/>
              <a:ext cx="1525320" cy="919440"/>
            </a:xfrm>
            <a:custGeom>
              <a:avLst/>
              <a:gdLst/>
              <a:ahLst/>
              <a:rect l="l" t="t" r="r" b="b"/>
              <a:pathLst>
                <a:path w="1346" h="772">
                  <a:moveTo>
                    <a:pt x="220" y="0"/>
                  </a:moveTo>
                  <a:lnTo>
                    <a:pt x="177" y="0"/>
                  </a:lnTo>
                  <a:lnTo>
                    <a:pt x="133" y="8"/>
                  </a:lnTo>
                  <a:lnTo>
                    <a:pt x="98" y="16"/>
                  </a:lnTo>
                  <a:lnTo>
                    <a:pt x="62" y="31"/>
                  </a:lnTo>
                  <a:lnTo>
                    <a:pt x="39" y="48"/>
                  </a:lnTo>
                  <a:lnTo>
                    <a:pt x="15" y="63"/>
                  </a:lnTo>
                  <a:lnTo>
                    <a:pt x="4" y="79"/>
                  </a:lnTo>
                  <a:lnTo>
                    <a:pt x="0" y="102"/>
                  </a:lnTo>
                  <a:lnTo>
                    <a:pt x="0" y="345"/>
                  </a:lnTo>
                  <a:lnTo>
                    <a:pt x="0" y="495"/>
                  </a:lnTo>
                  <a:lnTo>
                    <a:pt x="4" y="519"/>
                  </a:lnTo>
                  <a:lnTo>
                    <a:pt x="15" y="535"/>
                  </a:lnTo>
                  <a:lnTo>
                    <a:pt x="39" y="550"/>
                  </a:lnTo>
                  <a:lnTo>
                    <a:pt x="62" y="566"/>
                  </a:lnTo>
                  <a:lnTo>
                    <a:pt x="98" y="581"/>
                  </a:lnTo>
                  <a:lnTo>
                    <a:pt x="133" y="589"/>
                  </a:lnTo>
                  <a:lnTo>
                    <a:pt x="177" y="598"/>
                  </a:lnTo>
                  <a:lnTo>
                    <a:pt x="220" y="598"/>
                  </a:lnTo>
                  <a:lnTo>
                    <a:pt x="774" y="598"/>
                  </a:lnTo>
                  <a:lnTo>
                    <a:pt x="1345" y="771"/>
                  </a:lnTo>
                  <a:lnTo>
                    <a:pt x="1105" y="598"/>
                  </a:lnTo>
                  <a:lnTo>
                    <a:pt x="1147" y="598"/>
                  </a:lnTo>
                  <a:lnTo>
                    <a:pt x="1191" y="589"/>
                  </a:lnTo>
                  <a:lnTo>
                    <a:pt x="1227" y="581"/>
                  </a:lnTo>
                  <a:lnTo>
                    <a:pt x="1262" y="566"/>
                  </a:lnTo>
                  <a:lnTo>
                    <a:pt x="1285" y="550"/>
                  </a:lnTo>
                  <a:lnTo>
                    <a:pt x="1310" y="535"/>
                  </a:lnTo>
                  <a:lnTo>
                    <a:pt x="1321" y="519"/>
                  </a:lnTo>
                  <a:lnTo>
                    <a:pt x="1324" y="495"/>
                  </a:lnTo>
                  <a:lnTo>
                    <a:pt x="1324" y="345"/>
                  </a:lnTo>
                  <a:lnTo>
                    <a:pt x="1324" y="102"/>
                  </a:lnTo>
                  <a:lnTo>
                    <a:pt x="1321" y="79"/>
                  </a:lnTo>
                  <a:lnTo>
                    <a:pt x="1310" y="63"/>
                  </a:lnTo>
                  <a:lnTo>
                    <a:pt x="1285" y="48"/>
                  </a:lnTo>
                  <a:lnTo>
                    <a:pt x="1262" y="31"/>
                  </a:lnTo>
                  <a:lnTo>
                    <a:pt x="1227" y="16"/>
                  </a:lnTo>
                  <a:lnTo>
                    <a:pt x="1191" y="8"/>
                  </a:lnTo>
                  <a:lnTo>
                    <a:pt x="1147" y="0"/>
                  </a:lnTo>
                  <a:lnTo>
                    <a:pt x="1105" y="0"/>
                  </a:lnTo>
                  <a:lnTo>
                    <a:pt x="774" y="0"/>
                  </a:lnTo>
                  <a:lnTo>
                    <a:pt x="220" y="0"/>
                  </a:lnTo>
                </a:path>
              </a:pathLst>
            </a:custGeom>
            <a:solidFill>
              <a:srgbClr val="a3b2c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19560" y="4266000"/>
              <a:ext cx="120348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371600" y="4267080"/>
            <a:ext cx="1494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RESULT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ORT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392240" y="4038480"/>
            <a:ext cx="1549080" cy="1068480"/>
            <a:chOff x="7392240" y="4038480"/>
            <a:chExt cx="1549080" cy="1068480"/>
          </a:xfrm>
        </p:grpSpPr>
        <p:grpSp>
          <p:nvGrpSpPr>
            <p:cNvPr id="244" name=""/>
            <p:cNvGrpSpPr/>
            <p:nvPr/>
          </p:nvGrpSpPr>
          <p:grpSpPr>
            <a:xfrm>
              <a:off x="7418160" y="4038480"/>
              <a:ext cx="1452240" cy="1068480"/>
              <a:chOff x="7418160" y="4038480"/>
              <a:chExt cx="1452240" cy="1068480"/>
            </a:xfrm>
          </p:grpSpPr>
          <p:sp>
            <p:nvSpPr>
              <p:cNvPr id="245" name=""/>
              <p:cNvSpPr/>
              <p:nvPr/>
            </p:nvSpPr>
            <p:spPr>
              <a:xfrm>
                <a:off x="7418160" y="4038480"/>
                <a:ext cx="1452240" cy="1068480"/>
              </a:xfrm>
              <a:custGeom>
                <a:avLst/>
                <a:gdLst/>
                <a:ahLst/>
                <a:rect l="l" t="t" r="r" b="b"/>
                <a:pathLst>
                  <a:path w="1635" h="673">
                    <a:moveTo>
                      <a:pt x="267" y="0"/>
                    </a:moveTo>
                    <a:lnTo>
                      <a:pt x="173" y="6"/>
                    </a:lnTo>
                    <a:lnTo>
                      <a:pt x="78" y="25"/>
                    </a:lnTo>
                    <a:lnTo>
                      <a:pt x="17" y="50"/>
                    </a:lnTo>
                    <a:lnTo>
                      <a:pt x="0" y="75"/>
                    </a:lnTo>
                    <a:lnTo>
                      <a:pt x="0" y="276"/>
                    </a:lnTo>
                    <a:lnTo>
                      <a:pt x="0" y="395"/>
                    </a:lnTo>
                    <a:lnTo>
                      <a:pt x="17" y="427"/>
                    </a:lnTo>
                    <a:lnTo>
                      <a:pt x="78" y="452"/>
                    </a:lnTo>
                    <a:lnTo>
                      <a:pt x="173" y="464"/>
                    </a:lnTo>
                    <a:lnTo>
                      <a:pt x="267" y="470"/>
                    </a:lnTo>
                    <a:lnTo>
                      <a:pt x="95" y="672"/>
                    </a:lnTo>
                    <a:lnTo>
                      <a:pt x="676" y="470"/>
                    </a:lnTo>
                    <a:lnTo>
                      <a:pt x="1366" y="470"/>
                    </a:lnTo>
                    <a:lnTo>
                      <a:pt x="1461" y="464"/>
                    </a:lnTo>
                    <a:lnTo>
                      <a:pt x="1555" y="452"/>
                    </a:lnTo>
                    <a:lnTo>
                      <a:pt x="1618" y="427"/>
                    </a:lnTo>
                    <a:lnTo>
                      <a:pt x="1634" y="395"/>
                    </a:lnTo>
                    <a:lnTo>
                      <a:pt x="1634" y="276"/>
                    </a:lnTo>
                    <a:lnTo>
                      <a:pt x="1634" y="75"/>
                    </a:lnTo>
                    <a:lnTo>
                      <a:pt x="1618" y="50"/>
                    </a:lnTo>
                    <a:lnTo>
                      <a:pt x="1555" y="25"/>
                    </a:lnTo>
                    <a:lnTo>
                      <a:pt x="1461" y="6"/>
                    </a:lnTo>
                    <a:lnTo>
                      <a:pt x="1366" y="0"/>
                    </a:lnTo>
                    <a:lnTo>
                      <a:pt x="676" y="0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a3b2c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54600" y="4118040"/>
                <a:ext cx="117360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7392240" y="4114800"/>
              <a:ext cx="1549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LANZ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T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CORTO PLAZ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 rot="20875200">
            <a:off x="6391080" y="3349440"/>
            <a:ext cx="669600" cy="992160"/>
          </a:xfrm>
          <a:custGeom>
            <a:avLst/>
            <a:gdLst/>
            <a:ahLst/>
            <a:rect l="l" t="t" r="r" b="b"/>
            <a:pathLst>
              <a:path w="563" h="819">
                <a:moveTo>
                  <a:pt x="0" y="0"/>
                </a:moveTo>
                <a:lnTo>
                  <a:pt x="131" y="15"/>
                </a:lnTo>
                <a:lnTo>
                  <a:pt x="255" y="33"/>
                </a:lnTo>
                <a:lnTo>
                  <a:pt x="307" y="48"/>
                </a:lnTo>
                <a:lnTo>
                  <a:pt x="360" y="66"/>
                </a:lnTo>
                <a:lnTo>
                  <a:pt x="405" y="87"/>
                </a:lnTo>
                <a:lnTo>
                  <a:pt x="444" y="111"/>
                </a:lnTo>
                <a:lnTo>
                  <a:pt x="477" y="141"/>
                </a:lnTo>
                <a:lnTo>
                  <a:pt x="503" y="177"/>
                </a:lnTo>
                <a:lnTo>
                  <a:pt x="523" y="216"/>
                </a:lnTo>
                <a:lnTo>
                  <a:pt x="542" y="258"/>
                </a:lnTo>
                <a:lnTo>
                  <a:pt x="562" y="348"/>
                </a:lnTo>
                <a:lnTo>
                  <a:pt x="555" y="437"/>
                </a:lnTo>
                <a:lnTo>
                  <a:pt x="542" y="482"/>
                </a:lnTo>
                <a:lnTo>
                  <a:pt x="529" y="527"/>
                </a:lnTo>
                <a:lnTo>
                  <a:pt x="477" y="623"/>
                </a:lnTo>
                <a:lnTo>
                  <a:pt x="412" y="719"/>
                </a:lnTo>
                <a:lnTo>
                  <a:pt x="333" y="818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1676520"/>
            <a:ext cx="4889520" cy="3284280"/>
          </a:xfrm>
          <a:prstGeom prst="triangle">
            <a:avLst>
              <a:gd name="adj" fmla="val 4998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5257800"/>
            <a:ext cx="4873680" cy="8352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PRODUC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(recur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2286000"/>
            <a:ext cx="243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6600"/>
                </a:solidFill>
                <a:latin typeface="Times New Roman"/>
              </a:rPr>
              <a:t>PLANIFICACION    ESTRATE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81280" y="3200400"/>
            <a:ext cx="30481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6600"/>
                </a:solidFill>
                <a:latin typeface="Times New Roman"/>
              </a:rPr>
              <a:t>CONTROL ADMINISTRATIVO</a:t>
            </a:r>
            <a:r>
              <a:rPr b="1" lang="es-ES_tradnl" sz="2000" spc="-1" strike="noStrike">
                <a:solidFill>
                  <a:srgbClr val="996600"/>
                </a:solidFill>
                <a:latin typeface="Times New Roman"/>
              </a:rPr>
              <a:t>, </a:t>
            </a:r>
            <a:r>
              <a:rPr b="1" lang="es-ES_tradnl" sz="1800" spc="-1" strike="noStrike">
                <a:solidFill>
                  <a:srgbClr val="996600"/>
                </a:solidFill>
                <a:latin typeface="Times New Roman"/>
              </a:rPr>
              <a:t>TACTICO O DE 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4267080"/>
            <a:ext cx="2971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00"/>
                </a:solidFill>
                <a:latin typeface="Times New Roman"/>
              </a:rPr>
              <a:t>CONTROL</a:t>
            </a:r>
            <a:r>
              <a:rPr b="1" lang="es-ES_tradnl" sz="18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996600"/>
                </a:solidFill>
                <a:latin typeface="Times New Roman"/>
              </a:rPr>
              <a:t>OPERACIONAL</a:t>
            </a:r>
            <a:r>
              <a:rPr b="1" lang="es-ES_tradnl" sz="16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038480" y="3124080"/>
            <a:ext cx="2130480" cy="0"/>
          </a:xfrm>
          <a:prstGeom prst="line">
            <a:avLst/>
          </a:prstGeom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4191120"/>
            <a:ext cx="3657600" cy="0"/>
          </a:xfrm>
          <a:prstGeom prst="line">
            <a:avLst/>
          </a:prstGeom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4419720"/>
            <a:ext cx="0" cy="137160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505320" y="4419360"/>
            <a:ext cx="0" cy="136980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00000" y="1773360"/>
            <a:ext cx="0" cy="1447560"/>
          </a:xfrm>
          <a:prstGeom prst="line">
            <a:avLst/>
          </a:prstGeom>
          <a:ln w="255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20040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DMINISTR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3538440"/>
            <a:ext cx="0" cy="141444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5181480"/>
            <a:ext cx="0" cy="304920"/>
          </a:xfrm>
          <a:prstGeom prst="line">
            <a:avLst/>
          </a:prstGeom>
          <a:ln w="255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5486400"/>
            <a:ext cx="192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5794200"/>
            <a:ext cx="0" cy="30168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81080" y="5943600"/>
            <a:ext cx="106380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37200" y="5943600"/>
            <a:ext cx="91152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773840" y="5486400"/>
            <a:ext cx="1379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T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75800" y="5638680"/>
            <a:ext cx="1015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SU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de Negocios y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Funciones Administrativa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1752480"/>
            <a:ext cx="377640" cy="31975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492000" y="1773360"/>
            <a:ext cx="1600200" cy="31971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427280" y="1773360"/>
            <a:ext cx="685800" cy="31971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1676520"/>
            <a:ext cx="1368360" cy="32734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4876920"/>
            <a:ext cx="510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tas. Finanz.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c.  Abast.   Distri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72440" y="2971800"/>
            <a:ext cx="2608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660033"/>
                </a:solidFill>
                <a:latin typeface="Arial"/>
              </a:rPr>
              <a:t>Proceso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848720" y="2819520"/>
            <a:ext cx="1143000" cy="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96080" y="5105520"/>
            <a:ext cx="1311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5105520"/>
            <a:ext cx="131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0800">
            <a:off x="2666880" y="3428640"/>
            <a:ext cx="5029200" cy="2055960"/>
          </a:xfrm>
          <a:custGeom>
            <a:avLst/>
            <a:gdLst/>
            <a:ahLst/>
            <a:rect l="l" t="t" r="r" b="b"/>
            <a:pathLst>
              <a:path w="3264" h="1680">
                <a:moveTo>
                  <a:pt x="0" y="1648"/>
                </a:moveTo>
                <a:cubicBezTo>
                  <a:pt x="60" y="1664"/>
                  <a:pt x="120" y="1680"/>
                  <a:pt x="192" y="1648"/>
                </a:cubicBezTo>
                <a:cubicBezTo>
                  <a:pt x="264" y="1616"/>
                  <a:pt x="376" y="1592"/>
                  <a:pt x="432" y="1456"/>
                </a:cubicBezTo>
                <a:cubicBezTo>
                  <a:pt x="488" y="1320"/>
                  <a:pt x="464" y="968"/>
                  <a:pt x="528" y="832"/>
                </a:cubicBezTo>
                <a:cubicBezTo>
                  <a:pt x="592" y="696"/>
                  <a:pt x="704" y="720"/>
                  <a:pt x="816" y="640"/>
                </a:cubicBezTo>
                <a:cubicBezTo>
                  <a:pt x="928" y="560"/>
                  <a:pt x="1104" y="448"/>
                  <a:pt x="1200" y="352"/>
                </a:cubicBezTo>
                <a:cubicBezTo>
                  <a:pt x="1296" y="256"/>
                  <a:pt x="1328" y="104"/>
                  <a:pt x="1392" y="64"/>
                </a:cubicBezTo>
                <a:cubicBezTo>
                  <a:pt x="1456" y="24"/>
                  <a:pt x="1528" y="0"/>
                  <a:pt x="1584" y="112"/>
                </a:cubicBezTo>
                <a:cubicBezTo>
                  <a:pt x="1640" y="224"/>
                  <a:pt x="1680" y="568"/>
                  <a:pt x="1728" y="736"/>
                </a:cubicBezTo>
                <a:cubicBezTo>
                  <a:pt x="1776" y="904"/>
                  <a:pt x="1808" y="1088"/>
                  <a:pt x="1872" y="1120"/>
                </a:cubicBezTo>
                <a:cubicBezTo>
                  <a:pt x="1936" y="1152"/>
                  <a:pt x="2072" y="1008"/>
                  <a:pt x="2112" y="928"/>
                </a:cubicBezTo>
                <a:cubicBezTo>
                  <a:pt x="2152" y="848"/>
                  <a:pt x="2104" y="720"/>
                  <a:pt x="2112" y="640"/>
                </a:cubicBezTo>
                <a:cubicBezTo>
                  <a:pt x="2120" y="560"/>
                  <a:pt x="2120" y="488"/>
                  <a:pt x="2160" y="448"/>
                </a:cubicBezTo>
                <a:cubicBezTo>
                  <a:pt x="2200" y="408"/>
                  <a:pt x="2280" y="344"/>
                  <a:pt x="2352" y="400"/>
                </a:cubicBezTo>
                <a:cubicBezTo>
                  <a:pt x="2424" y="456"/>
                  <a:pt x="2536" y="664"/>
                  <a:pt x="2592" y="784"/>
                </a:cubicBezTo>
                <a:cubicBezTo>
                  <a:pt x="2648" y="904"/>
                  <a:pt x="2648" y="1000"/>
                  <a:pt x="2688" y="1120"/>
                </a:cubicBezTo>
                <a:cubicBezTo>
                  <a:pt x="2728" y="1240"/>
                  <a:pt x="2736" y="1432"/>
                  <a:pt x="2832" y="1504"/>
                </a:cubicBezTo>
                <a:cubicBezTo>
                  <a:pt x="2928" y="1576"/>
                  <a:pt x="3192" y="1544"/>
                  <a:pt x="3264" y="1552"/>
                </a:cubicBezTo>
              </a:path>
            </a:pathLst>
          </a:custGeom>
          <a:noFill/>
          <a:ln w="8892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nciones Administrativ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orresponden al conjunto de decisiones y acciones repetitivas que un área de la organización debe llevar a cabo para cumplir con sus objetivos de corto, mediano y largo plaz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gramació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ificación de invers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gramación y control de la cobranz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ísticas de las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Funciones Administrativ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grupan decisiones y/o accion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poyan las áreas fun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encargan de la coordinación vertic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ienen una definición más flexible 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(asociadas a unidades organizacionales, objetivos, acumulación de poder, etc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rabajan sobre datos operacionales 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(base de datos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, que se van agrega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ísticas de las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Funciones Administrativa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on repetitivas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(dependiendo del niv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sustentan en la visión histórica de la estructura organizacion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us objetivos tienen una naturaleza jerárquica 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(son susceptibles de descompon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dministración por objetivos, por ejemp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ceso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iveles de decisi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ón y Funciones administrativ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Procesos de negocios corporati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Elementos que confluy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0000"/>
                </a:solidFill>
                <a:latin typeface="Verdana"/>
              </a:rPr>
              <a:t>Sistem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0000"/>
                </a:solidFill>
                <a:latin typeface="Verdana"/>
              </a:rPr>
              <a:t>Factores Crít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sabilid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417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Verdana"/>
              </a:rPr>
              <a:t>Agenda ...</a:t>
            </a:r>
            <a:br>
              <a:rPr sz="3800"/>
            </a:b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racterizaci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ón de los Procesos de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 Negoc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417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Verdana"/>
              </a:rPr>
              <a:t>Agenda</a:t>
            </a:r>
            <a:br>
              <a:rPr sz="3800"/>
            </a:b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racterizaci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ón de los Procesos de Negoc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Proceso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iveles de decisi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ón y funciones administrativ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Procesos de negocios corporati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lementos que confluy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istem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actores Crít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sabilid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ementos que Confluy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istem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istema bien defini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ctores críticos de éxito/riesg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erson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stemas y Organ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as organizaciones son sistemas (poseen un objetivo, fin o razón de existi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isten funciones b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icas, tales com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structuració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Comunicació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Dirección Supervisió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Verdana"/>
              </a:rPr>
              <a:t>Sistema Bien Definido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640" y="1676160"/>
            <a:ext cx="8196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n sistema es bien definido si se tiene claro cuales so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us objetivos y sus indicadores de medición del desempeñ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u medio ambiente (alcance-que esta y que no está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os recursos con que cuen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s restricciones bajo las cuales debe operar (medio ambientales, legales, de política y normas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Verdana"/>
              </a:rPr>
              <a:t>Sistema Bien Definido</a:t>
            </a:r>
            <a:r>
              <a:rPr b="0" lang="es-ES_tradnl" sz="31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100"/>
            </a:br>
            <a:r>
              <a:rPr b="0" lang="es-ES_tradnl" sz="3100" spc="-1" strike="noStrike">
                <a:solidFill>
                  <a:srgbClr val="000000"/>
                </a:solidFill>
                <a:latin typeface="Verdana"/>
              </a:rPr>
              <a:t>Indicadores de Medición del Desempeñ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640" y="1676160"/>
            <a:ext cx="8196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iden el logro de los objetiv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Permiten ver si se alcanzaron las met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definen como un porcentaje, tasa o raz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s mejor que sean adimensionales, pues permiten compara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jemplos para el sistema país: Crecimiento del PIB, Aumento del IPC, Tasa de desemple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os o tres de ellos son factores críticos de éxito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 (son los que mejor explican si vamos bien o mal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ueden ser distintos en el tiem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Algunas distin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8229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actores Críticos de</a:t>
            </a: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Éxito / Riesg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61976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ísticas de los Procesos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Objetivo general del (re) diseño de un proceso de negoci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cer que las actividades del proceso se realicen con calidad. </a:t>
            </a:r>
            <a:r>
              <a:rPr b="0" i="1" lang="es-ES_tradnl" sz="2100" spc="-1" strike="noStrike">
                <a:solidFill>
                  <a:srgbClr val="000000"/>
                </a:solidFill>
                <a:latin typeface="Verdana"/>
              </a:rPr>
              <a:t>Si las tareas del proceso se realizan con calidad, hay una alta probabilidad de que el producto resultante sea de cal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cer que el proceso de negocios sea predecible y administrable. </a:t>
            </a:r>
            <a:r>
              <a:rPr b="0" i="1" lang="es-ES_tradnl" sz="2100" spc="-1" strike="noStrike">
                <a:solidFill>
                  <a:srgbClr val="000000"/>
                </a:solidFill>
                <a:latin typeface="Verdana"/>
              </a:rPr>
              <a:t>Deseamos que los resultados de la calidad (especificaciones, oportunidad y costo no estén muy lejos de lo prometid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ahoma"/>
              </a:rPr>
              <a:t>Elementos de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5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ambios de </a:t>
            </a: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diferente profundidad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 en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 Unicode MS"/>
              </a:rPr>
              <a:t>Modelo de Negocio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 Unicode MS"/>
              </a:rPr>
              <a:t>Producto</a:t>
            </a:r>
            <a:r>
              <a:rPr b="1" lang="es-ES_tradnl" sz="2000" spc="-1" strike="noStrike">
                <a:solidFill>
                  <a:srgbClr val="ff0000"/>
                </a:solidFill>
                <a:latin typeface="Arial Unicode MS"/>
              </a:rPr>
              <a:t> / Condiciones de satisfacció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 Unicode MS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Unicode MS"/>
              </a:rPr>
              <a:t>Actividades y Flujos del proces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Unicode MS"/>
              </a:rPr>
              <a:t>Funciones relacionad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75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Arial Unicode MS"/>
              </a:rPr>
              <a:t>G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75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Arial Unicode MS"/>
              </a:rPr>
              <a:t>Tecnologí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75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Arial Unicode MS"/>
              </a:rPr>
              <a:t>Organiz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75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Unicode MS"/>
              </a:rPr>
              <a:t>Program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75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Unicode MS"/>
              </a:rPr>
              <a:t>Control de Gest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75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Unicode MS"/>
              </a:rPr>
              <a:t>Auditorí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75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Unicode MS"/>
              </a:rPr>
              <a:t>Infraestructu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5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Todo ello se ve reflejado en las nuevas </a:t>
            </a: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Prácticas de Trabaj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92504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en el cambio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organizacio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48640" cy="433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Racionaliz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541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70 -&gt; 84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10200" indent="-19044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oincide con la aparición de los Sistemas de Información Administra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10200" indent="-19044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Antes sólo hubo desarrollo de aplicaciones de procesamiento de da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Rediseño organizacion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541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84 -&gt; 9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10200" indent="-19044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oincide con la necesidad de incorporar mayor cambio en la estructura asociada al recurso human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Reingenierí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541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90 -&gt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10200" indent="-19044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ambio profun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541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986520" cy="41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 cambio organizacio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Siempre será necesari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77200" indent="-2772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Cada vez es más exigente y dinámic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77200" indent="-2772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Lo hacen las personas y son ellas las que tienen que cambia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77200" indent="-2772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l cambio organizacional lo induce, en gran medida, el cambio tecnológico. La organización puede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64920" indent="-20772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uede alcanzar mejor sus objetivos a través de la introducción de  nueva tecnología en sistemas de producción y administra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64920" indent="-20772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Debe readecuar sus sistemas de producción y administrativos por los cambios que produce y/o aconseja la nueva tecnologí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1160" y="1824120"/>
            <a:ext cx="7778520" cy="40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el conjunto de compromisos, acciones y decisiones necesarias para satisfacer el requerimiento de un cliente (externo o interno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un conjunto de actividades medibles y estructuradas para producir un resultado deseado específico para el usuario que lo demanda (cliente, mercado, otro proces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Cuando hacer el cambio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ando estoy m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No me queda otra alterna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No pierdo na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ero no tengo las fuerz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ando estoy bi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bo aprovechar que el mercado me privilegia para ser más eficiente y efec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engo todo para hacerlo mej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1600200"/>
            <a:ext cx="264780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Un proyecto tecnológico 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un proyecto de cambio 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un proyecto de cambio 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cluye un proyecto tecno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590560" y="1219320"/>
            <a:ext cx="6414480" cy="4973400"/>
            <a:chOff x="2590560" y="1219320"/>
            <a:chExt cx="6414480" cy="4973400"/>
          </a:xfrm>
        </p:grpSpPr>
        <p:grpSp>
          <p:nvGrpSpPr>
            <p:cNvPr id="312" name=""/>
            <p:cNvGrpSpPr/>
            <p:nvPr/>
          </p:nvGrpSpPr>
          <p:grpSpPr>
            <a:xfrm>
              <a:off x="4695480" y="3103560"/>
              <a:ext cx="2122200" cy="1297080"/>
              <a:chOff x="4695480" y="3103560"/>
              <a:chExt cx="2122200" cy="129708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5100120" y="3103560"/>
                <a:ext cx="1328400" cy="1297080"/>
                <a:chOff x="5100120" y="3103560"/>
                <a:chExt cx="1328400" cy="12970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100120" y="3103560"/>
                  <a:ext cx="1328400" cy="129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2c004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15" name=""/>
                <p:cNvGraphicFramePr/>
                <p:nvPr/>
              </p:nvGraphicFramePr>
              <p:xfrm>
                <a:off x="5321880" y="3746520"/>
                <a:ext cx="896760" cy="55224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316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5321880" y="3746520"/>
                          <a:ext cx="896760" cy="552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317" name=""/>
              <p:cNvSpPr/>
              <p:nvPr/>
            </p:nvSpPr>
            <p:spPr>
              <a:xfrm>
                <a:off x="4695480" y="3249720"/>
                <a:ext cx="2122200" cy="72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1" lang="es-ES_tradnl" sz="1400" spc="-1" strike="noStrike">
                    <a:solidFill>
                      <a:srgbClr val="fafd00"/>
                    </a:solidFill>
                    <a:latin typeface="Arial"/>
                  </a:rPr>
                  <a:t>Proyec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1" lang="es-ES_tradnl" sz="1400" spc="-1" strike="noStrike">
                    <a:solidFill>
                      <a:srgbClr val="fafd00"/>
                    </a:solidFill>
                    <a:latin typeface="Arial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4919400" y="5065560"/>
              <a:ext cx="1425240" cy="1127160"/>
            </a:xfrm>
            <a:custGeom>
              <a:avLst/>
              <a:gdLst/>
              <a:ahLst/>
              <a:rect l="l" t="t" r="r" b="b"/>
              <a:pathLst>
                <a:path w="898" h="710">
                  <a:moveTo>
                    <a:pt x="0" y="0"/>
                  </a:moveTo>
                  <a:lnTo>
                    <a:pt x="897" y="0"/>
                  </a:lnTo>
                  <a:lnTo>
                    <a:pt x="897" y="709"/>
                  </a:lnTo>
                  <a:lnTo>
                    <a:pt x="0" y="709"/>
                  </a:lnTo>
                  <a:lnTo>
                    <a:pt x="0" y="0"/>
                  </a:lnTo>
                </a:path>
              </a:pathLst>
            </a:custGeom>
            <a:solidFill>
              <a:srgbClr val="b50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19400" y="4859280"/>
              <a:ext cx="1825200" cy="187200"/>
            </a:xfrm>
            <a:custGeom>
              <a:avLst/>
              <a:gdLst/>
              <a:ahLst/>
              <a:rect l="l" t="t" r="r" b="b"/>
              <a:pathLst>
                <a:path w="1150" h="118">
                  <a:moveTo>
                    <a:pt x="0" y="117"/>
                  </a:moveTo>
                  <a:lnTo>
                    <a:pt x="900" y="117"/>
                  </a:lnTo>
                  <a:lnTo>
                    <a:pt x="1149" y="0"/>
                  </a:lnTo>
                  <a:lnTo>
                    <a:pt x="245" y="0"/>
                  </a:lnTo>
                  <a:lnTo>
                    <a:pt x="0" y="117"/>
                  </a:lnTo>
                </a:path>
              </a:pathLst>
            </a:custGeom>
            <a:solidFill>
              <a:srgbClr val="c06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75240" y="4859280"/>
              <a:ext cx="369360" cy="1333440"/>
            </a:xfrm>
            <a:custGeom>
              <a:avLst/>
              <a:gdLst/>
              <a:ahLst/>
              <a:rect l="l" t="t" r="r" b="b"/>
              <a:pathLst>
                <a:path w="233" h="840">
                  <a:moveTo>
                    <a:pt x="232" y="0"/>
                  </a:moveTo>
                  <a:lnTo>
                    <a:pt x="0" y="129"/>
                  </a:lnTo>
                  <a:lnTo>
                    <a:pt x="0" y="839"/>
                  </a:lnTo>
                  <a:lnTo>
                    <a:pt x="232" y="644"/>
                  </a:lnTo>
                  <a:lnTo>
                    <a:pt x="232" y="0"/>
                  </a:lnTo>
                </a:path>
              </a:pathLst>
            </a:custGeom>
            <a:solidFill>
              <a:srgbClr val="8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95240" y="4257720"/>
              <a:ext cx="1407960" cy="1157040"/>
            </a:xfrm>
            <a:custGeom>
              <a:avLst/>
              <a:gdLst/>
              <a:ahLst/>
              <a:rect l="l" t="t" r="r" b="b"/>
              <a:pathLst>
                <a:path w="887" h="729">
                  <a:moveTo>
                    <a:pt x="848" y="721"/>
                  </a:moveTo>
                  <a:lnTo>
                    <a:pt x="804" y="713"/>
                  </a:lnTo>
                  <a:lnTo>
                    <a:pt x="758" y="704"/>
                  </a:lnTo>
                  <a:lnTo>
                    <a:pt x="714" y="692"/>
                  </a:lnTo>
                  <a:lnTo>
                    <a:pt x="674" y="683"/>
                  </a:lnTo>
                  <a:lnTo>
                    <a:pt x="640" y="673"/>
                  </a:lnTo>
                  <a:lnTo>
                    <a:pt x="601" y="661"/>
                  </a:lnTo>
                  <a:lnTo>
                    <a:pt x="563" y="647"/>
                  </a:lnTo>
                  <a:lnTo>
                    <a:pt x="519" y="628"/>
                  </a:lnTo>
                  <a:lnTo>
                    <a:pt x="475" y="610"/>
                  </a:lnTo>
                  <a:lnTo>
                    <a:pt x="437" y="589"/>
                  </a:lnTo>
                  <a:lnTo>
                    <a:pt x="395" y="565"/>
                  </a:lnTo>
                  <a:lnTo>
                    <a:pt x="353" y="541"/>
                  </a:lnTo>
                  <a:lnTo>
                    <a:pt x="317" y="517"/>
                  </a:lnTo>
                  <a:lnTo>
                    <a:pt x="281" y="490"/>
                  </a:lnTo>
                  <a:lnTo>
                    <a:pt x="239" y="454"/>
                  </a:lnTo>
                  <a:lnTo>
                    <a:pt x="197" y="420"/>
                  </a:lnTo>
                  <a:lnTo>
                    <a:pt x="164" y="386"/>
                  </a:lnTo>
                  <a:lnTo>
                    <a:pt x="130" y="350"/>
                  </a:lnTo>
                  <a:lnTo>
                    <a:pt x="88" y="300"/>
                  </a:lnTo>
                  <a:lnTo>
                    <a:pt x="55" y="245"/>
                  </a:lnTo>
                  <a:lnTo>
                    <a:pt x="31" y="203"/>
                  </a:lnTo>
                  <a:lnTo>
                    <a:pt x="11" y="164"/>
                  </a:lnTo>
                  <a:lnTo>
                    <a:pt x="0" y="132"/>
                  </a:lnTo>
                  <a:lnTo>
                    <a:pt x="170" y="0"/>
                  </a:lnTo>
                  <a:lnTo>
                    <a:pt x="200" y="75"/>
                  </a:lnTo>
                  <a:lnTo>
                    <a:pt x="227" y="121"/>
                  </a:lnTo>
                  <a:lnTo>
                    <a:pt x="256" y="167"/>
                  </a:lnTo>
                  <a:lnTo>
                    <a:pt x="294" y="217"/>
                  </a:lnTo>
                  <a:lnTo>
                    <a:pt x="334" y="260"/>
                  </a:lnTo>
                  <a:lnTo>
                    <a:pt x="369" y="291"/>
                  </a:lnTo>
                  <a:lnTo>
                    <a:pt x="412" y="327"/>
                  </a:lnTo>
                  <a:lnTo>
                    <a:pt x="460" y="368"/>
                  </a:lnTo>
                  <a:lnTo>
                    <a:pt x="502" y="396"/>
                  </a:lnTo>
                  <a:lnTo>
                    <a:pt x="563" y="435"/>
                  </a:lnTo>
                  <a:lnTo>
                    <a:pt x="626" y="469"/>
                  </a:lnTo>
                  <a:lnTo>
                    <a:pt x="689" y="498"/>
                  </a:lnTo>
                  <a:lnTo>
                    <a:pt x="754" y="523"/>
                  </a:lnTo>
                  <a:lnTo>
                    <a:pt x="815" y="546"/>
                  </a:lnTo>
                  <a:lnTo>
                    <a:pt x="886" y="564"/>
                  </a:lnTo>
                  <a:lnTo>
                    <a:pt x="886" y="728"/>
                  </a:lnTo>
                  <a:lnTo>
                    <a:pt x="848" y="721"/>
                  </a:lnTo>
                </a:path>
              </a:pathLst>
            </a:custGeom>
            <a:solidFill>
              <a:srgbClr val="c06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30200" y="4338720"/>
              <a:ext cx="1773000" cy="1417680"/>
            </a:xfrm>
            <a:custGeom>
              <a:avLst/>
              <a:gdLst/>
              <a:ahLst/>
              <a:rect l="l" t="t" r="r" b="b"/>
              <a:pathLst>
                <a:path w="1117" h="893">
                  <a:moveTo>
                    <a:pt x="957" y="880"/>
                  </a:moveTo>
                  <a:lnTo>
                    <a:pt x="917" y="874"/>
                  </a:lnTo>
                  <a:lnTo>
                    <a:pt x="869" y="863"/>
                  </a:lnTo>
                  <a:lnTo>
                    <a:pt x="829" y="853"/>
                  </a:lnTo>
                  <a:lnTo>
                    <a:pt x="789" y="844"/>
                  </a:lnTo>
                  <a:lnTo>
                    <a:pt x="750" y="833"/>
                  </a:lnTo>
                  <a:lnTo>
                    <a:pt x="714" y="821"/>
                  </a:lnTo>
                  <a:lnTo>
                    <a:pt x="676" y="808"/>
                  </a:lnTo>
                  <a:lnTo>
                    <a:pt x="632" y="788"/>
                  </a:lnTo>
                  <a:lnTo>
                    <a:pt x="590" y="769"/>
                  </a:lnTo>
                  <a:lnTo>
                    <a:pt x="549" y="749"/>
                  </a:lnTo>
                  <a:lnTo>
                    <a:pt x="505" y="725"/>
                  </a:lnTo>
                  <a:lnTo>
                    <a:pt x="465" y="700"/>
                  </a:lnTo>
                  <a:lnTo>
                    <a:pt x="429" y="674"/>
                  </a:lnTo>
                  <a:lnTo>
                    <a:pt x="392" y="649"/>
                  </a:lnTo>
                  <a:lnTo>
                    <a:pt x="348" y="614"/>
                  </a:lnTo>
                  <a:lnTo>
                    <a:pt x="306" y="578"/>
                  </a:lnTo>
                  <a:lnTo>
                    <a:pt x="276" y="544"/>
                  </a:lnTo>
                  <a:lnTo>
                    <a:pt x="241" y="508"/>
                  </a:lnTo>
                  <a:lnTo>
                    <a:pt x="199" y="457"/>
                  </a:lnTo>
                  <a:lnTo>
                    <a:pt x="176" y="420"/>
                  </a:lnTo>
                  <a:lnTo>
                    <a:pt x="155" y="386"/>
                  </a:lnTo>
                  <a:lnTo>
                    <a:pt x="140" y="359"/>
                  </a:lnTo>
                  <a:lnTo>
                    <a:pt x="124" y="320"/>
                  </a:lnTo>
                  <a:lnTo>
                    <a:pt x="113" y="288"/>
                  </a:lnTo>
                  <a:lnTo>
                    <a:pt x="0" y="288"/>
                  </a:lnTo>
                  <a:lnTo>
                    <a:pt x="243" y="0"/>
                  </a:lnTo>
                  <a:lnTo>
                    <a:pt x="530" y="285"/>
                  </a:lnTo>
                  <a:lnTo>
                    <a:pt x="412" y="285"/>
                  </a:lnTo>
                  <a:lnTo>
                    <a:pt x="425" y="327"/>
                  </a:lnTo>
                  <a:lnTo>
                    <a:pt x="444" y="359"/>
                  </a:lnTo>
                  <a:lnTo>
                    <a:pt x="467" y="383"/>
                  </a:lnTo>
                  <a:lnTo>
                    <a:pt x="488" y="404"/>
                  </a:lnTo>
                  <a:lnTo>
                    <a:pt x="519" y="432"/>
                  </a:lnTo>
                  <a:lnTo>
                    <a:pt x="549" y="461"/>
                  </a:lnTo>
                  <a:lnTo>
                    <a:pt x="578" y="482"/>
                  </a:lnTo>
                  <a:lnTo>
                    <a:pt x="613" y="508"/>
                  </a:lnTo>
                  <a:lnTo>
                    <a:pt x="651" y="532"/>
                  </a:lnTo>
                  <a:lnTo>
                    <a:pt x="695" y="556"/>
                  </a:lnTo>
                  <a:lnTo>
                    <a:pt x="739" y="575"/>
                  </a:lnTo>
                  <a:lnTo>
                    <a:pt x="789" y="592"/>
                  </a:lnTo>
                  <a:lnTo>
                    <a:pt x="837" y="607"/>
                  </a:lnTo>
                  <a:lnTo>
                    <a:pt x="892" y="626"/>
                  </a:lnTo>
                  <a:lnTo>
                    <a:pt x="930" y="635"/>
                  </a:lnTo>
                  <a:lnTo>
                    <a:pt x="959" y="643"/>
                  </a:lnTo>
                  <a:lnTo>
                    <a:pt x="995" y="649"/>
                  </a:lnTo>
                  <a:lnTo>
                    <a:pt x="1034" y="656"/>
                  </a:lnTo>
                  <a:lnTo>
                    <a:pt x="1072" y="661"/>
                  </a:lnTo>
                  <a:lnTo>
                    <a:pt x="1116" y="668"/>
                  </a:lnTo>
                  <a:lnTo>
                    <a:pt x="1116" y="892"/>
                  </a:lnTo>
                  <a:lnTo>
                    <a:pt x="1070" y="892"/>
                  </a:lnTo>
                  <a:lnTo>
                    <a:pt x="1030" y="890"/>
                  </a:lnTo>
                  <a:lnTo>
                    <a:pt x="997" y="886"/>
                  </a:lnTo>
                  <a:lnTo>
                    <a:pt x="957" y="880"/>
                  </a:lnTo>
                </a:path>
              </a:pathLst>
            </a:custGeom>
            <a:solidFill>
              <a:srgbClr val="b50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20800" y="4145040"/>
              <a:ext cx="694800" cy="620640"/>
            </a:xfrm>
            <a:custGeom>
              <a:avLst/>
              <a:gdLst/>
              <a:ahLst/>
              <a:rect l="l" t="t" r="r" b="b"/>
              <a:pathLst>
                <a:path w="438" h="391">
                  <a:moveTo>
                    <a:pt x="437" y="265"/>
                  </a:moveTo>
                  <a:lnTo>
                    <a:pt x="152" y="0"/>
                  </a:lnTo>
                  <a:lnTo>
                    <a:pt x="0" y="119"/>
                  </a:lnTo>
                  <a:lnTo>
                    <a:pt x="278" y="390"/>
                  </a:lnTo>
                  <a:lnTo>
                    <a:pt x="437" y="265"/>
                  </a:lnTo>
                </a:path>
              </a:pathLst>
            </a:custGeom>
            <a:solidFill>
              <a:srgbClr val="8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487920" y="2989080"/>
              <a:ext cx="2517120" cy="2914920"/>
              <a:chOff x="6487920" y="2989080"/>
              <a:chExt cx="2517120" cy="29149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7171560" y="2989080"/>
                <a:ext cx="1833480" cy="1327320"/>
                <a:chOff x="7171560" y="2989080"/>
                <a:chExt cx="1833480" cy="13273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7171560" y="3195720"/>
                  <a:ext cx="1431720" cy="1120680"/>
                </a:xfrm>
                <a:custGeom>
                  <a:avLst/>
                  <a:gdLst/>
                  <a:ahLst/>
                  <a:rect l="l" t="t" r="r" b="b"/>
                  <a:pathLst>
                    <a:path w="902" h="706">
                      <a:moveTo>
                        <a:pt x="0" y="0"/>
                      </a:moveTo>
                      <a:lnTo>
                        <a:pt x="901" y="0"/>
                      </a:lnTo>
                      <a:lnTo>
                        <a:pt x="901" y="705"/>
                      </a:lnTo>
                      <a:lnTo>
                        <a:pt x="0" y="7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171560" y="2989080"/>
                  <a:ext cx="1833480" cy="187560"/>
                </a:xfrm>
                <a:custGeom>
                  <a:avLst/>
                  <a:gdLst/>
                  <a:ahLst/>
                  <a:rect l="l" t="t" r="r" b="b"/>
                  <a:pathLst>
                    <a:path w="1155" h="118">
                      <a:moveTo>
                        <a:pt x="0" y="117"/>
                      </a:moveTo>
                      <a:lnTo>
                        <a:pt x="905" y="117"/>
                      </a:lnTo>
                      <a:lnTo>
                        <a:pt x="1154" y="0"/>
                      </a:lnTo>
                      <a:lnTo>
                        <a:pt x="247" y="0"/>
                      </a:lnTo>
                      <a:lnTo>
                        <a:pt x="0" y="117"/>
                      </a:lnTo>
                    </a:path>
                  </a:pathLst>
                </a:custGeom>
                <a:solidFill>
                  <a:srgbClr val="ffa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633520" y="2989080"/>
                  <a:ext cx="371160" cy="1327320"/>
                </a:xfrm>
                <a:custGeom>
                  <a:avLst/>
                  <a:gdLst/>
                  <a:ahLst/>
                  <a:rect l="l" t="t" r="r" b="b"/>
                  <a:pathLst>
                    <a:path w="234" h="836">
                      <a:moveTo>
                        <a:pt x="233" y="0"/>
                      </a:moveTo>
                      <a:lnTo>
                        <a:pt x="0" y="129"/>
                      </a:lnTo>
                      <a:lnTo>
                        <a:pt x="0" y="835"/>
                      </a:lnTo>
                      <a:lnTo>
                        <a:pt x="233" y="642"/>
                      </a:lnTo>
                      <a:lnTo>
                        <a:pt x="233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487920" y="4324320"/>
                <a:ext cx="1967760" cy="1579680"/>
                <a:chOff x="6487920" y="4324320"/>
                <a:chExt cx="1967760" cy="15796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888960" y="4991040"/>
                  <a:ext cx="1158840" cy="501840"/>
                </a:xfrm>
                <a:custGeom>
                  <a:avLst/>
                  <a:gdLst/>
                  <a:ahLst/>
                  <a:rect l="l" t="t" r="r" b="b"/>
                  <a:pathLst>
                    <a:path w="730" h="316">
                      <a:moveTo>
                        <a:pt x="729" y="0"/>
                      </a:moveTo>
                      <a:lnTo>
                        <a:pt x="695" y="37"/>
                      </a:lnTo>
                      <a:lnTo>
                        <a:pt x="657" y="73"/>
                      </a:lnTo>
                      <a:lnTo>
                        <a:pt x="622" y="100"/>
                      </a:lnTo>
                      <a:lnTo>
                        <a:pt x="577" y="132"/>
                      </a:lnTo>
                      <a:lnTo>
                        <a:pt x="533" y="166"/>
                      </a:lnTo>
                      <a:lnTo>
                        <a:pt x="491" y="190"/>
                      </a:lnTo>
                      <a:lnTo>
                        <a:pt x="443" y="217"/>
                      </a:lnTo>
                      <a:lnTo>
                        <a:pt x="381" y="246"/>
                      </a:lnTo>
                      <a:lnTo>
                        <a:pt x="312" y="273"/>
                      </a:lnTo>
                      <a:lnTo>
                        <a:pt x="259" y="292"/>
                      </a:lnTo>
                      <a:lnTo>
                        <a:pt x="207" y="306"/>
                      </a:lnTo>
                      <a:lnTo>
                        <a:pt x="167" y="315"/>
                      </a:lnTo>
                      <a:lnTo>
                        <a:pt x="0" y="186"/>
                      </a:lnTo>
                      <a:lnTo>
                        <a:pt x="97" y="163"/>
                      </a:lnTo>
                      <a:lnTo>
                        <a:pt x="154" y="141"/>
                      </a:lnTo>
                      <a:lnTo>
                        <a:pt x="213" y="119"/>
                      </a:lnTo>
                      <a:lnTo>
                        <a:pt x="276" y="88"/>
                      </a:lnTo>
                      <a:lnTo>
                        <a:pt x="329" y="60"/>
                      </a:lnTo>
                      <a:lnTo>
                        <a:pt x="371" y="34"/>
                      </a:lnTo>
                      <a:lnTo>
                        <a:pt x="417" y="0"/>
                      </a:lnTo>
                      <a:lnTo>
                        <a:pt x="729" y="0"/>
                      </a:lnTo>
                    </a:path>
                  </a:pathLst>
                </a:custGeom>
                <a:solidFill>
                  <a:srgbClr val="ffa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020720" y="5487840"/>
                  <a:ext cx="222120" cy="412920"/>
                </a:xfrm>
                <a:custGeom>
                  <a:avLst/>
                  <a:gdLst/>
                  <a:ahLst/>
                  <a:rect l="l" t="t" r="r" b="b"/>
                  <a:pathLst>
                    <a:path w="140" h="260">
                      <a:moveTo>
                        <a:pt x="0" y="136"/>
                      </a:moveTo>
                      <a:lnTo>
                        <a:pt x="0" y="259"/>
                      </a:lnTo>
                      <a:lnTo>
                        <a:pt x="139" y="123"/>
                      </a:lnTo>
                      <a:lnTo>
                        <a:pt x="139" y="0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020720" y="4962600"/>
                  <a:ext cx="222120" cy="414360"/>
                </a:xfrm>
                <a:custGeom>
                  <a:avLst/>
                  <a:gdLst/>
                  <a:ahLst/>
                  <a:rect l="l" t="t" r="r" b="b"/>
                  <a:pathLst>
                    <a:path w="140" h="261">
                      <a:moveTo>
                        <a:pt x="0" y="135"/>
                      </a:moveTo>
                      <a:lnTo>
                        <a:pt x="0" y="260"/>
                      </a:lnTo>
                      <a:lnTo>
                        <a:pt x="139" y="125"/>
                      </a:lnTo>
                      <a:lnTo>
                        <a:pt x="139" y="0"/>
                      </a:lnTo>
                      <a:lnTo>
                        <a:pt x="0" y="135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019280" y="4324320"/>
                  <a:ext cx="1436400" cy="1268280"/>
                </a:xfrm>
                <a:custGeom>
                  <a:avLst/>
                  <a:gdLst/>
                  <a:ahLst/>
                  <a:rect l="l" t="t" r="r" b="b"/>
                  <a:pathLst>
                    <a:path w="905" h="799">
                      <a:moveTo>
                        <a:pt x="894" y="195"/>
                      </a:moveTo>
                      <a:lnTo>
                        <a:pt x="881" y="235"/>
                      </a:lnTo>
                      <a:lnTo>
                        <a:pt x="870" y="266"/>
                      </a:lnTo>
                      <a:lnTo>
                        <a:pt x="856" y="296"/>
                      </a:lnTo>
                      <a:lnTo>
                        <a:pt x="841" y="326"/>
                      </a:lnTo>
                      <a:lnTo>
                        <a:pt x="824" y="355"/>
                      </a:lnTo>
                      <a:lnTo>
                        <a:pt x="799" y="391"/>
                      </a:lnTo>
                      <a:lnTo>
                        <a:pt x="775" y="422"/>
                      </a:lnTo>
                      <a:lnTo>
                        <a:pt x="750" y="454"/>
                      </a:lnTo>
                      <a:lnTo>
                        <a:pt x="719" y="488"/>
                      </a:lnTo>
                      <a:lnTo>
                        <a:pt x="687" y="520"/>
                      </a:lnTo>
                      <a:lnTo>
                        <a:pt x="657" y="548"/>
                      </a:lnTo>
                      <a:lnTo>
                        <a:pt x="622" y="576"/>
                      </a:lnTo>
                      <a:lnTo>
                        <a:pt x="579" y="609"/>
                      </a:lnTo>
                      <a:lnTo>
                        <a:pt x="533" y="642"/>
                      </a:lnTo>
                      <a:lnTo>
                        <a:pt x="489" y="668"/>
                      </a:lnTo>
                      <a:lnTo>
                        <a:pt x="443" y="695"/>
                      </a:lnTo>
                      <a:lnTo>
                        <a:pt x="379" y="728"/>
                      </a:lnTo>
                      <a:lnTo>
                        <a:pt x="310" y="753"/>
                      </a:lnTo>
                      <a:lnTo>
                        <a:pt x="257" y="774"/>
                      </a:lnTo>
                      <a:lnTo>
                        <a:pt x="209" y="788"/>
                      </a:lnTo>
                      <a:lnTo>
                        <a:pt x="167" y="798"/>
                      </a:lnTo>
                      <a:lnTo>
                        <a:pt x="0" y="665"/>
                      </a:lnTo>
                      <a:lnTo>
                        <a:pt x="95" y="639"/>
                      </a:lnTo>
                      <a:lnTo>
                        <a:pt x="154" y="617"/>
                      </a:lnTo>
                      <a:lnTo>
                        <a:pt x="213" y="597"/>
                      </a:lnTo>
                      <a:lnTo>
                        <a:pt x="274" y="566"/>
                      </a:lnTo>
                      <a:lnTo>
                        <a:pt x="327" y="534"/>
                      </a:lnTo>
                      <a:lnTo>
                        <a:pt x="369" y="508"/>
                      </a:lnTo>
                      <a:lnTo>
                        <a:pt x="415" y="475"/>
                      </a:lnTo>
                      <a:lnTo>
                        <a:pt x="466" y="436"/>
                      </a:lnTo>
                      <a:lnTo>
                        <a:pt x="501" y="401"/>
                      </a:lnTo>
                      <a:lnTo>
                        <a:pt x="552" y="355"/>
                      </a:lnTo>
                      <a:lnTo>
                        <a:pt x="598" y="305"/>
                      </a:lnTo>
                      <a:lnTo>
                        <a:pt x="634" y="256"/>
                      </a:lnTo>
                      <a:lnTo>
                        <a:pt x="647" y="199"/>
                      </a:lnTo>
                      <a:lnTo>
                        <a:pt x="649" y="124"/>
                      </a:lnTo>
                      <a:lnTo>
                        <a:pt x="639" y="70"/>
                      </a:lnTo>
                      <a:lnTo>
                        <a:pt x="626" y="1"/>
                      </a:lnTo>
                      <a:lnTo>
                        <a:pt x="894" y="0"/>
                      </a:lnTo>
                      <a:lnTo>
                        <a:pt x="896" y="37"/>
                      </a:lnTo>
                      <a:lnTo>
                        <a:pt x="904" y="75"/>
                      </a:lnTo>
                      <a:lnTo>
                        <a:pt x="904" y="109"/>
                      </a:lnTo>
                      <a:lnTo>
                        <a:pt x="902" y="144"/>
                      </a:lnTo>
                      <a:lnTo>
                        <a:pt x="898" y="168"/>
                      </a:lnTo>
                      <a:lnTo>
                        <a:pt x="894" y="195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487920" y="4324320"/>
                  <a:ext cx="1744200" cy="1579680"/>
                </a:xfrm>
                <a:custGeom>
                  <a:avLst/>
                  <a:gdLst/>
                  <a:ahLst/>
                  <a:rect l="l" t="t" r="r" b="b"/>
                  <a:pathLst>
                    <a:path w="1099" h="995">
                      <a:moveTo>
                        <a:pt x="1088" y="200"/>
                      </a:moveTo>
                      <a:lnTo>
                        <a:pt x="1087" y="238"/>
                      </a:lnTo>
                      <a:lnTo>
                        <a:pt x="1075" y="280"/>
                      </a:lnTo>
                      <a:lnTo>
                        <a:pt x="1062" y="311"/>
                      </a:lnTo>
                      <a:lnTo>
                        <a:pt x="1048" y="344"/>
                      </a:lnTo>
                      <a:lnTo>
                        <a:pt x="1035" y="367"/>
                      </a:lnTo>
                      <a:lnTo>
                        <a:pt x="1014" y="397"/>
                      </a:lnTo>
                      <a:lnTo>
                        <a:pt x="995" y="429"/>
                      </a:lnTo>
                      <a:lnTo>
                        <a:pt x="972" y="462"/>
                      </a:lnTo>
                      <a:lnTo>
                        <a:pt x="945" y="493"/>
                      </a:lnTo>
                      <a:lnTo>
                        <a:pt x="918" y="525"/>
                      </a:lnTo>
                      <a:lnTo>
                        <a:pt x="888" y="559"/>
                      </a:lnTo>
                      <a:lnTo>
                        <a:pt x="855" y="591"/>
                      </a:lnTo>
                      <a:lnTo>
                        <a:pt x="824" y="620"/>
                      </a:lnTo>
                      <a:lnTo>
                        <a:pt x="792" y="648"/>
                      </a:lnTo>
                      <a:lnTo>
                        <a:pt x="746" y="683"/>
                      </a:lnTo>
                      <a:lnTo>
                        <a:pt x="700" y="716"/>
                      </a:lnTo>
                      <a:lnTo>
                        <a:pt x="658" y="741"/>
                      </a:lnTo>
                      <a:lnTo>
                        <a:pt x="610" y="767"/>
                      </a:lnTo>
                      <a:lnTo>
                        <a:pt x="549" y="800"/>
                      </a:lnTo>
                      <a:lnTo>
                        <a:pt x="503" y="818"/>
                      </a:lnTo>
                      <a:lnTo>
                        <a:pt x="457" y="835"/>
                      </a:lnTo>
                      <a:lnTo>
                        <a:pt x="421" y="847"/>
                      </a:lnTo>
                      <a:lnTo>
                        <a:pt x="373" y="860"/>
                      </a:lnTo>
                      <a:lnTo>
                        <a:pt x="331" y="868"/>
                      </a:lnTo>
                      <a:lnTo>
                        <a:pt x="331" y="994"/>
                      </a:lnTo>
                      <a:lnTo>
                        <a:pt x="0" y="799"/>
                      </a:lnTo>
                      <a:lnTo>
                        <a:pt x="329" y="540"/>
                      </a:lnTo>
                      <a:lnTo>
                        <a:pt x="329" y="633"/>
                      </a:lnTo>
                      <a:lnTo>
                        <a:pt x="381" y="623"/>
                      </a:lnTo>
                      <a:lnTo>
                        <a:pt x="421" y="608"/>
                      </a:lnTo>
                      <a:lnTo>
                        <a:pt x="451" y="589"/>
                      </a:lnTo>
                      <a:lnTo>
                        <a:pt x="482" y="574"/>
                      </a:lnTo>
                      <a:lnTo>
                        <a:pt x="518" y="549"/>
                      </a:lnTo>
                      <a:lnTo>
                        <a:pt x="555" y="525"/>
                      </a:lnTo>
                      <a:lnTo>
                        <a:pt x="580" y="502"/>
                      </a:lnTo>
                      <a:lnTo>
                        <a:pt x="610" y="475"/>
                      </a:lnTo>
                      <a:lnTo>
                        <a:pt x="643" y="445"/>
                      </a:lnTo>
                      <a:lnTo>
                        <a:pt x="675" y="409"/>
                      </a:lnTo>
                      <a:lnTo>
                        <a:pt x="700" y="376"/>
                      </a:lnTo>
                      <a:lnTo>
                        <a:pt x="719" y="338"/>
                      </a:lnTo>
                      <a:lnTo>
                        <a:pt x="740" y="299"/>
                      </a:lnTo>
                      <a:lnTo>
                        <a:pt x="761" y="254"/>
                      </a:lnTo>
                      <a:lnTo>
                        <a:pt x="775" y="226"/>
                      </a:lnTo>
                      <a:lnTo>
                        <a:pt x="780" y="198"/>
                      </a:lnTo>
                      <a:lnTo>
                        <a:pt x="796" y="156"/>
                      </a:lnTo>
                      <a:lnTo>
                        <a:pt x="800" y="108"/>
                      </a:lnTo>
                      <a:lnTo>
                        <a:pt x="800" y="66"/>
                      </a:lnTo>
                      <a:lnTo>
                        <a:pt x="792" y="0"/>
                      </a:lnTo>
                      <a:lnTo>
                        <a:pt x="1088" y="2"/>
                      </a:lnTo>
                      <a:lnTo>
                        <a:pt x="1092" y="59"/>
                      </a:lnTo>
                      <a:lnTo>
                        <a:pt x="1098" y="104"/>
                      </a:lnTo>
                      <a:lnTo>
                        <a:pt x="1096" y="146"/>
                      </a:lnTo>
                      <a:lnTo>
                        <a:pt x="1088" y="200"/>
                      </a:lnTo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606400" y="1504800"/>
              <a:ext cx="2653200" cy="2811600"/>
              <a:chOff x="2606400" y="1504800"/>
              <a:chExt cx="2653200" cy="281160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2606400" y="2989080"/>
                <a:ext cx="1827000" cy="1327320"/>
                <a:chOff x="2606400" y="2989080"/>
                <a:chExt cx="1827000" cy="13273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606400" y="3195720"/>
                  <a:ext cx="1431720" cy="1120680"/>
                </a:xfrm>
                <a:custGeom>
                  <a:avLst/>
                  <a:gdLst/>
                  <a:ahLst/>
                  <a:rect l="l" t="t" r="r" b="b"/>
                  <a:pathLst>
                    <a:path w="902" h="706">
                      <a:moveTo>
                        <a:pt x="0" y="0"/>
                      </a:moveTo>
                      <a:lnTo>
                        <a:pt x="901" y="0"/>
                      </a:lnTo>
                      <a:lnTo>
                        <a:pt x="901" y="705"/>
                      </a:lnTo>
                      <a:lnTo>
                        <a:pt x="0" y="7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606400" y="2989080"/>
                  <a:ext cx="1827000" cy="187560"/>
                </a:xfrm>
                <a:custGeom>
                  <a:avLst/>
                  <a:gdLst/>
                  <a:ahLst/>
                  <a:rect l="l" t="t" r="r" b="b"/>
                  <a:pathLst>
                    <a:path w="1151" h="118">
                      <a:moveTo>
                        <a:pt x="0" y="117"/>
                      </a:moveTo>
                      <a:lnTo>
                        <a:pt x="903" y="117"/>
                      </a:lnTo>
                      <a:lnTo>
                        <a:pt x="1150" y="0"/>
                      </a:lnTo>
                      <a:lnTo>
                        <a:pt x="247" y="0"/>
                      </a:lnTo>
                      <a:lnTo>
                        <a:pt x="0" y="117"/>
                      </a:lnTo>
                    </a:path>
                  </a:pathLst>
                </a:custGeom>
                <a:solidFill>
                  <a:srgbClr val="00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066560" y="2989080"/>
                  <a:ext cx="366480" cy="1327320"/>
                </a:xfrm>
                <a:custGeom>
                  <a:avLst/>
                  <a:gdLst/>
                  <a:ahLst/>
                  <a:rect l="l" t="t" r="r" b="b"/>
                  <a:pathLst>
                    <a:path w="231" h="836">
                      <a:moveTo>
                        <a:pt x="230" y="0"/>
                      </a:moveTo>
                      <a:lnTo>
                        <a:pt x="0" y="129"/>
                      </a:lnTo>
                      <a:lnTo>
                        <a:pt x="0" y="835"/>
                      </a:lnTo>
                      <a:lnTo>
                        <a:pt x="230" y="642"/>
                      </a:lnTo>
                      <a:lnTo>
                        <a:pt x="230" y="0"/>
                      </a:lnTo>
                    </a:path>
                  </a:pathLst>
                </a:custGeom>
                <a:solidFill>
                  <a:srgbClr val="0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3136320" y="1504800"/>
                <a:ext cx="2123280" cy="1670040"/>
                <a:chOff x="3136320" y="1504800"/>
                <a:chExt cx="2123280" cy="16700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3786840" y="1795320"/>
                  <a:ext cx="840960" cy="546120"/>
                </a:xfrm>
                <a:custGeom>
                  <a:avLst/>
                  <a:gdLst/>
                  <a:ahLst/>
                  <a:rect l="l" t="t" r="r" b="b"/>
                  <a:pathLst>
                    <a:path w="530" h="344">
                      <a:moveTo>
                        <a:pt x="0" y="229"/>
                      </a:moveTo>
                      <a:lnTo>
                        <a:pt x="30" y="201"/>
                      </a:lnTo>
                      <a:lnTo>
                        <a:pt x="64" y="173"/>
                      </a:lnTo>
                      <a:lnTo>
                        <a:pt x="110" y="141"/>
                      </a:lnTo>
                      <a:lnTo>
                        <a:pt x="153" y="107"/>
                      </a:lnTo>
                      <a:lnTo>
                        <a:pt x="196" y="84"/>
                      </a:lnTo>
                      <a:lnTo>
                        <a:pt x="242" y="57"/>
                      </a:lnTo>
                      <a:lnTo>
                        <a:pt x="302" y="25"/>
                      </a:lnTo>
                      <a:lnTo>
                        <a:pt x="372" y="0"/>
                      </a:lnTo>
                      <a:lnTo>
                        <a:pt x="529" y="132"/>
                      </a:lnTo>
                      <a:lnTo>
                        <a:pt x="470" y="154"/>
                      </a:lnTo>
                      <a:lnTo>
                        <a:pt x="406" y="183"/>
                      </a:lnTo>
                      <a:lnTo>
                        <a:pt x="353" y="214"/>
                      </a:lnTo>
                      <a:lnTo>
                        <a:pt x="314" y="240"/>
                      </a:lnTo>
                      <a:lnTo>
                        <a:pt x="266" y="273"/>
                      </a:lnTo>
                      <a:lnTo>
                        <a:pt x="219" y="311"/>
                      </a:lnTo>
                      <a:lnTo>
                        <a:pt x="183" y="343"/>
                      </a:lnTo>
                      <a:lnTo>
                        <a:pt x="0" y="229"/>
                      </a:lnTo>
                    </a:path>
                  </a:pathLst>
                </a:custGeom>
                <a:solidFill>
                  <a:srgbClr val="00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596400" y="2233440"/>
                  <a:ext cx="694800" cy="941400"/>
                </a:xfrm>
                <a:custGeom>
                  <a:avLst/>
                  <a:gdLst/>
                  <a:ahLst/>
                  <a:rect l="l" t="t" r="r" b="b"/>
                  <a:pathLst>
                    <a:path w="438" h="593">
                      <a:moveTo>
                        <a:pt x="7" y="274"/>
                      </a:moveTo>
                      <a:lnTo>
                        <a:pt x="19" y="237"/>
                      </a:lnTo>
                      <a:lnTo>
                        <a:pt x="28" y="201"/>
                      </a:lnTo>
                      <a:lnTo>
                        <a:pt x="41" y="167"/>
                      </a:lnTo>
                      <a:lnTo>
                        <a:pt x="50" y="139"/>
                      </a:lnTo>
                      <a:lnTo>
                        <a:pt x="65" y="109"/>
                      </a:lnTo>
                      <a:lnTo>
                        <a:pt x="78" y="79"/>
                      </a:lnTo>
                      <a:lnTo>
                        <a:pt x="95" y="49"/>
                      </a:lnTo>
                      <a:lnTo>
                        <a:pt x="114" y="15"/>
                      </a:lnTo>
                      <a:lnTo>
                        <a:pt x="437" y="0"/>
                      </a:lnTo>
                      <a:lnTo>
                        <a:pt x="409" y="30"/>
                      </a:lnTo>
                      <a:lnTo>
                        <a:pt x="381" y="66"/>
                      </a:lnTo>
                      <a:lnTo>
                        <a:pt x="359" y="97"/>
                      </a:lnTo>
                      <a:lnTo>
                        <a:pt x="340" y="137"/>
                      </a:lnTo>
                      <a:lnTo>
                        <a:pt x="321" y="171"/>
                      </a:lnTo>
                      <a:lnTo>
                        <a:pt x="303" y="213"/>
                      </a:lnTo>
                      <a:lnTo>
                        <a:pt x="288" y="249"/>
                      </a:lnTo>
                      <a:lnTo>
                        <a:pt x="280" y="279"/>
                      </a:lnTo>
                      <a:lnTo>
                        <a:pt x="273" y="318"/>
                      </a:lnTo>
                      <a:lnTo>
                        <a:pt x="263" y="362"/>
                      </a:lnTo>
                      <a:lnTo>
                        <a:pt x="260" y="407"/>
                      </a:lnTo>
                      <a:lnTo>
                        <a:pt x="265" y="441"/>
                      </a:lnTo>
                      <a:lnTo>
                        <a:pt x="276" y="473"/>
                      </a:lnTo>
                      <a:lnTo>
                        <a:pt x="17" y="592"/>
                      </a:lnTo>
                      <a:lnTo>
                        <a:pt x="2" y="415"/>
                      </a:lnTo>
                      <a:lnTo>
                        <a:pt x="0" y="370"/>
                      </a:lnTo>
                      <a:lnTo>
                        <a:pt x="0" y="328"/>
                      </a:lnTo>
                      <a:lnTo>
                        <a:pt x="7" y="274"/>
                      </a:lnTo>
                    </a:path>
                  </a:pathLst>
                </a:custGeom>
                <a:solidFill>
                  <a:srgbClr val="0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136320" y="1711440"/>
                  <a:ext cx="1761840" cy="1463400"/>
                </a:xfrm>
                <a:custGeom>
                  <a:avLst/>
                  <a:gdLst/>
                  <a:ahLst/>
                  <a:rect l="l" t="t" r="r" b="b"/>
                  <a:pathLst>
                    <a:path w="1110" h="922">
                      <a:moveTo>
                        <a:pt x="21" y="796"/>
                      </a:moveTo>
                      <a:lnTo>
                        <a:pt x="33" y="758"/>
                      </a:lnTo>
                      <a:lnTo>
                        <a:pt x="44" y="722"/>
                      </a:lnTo>
                      <a:lnTo>
                        <a:pt x="57" y="689"/>
                      </a:lnTo>
                      <a:lnTo>
                        <a:pt x="69" y="659"/>
                      </a:lnTo>
                      <a:lnTo>
                        <a:pt x="84" y="629"/>
                      </a:lnTo>
                      <a:lnTo>
                        <a:pt x="99" y="599"/>
                      </a:lnTo>
                      <a:lnTo>
                        <a:pt x="117" y="569"/>
                      </a:lnTo>
                      <a:lnTo>
                        <a:pt x="140" y="534"/>
                      </a:lnTo>
                      <a:lnTo>
                        <a:pt x="164" y="500"/>
                      </a:lnTo>
                      <a:lnTo>
                        <a:pt x="191" y="468"/>
                      </a:lnTo>
                      <a:lnTo>
                        <a:pt x="222" y="436"/>
                      </a:lnTo>
                      <a:lnTo>
                        <a:pt x="254" y="403"/>
                      </a:lnTo>
                      <a:lnTo>
                        <a:pt x="283" y="375"/>
                      </a:lnTo>
                      <a:lnTo>
                        <a:pt x="317" y="348"/>
                      </a:lnTo>
                      <a:lnTo>
                        <a:pt x="363" y="313"/>
                      </a:lnTo>
                      <a:lnTo>
                        <a:pt x="409" y="278"/>
                      </a:lnTo>
                      <a:lnTo>
                        <a:pt x="451" y="253"/>
                      </a:lnTo>
                      <a:lnTo>
                        <a:pt x="499" y="227"/>
                      </a:lnTo>
                      <a:lnTo>
                        <a:pt x="562" y="196"/>
                      </a:lnTo>
                      <a:lnTo>
                        <a:pt x="608" y="178"/>
                      </a:lnTo>
                      <a:lnTo>
                        <a:pt x="654" y="160"/>
                      </a:lnTo>
                      <a:lnTo>
                        <a:pt x="688" y="147"/>
                      </a:lnTo>
                      <a:lnTo>
                        <a:pt x="736" y="135"/>
                      </a:lnTo>
                      <a:lnTo>
                        <a:pt x="778" y="128"/>
                      </a:lnTo>
                      <a:lnTo>
                        <a:pt x="778" y="0"/>
                      </a:lnTo>
                      <a:lnTo>
                        <a:pt x="1109" y="197"/>
                      </a:lnTo>
                      <a:lnTo>
                        <a:pt x="780" y="456"/>
                      </a:lnTo>
                      <a:lnTo>
                        <a:pt x="780" y="361"/>
                      </a:lnTo>
                      <a:lnTo>
                        <a:pt x="727" y="373"/>
                      </a:lnTo>
                      <a:lnTo>
                        <a:pt x="688" y="388"/>
                      </a:lnTo>
                      <a:lnTo>
                        <a:pt x="658" y="405"/>
                      </a:lnTo>
                      <a:lnTo>
                        <a:pt x="629" y="421"/>
                      </a:lnTo>
                      <a:lnTo>
                        <a:pt x="593" y="445"/>
                      </a:lnTo>
                      <a:lnTo>
                        <a:pt x="556" y="468"/>
                      </a:lnTo>
                      <a:lnTo>
                        <a:pt x="530" y="492"/>
                      </a:lnTo>
                      <a:lnTo>
                        <a:pt x="499" y="519"/>
                      </a:lnTo>
                      <a:lnTo>
                        <a:pt x="467" y="549"/>
                      </a:lnTo>
                      <a:lnTo>
                        <a:pt x="436" y="585"/>
                      </a:lnTo>
                      <a:lnTo>
                        <a:pt x="413" y="620"/>
                      </a:lnTo>
                      <a:lnTo>
                        <a:pt x="392" y="659"/>
                      </a:lnTo>
                      <a:lnTo>
                        <a:pt x="371" y="695"/>
                      </a:lnTo>
                      <a:lnTo>
                        <a:pt x="346" y="740"/>
                      </a:lnTo>
                      <a:lnTo>
                        <a:pt x="335" y="769"/>
                      </a:lnTo>
                      <a:lnTo>
                        <a:pt x="327" y="796"/>
                      </a:lnTo>
                      <a:lnTo>
                        <a:pt x="314" y="838"/>
                      </a:lnTo>
                      <a:lnTo>
                        <a:pt x="310" y="888"/>
                      </a:lnTo>
                      <a:lnTo>
                        <a:pt x="310" y="921"/>
                      </a:lnTo>
                      <a:lnTo>
                        <a:pt x="0" y="919"/>
                      </a:lnTo>
                      <a:lnTo>
                        <a:pt x="13" y="850"/>
                      </a:lnTo>
                      <a:lnTo>
                        <a:pt x="21" y="796"/>
                      </a:lnTo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391640" y="1504800"/>
                  <a:ext cx="867960" cy="501840"/>
                </a:xfrm>
                <a:custGeom>
                  <a:avLst/>
                  <a:gdLst/>
                  <a:ahLst/>
                  <a:rect l="l" t="t" r="r" b="b"/>
                  <a:pathLst>
                    <a:path w="547" h="316">
                      <a:moveTo>
                        <a:pt x="0" y="125"/>
                      </a:moveTo>
                      <a:lnTo>
                        <a:pt x="323" y="315"/>
                      </a:lnTo>
                      <a:lnTo>
                        <a:pt x="546" y="183"/>
                      </a:lnTo>
                      <a:lnTo>
                        <a:pt x="242" y="0"/>
                      </a:lnTo>
                      <a:lnTo>
                        <a:pt x="0" y="125"/>
                      </a:lnTo>
                    </a:path>
                  </a:pathLst>
                </a:custGeom>
                <a:solidFill>
                  <a:srgbClr val="80ff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5" name=""/>
            <p:cNvGrpSpPr/>
            <p:nvPr/>
          </p:nvGrpSpPr>
          <p:grpSpPr>
            <a:xfrm>
              <a:off x="4919400" y="1219320"/>
              <a:ext cx="1825200" cy="1330200"/>
              <a:chOff x="4919400" y="1219320"/>
              <a:chExt cx="1825200" cy="1330200"/>
            </a:xfrm>
          </p:grpSpPr>
          <p:sp>
            <p:nvSpPr>
              <p:cNvPr id="346" name=""/>
              <p:cNvSpPr/>
              <p:nvPr/>
            </p:nvSpPr>
            <p:spPr>
              <a:xfrm>
                <a:off x="6374880" y="1219320"/>
                <a:ext cx="369360" cy="1330200"/>
              </a:xfrm>
              <a:custGeom>
                <a:avLst/>
                <a:gdLst/>
                <a:ahLst/>
                <a:rect l="l" t="t" r="r" b="b"/>
                <a:pathLst>
                  <a:path w="233" h="838">
                    <a:moveTo>
                      <a:pt x="232" y="0"/>
                    </a:moveTo>
                    <a:lnTo>
                      <a:pt x="0" y="129"/>
                    </a:lnTo>
                    <a:lnTo>
                      <a:pt x="0" y="837"/>
                    </a:lnTo>
                    <a:lnTo>
                      <a:pt x="232" y="644"/>
                    </a:lnTo>
                    <a:lnTo>
                      <a:pt x="232" y="0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19400" y="1427040"/>
                <a:ext cx="1425240" cy="1122480"/>
              </a:xfrm>
              <a:custGeom>
                <a:avLst/>
                <a:gdLst/>
                <a:ahLst/>
                <a:rect l="l" t="t" r="r" b="b"/>
                <a:pathLst>
                  <a:path w="898" h="707">
                    <a:moveTo>
                      <a:pt x="0" y="0"/>
                    </a:moveTo>
                    <a:lnTo>
                      <a:pt x="897" y="0"/>
                    </a:lnTo>
                    <a:lnTo>
                      <a:pt x="897" y="706"/>
                    </a:lnTo>
                    <a:lnTo>
                      <a:pt x="0" y="7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19400" y="1219320"/>
                <a:ext cx="1825200" cy="187200"/>
              </a:xfrm>
              <a:custGeom>
                <a:avLst/>
                <a:gdLst/>
                <a:ahLst/>
                <a:rect l="l" t="t" r="r" b="b"/>
                <a:pathLst>
                  <a:path w="1150" h="118">
                    <a:moveTo>
                      <a:pt x="0" y="117"/>
                    </a:moveTo>
                    <a:lnTo>
                      <a:pt x="900" y="117"/>
                    </a:lnTo>
                    <a:lnTo>
                      <a:pt x="1149" y="0"/>
                    </a:lnTo>
                    <a:lnTo>
                      <a:pt x="245" y="0"/>
                    </a:lnTo>
                    <a:lnTo>
                      <a:pt x="0" y="117"/>
                    </a:lnTo>
                  </a:path>
                </a:pathLst>
              </a:custGeom>
              <a:solidFill>
                <a:srgbClr val="ff2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6368760" y="1600200"/>
              <a:ext cx="2234520" cy="1576440"/>
              <a:chOff x="6368760" y="1600200"/>
              <a:chExt cx="2234520" cy="1576440"/>
            </a:xfrm>
          </p:grpSpPr>
          <p:sp>
            <p:nvSpPr>
              <p:cNvPr id="350" name=""/>
              <p:cNvSpPr/>
              <p:nvPr/>
            </p:nvSpPr>
            <p:spPr>
              <a:xfrm>
                <a:off x="8105040" y="2571840"/>
                <a:ext cx="498240" cy="183960"/>
              </a:xfrm>
              <a:custGeom>
                <a:avLst/>
                <a:gdLst/>
                <a:ahLst/>
                <a:rect l="l" t="t" r="r" b="b"/>
                <a:pathLst>
                  <a:path w="314" h="116">
                    <a:moveTo>
                      <a:pt x="0" y="115"/>
                    </a:moveTo>
                    <a:lnTo>
                      <a:pt x="157" y="115"/>
                    </a:lnTo>
                    <a:lnTo>
                      <a:pt x="313" y="0"/>
                    </a:lnTo>
                    <a:lnTo>
                      <a:pt x="157" y="0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a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967160" y="2571840"/>
                <a:ext cx="636120" cy="604800"/>
              </a:xfrm>
              <a:custGeom>
                <a:avLst/>
                <a:gdLst/>
                <a:ahLst/>
                <a:rect l="l" t="t" r="r" b="b"/>
                <a:pathLst>
                  <a:path w="401" h="381">
                    <a:moveTo>
                      <a:pt x="400" y="0"/>
                    </a:moveTo>
                    <a:lnTo>
                      <a:pt x="241" y="126"/>
                    </a:lnTo>
                    <a:lnTo>
                      <a:pt x="0" y="380"/>
                    </a:lnTo>
                    <a:lnTo>
                      <a:pt x="161" y="254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432200" y="2571840"/>
                <a:ext cx="504360" cy="183960"/>
              </a:xfrm>
              <a:custGeom>
                <a:avLst/>
                <a:gdLst/>
                <a:ahLst/>
                <a:rect l="l" t="t" r="r" b="b"/>
                <a:pathLst>
                  <a:path w="318" h="116">
                    <a:moveTo>
                      <a:pt x="0" y="115"/>
                    </a:moveTo>
                    <a:lnTo>
                      <a:pt x="158" y="115"/>
                    </a:lnTo>
                    <a:lnTo>
                      <a:pt x="317" y="0"/>
                    </a:lnTo>
                    <a:lnTo>
                      <a:pt x="158" y="0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a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368760" y="1600200"/>
                <a:ext cx="1976040" cy="1160280"/>
              </a:xfrm>
              <a:custGeom>
                <a:avLst/>
                <a:gdLst/>
                <a:ahLst/>
                <a:rect l="l" t="t" r="r" b="b"/>
                <a:pathLst>
                  <a:path w="1245" h="731">
                    <a:moveTo>
                      <a:pt x="391" y="7"/>
                    </a:moveTo>
                    <a:lnTo>
                      <a:pt x="435" y="16"/>
                    </a:lnTo>
                    <a:lnTo>
                      <a:pt x="481" y="24"/>
                    </a:lnTo>
                    <a:lnTo>
                      <a:pt x="523" y="34"/>
                    </a:lnTo>
                    <a:lnTo>
                      <a:pt x="564" y="45"/>
                    </a:lnTo>
                    <a:lnTo>
                      <a:pt x="602" y="55"/>
                    </a:lnTo>
                    <a:lnTo>
                      <a:pt x="640" y="67"/>
                    </a:lnTo>
                    <a:lnTo>
                      <a:pt x="677" y="81"/>
                    </a:lnTo>
                    <a:lnTo>
                      <a:pt x="721" y="100"/>
                    </a:lnTo>
                    <a:lnTo>
                      <a:pt x="765" y="118"/>
                    </a:lnTo>
                    <a:lnTo>
                      <a:pt x="803" y="139"/>
                    </a:lnTo>
                    <a:lnTo>
                      <a:pt x="847" y="163"/>
                    </a:lnTo>
                    <a:lnTo>
                      <a:pt x="889" y="187"/>
                    </a:lnTo>
                    <a:lnTo>
                      <a:pt x="924" y="211"/>
                    </a:lnTo>
                    <a:lnTo>
                      <a:pt x="958" y="238"/>
                    </a:lnTo>
                    <a:lnTo>
                      <a:pt x="1002" y="274"/>
                    </a:lnTo>
                    <a:lnTo>
                      <a:pt x="1045" y="310"/>
                    </a:lnTo>
                    <a:lnTo>
                      <a:pt x="1079" y="345"/>
                    </a:lnTo>
                    <a:lnTo>
                      <a:pt x="1114" y="381"/>
                    </a:lnTo>
                    <a:lnTo>
                      <a:pt x="1154" y="430"/>
                    </a:lnTo>
                    <a:lnTo>
                      <a:pt x="1186" y="486"/>
                    </a:lnTo>
                    <a:lnTo>
                      <a:pt x="1213" y="528"/>
                    </a:lnTo>
                    <a:lnTo>
                      <a:pt x="1232" y="565"/>
                    </a:lnTo>
                    <a:lnTo>
                      <a:pt x="1244" y="598"/>
                    </a:lnTo>
                    <a:lnTo>
                      <a:pt x="1073" y="730"/>
                    </a:lnTo>
                    <a:lnTo>
                      <a:pt x="1043" y="655"/>
                    </a:lnTo>
                    <a:lnTo>
                      <a:pt x="1012" y="609"/>
                    </a:lnTo>
                    <a:lnTo>
                      <a:pt x="985" y="562"/>
                    </a:lnTo>
                    <a:lnTo>
                      <a:pt x="945" y="514"/>
                    </a:lnTo>
                    <a:lnTo>
                      <a:pt x="907" y="471"/>
                    </a:lnTo>
                    <a:lnTo>
                      <a:pt x="872" y="439"/>
                    </a:lnTo>
                    <a:lnTo>
                      <a:pt x="830" y="402"/>
                    </a:lnTo>
                    <a:lnTo>
                      <a:pt x="780" y="363"/>
                    </a:lnTo>
                    <a:lnTo>
                      <a:pt x="736" y="334"/>
                    </a:lnTo>
                    <a:lnTo>
                      <a:pt x="677" y="294"/>
                    </a:lnTo>
                    <a:lnTo>
                      <a:pt x="613" y="259"/>
                    </a:lnTo>
                    <a:lnTo>
                      <a:pt x="550" y="231"/>
                    </a:lnTo>
                    <a:lnTo>
                      <a:pt x="485" y="205"/>
                    </a:lnTo>
                    <a:lnTo>
                      <a:pt x="429" y="186"/>
                    </a:lnTo>
                    <a:lnTo>
                      <a:pt x="360" y="169"/>
                    </a:lnTo>
                    <a:lnTo>
                      <a:pt x="299" y="156"/>
                    </a:lnTo>
                    <a:lnTo>
                      <a:pt x="0" y="177"/>
                    </a:lnTo>
                    <a:lnTo>
                      <a:pt x="230" y="1"/>
                    </a:lnTo>
                    <a:lnTo>
                      <a:pt x="278" y="0"/>
                    </a:lnTo>
                    <a:lnTo>
                      <a:pt x="326" y="4"/>
                    </a:lnTo>
                    <a:lnTo>
                      <a:pt x="391" y="7"/>
                    </a:lnTo>
                  </a:path>
                </a:pathLst>
              </a:custGeom>
              <a:solidFill>
                <a:srgbClr val="ff2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368760" y="1817640"/>
                <a:ext cx="1974600" cy="1359000"/>
              </a:xfrm>
              <a:custGeom>
                <a:avLst/>
                <a:gdLst/>
                <a:ahLst/>
                <a:rect l="l" t="t" r="r" b="b"/>
                <a:pathLst>
                  <a:path w="1244" h="856">
                    <a:moveTo>
                      <a:pt x="0" y="293"/>
                    </a:moveTo>
                    <a:lnTo>
                      <a:pt x="2" y="45"/>
                    </a:lnTo>
                    <a:lnTo>
                      <a:pt x="73" y="24"/>
                    </a:lnTo>
                    <a:lnTo>
                      <a:pt x="142" y="9"/>
                    </a:lnTo>
                    <a:lnTo>
                      <a:pt x="209" y="0"/>
                    </a:lnTo>
                    <a:lnTo>
                      <a:pt x="270" y="9"/>
                    </a:lnTo>
                    <a:lnTo>
                      <a:pt x="320" y="20"/>
                    </a:lnTo>
                    <a:lnTo>
                      <a:pt x="364" y="30"/>
                    </a:lnTo>
                    <a:lnTo>
                      <a:pt x="403" y="39"/>
                    </a:lnTo>
                    <a:lnTo>
                      <a:pt x="441" y="51"/>
                    </a:lnTo>
                    <a:lnTo>
                      <a:pt x="480" y="63"/>
                    </a:lnTo>
                    <a:lnTo>
                      <a:pt x="518" y="77"/>
                    </a:lnTo>
                    <a:lnTo>
                      <a:pt x="562" y="95"/>
                    </a:lnTo>
                    <a:lnTo>
                      <a:pt x="606" y="114"/>
                    </a:lnTo>
                    <a:lnTo>
                      <a:pt x="646" y="134"/>
                    </a:lnTo>
                    <a:lnTo>
                      <a:pt x="687" y="159"/>
                    </a:lnTo>
                    <a:lnTo>
                      <a:pt x="729" y="185"/>
                    </a:lnTo>
                    <a:lnTo>
                      <a:pt x="765" y="209"/>
                    </a:lnTo>
                    <a:lnTo>
                      <a:pt x="802" y="234"/>
                    </a:lnTo>
                    <a:lnTo>
                      <a:pt x="844" y="269"/>
                    </a:lnTo>
                    <a:lnTo>
                      <a:pt x="888" y="306"/>
                    </a:lnTo>
                    <a:lnTo>
                      <a:pt x="921" y="339"/>
                    </a:lnTo>
                    <a:lnTo>
                      <a:pt x="953" y="377"/>
                    </a:lnTo>
                    <a:lnTo>
                      <a:pt x="994" y="425"/>
                    </a:lnTo>
                    <a:lnTo>
                      <a:pt x="1017" y="461"/>
                    </a:lnTo>
                    <a:lnTo>
                      <a:pt x="1040" y="497"/>
                    </a:lnTo>
                    <a:lnTo>
                      <a:pt x="1055" y="525"/>
                    </a:lnTo>
                    <a:lnTo>
                      <a:pt x="1070" y="563"/>
                    </a:lnTo>
                    <a:lnTo>
                      <a:pt x="1080" y="594"/>
                    </a:lnTo>
                    <a:lnTo>
                      <a:pt x="1243" y="594"/>
                    </a:lnTo>
                    <a:lnTo>
                      <a:pt x="992" y="855"/>
                    </a:lnTo>
                    <a:lnTo>
                      <a:pt x="662" y="597"/>
                    </a:lnTo>
                    <a:lnTo>
                      <a:pt x="783" y="597"/>
                    </a:lnTo>
                    <a:lnTo>
                      <a:pt x="767" y="555"/>
                    </a:lnTo>
                    <a:lnTo>
                      <a:pt x="750" y="525"/>
                    </a:lnTo>
                    <a:lnTo>
                      <a:pt x="727" y="500"/>
                    </a:lnTo>
                    <a:lnTo>
                      <a:pt x="706" y="477"/>
                    </a:lnTo>
                    <a:lnTo>
                      <a:pt x="675" y="449"/>
                    </a:lnTo>
                    <a:lnTo>
                      <a:pt x="646" y="420"/>
                    </a:lnTo>
                    <a:lnTo>
                      <a:pt x="616" y="401"/>
                    </a:lnTo>
                    <a:lnTo>
                      <a:pt x="581" y="377"/>
                    </a:lnTo>
                    <a:lnTo>
                      <a:pt x="543" y="351"/>
                    </a:lnTo>
                    <a:lnTo>
                      <a:pt x="497" y="327"/>
                    </a:lnTo>
                    <a:lnTo>
                      <a:pt x="455" y="309"/>
                    </a:lnTo>
                    <a:lnTo>
                      <a:pt x="403" y="293"/>
                    </a:lnTo>
                    <a:lnTo>
                      <a:pt x="355" y="276"/>
                    </a:lnTo>
                    <a:lnTo>
                      <a:pt x="299" y="257"/>
                    </a:lnTo>
                    <a:lnTo>
                      <a:pt x="263" y="248"/>
                    </a:lnTo>
                    <a:lnTo>
                      <a:pt x="223" y="237"/>
                    </a:lnTo>
                    <a:lnTo>
                      <a:pt x="161" y="239"/>
                    </a:lnTo>
                    <a:lnTo>
                      <a:pt x="94" y="251"/>
                    </a:lnTo>
                    <a:lnTo>
                      <a:pt x="48" y="267"/>
                    </a:lnTo>
                    <a:lnTo>
                      <a:pt x="0" y="293"/>
                    </a:lnTo>
                  </a:path>
                </a:pathLst>
              </a:custGeom>
              <a:solidFill>
                <a:srgbClr val="ff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590560" y="3486240"/>
              <a:ext cx="1094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53160" y="1676520"/>
              <a:ext cx="16336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struc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rganizac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Fís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86400" y="3448080"/>
              <a:ext cx="12636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ersonas 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ul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26680" y="5315040"/>
              <a:ext cx="12499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ecnologí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Sistem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5590800" y="2698560"/>
              <a:ext cx="330120" cy="4438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51200" y="3549600"/>
              <a:ext cx="425160" cy="387360"/>
            </a:xfrm>
            <a:prstGeom prst="rightArrow">
              <a:avLst>
                <a:gd name="adj1" fmla="val 50000"/>
                <a:gd name="adj2" fmla="val 54884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rot="16200000">
              <a:off x="5589720" y="4318200"/>
              <a:ext cx="330120" cy="52020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4634640" y="3549600"/>
              <a:ext cx="443880" cy="387360"/>
            </a:xfrm>
            <a:prstGeom prst="rightArrow">
              <a:avLst>
                <a:gd name="adj1" fmla="val 50000"/>
                <a:gd name="adj2" fmla="val 57301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52280" y="4876920"/>
            <a:ext cx="2648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Los nuevos sistemas crean un nuevo potencial y nuevos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152280"/>
            <a:ext cx="91314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102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52280"/>
            <a:ext cx="90676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ROYECTO DE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MBIO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ementos clave: Person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as organizaciones (y sus procesos) cambian cuando la gente camb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ás que capacitarlos, es necesario entrenarlos para que adquieran nuevas competencias e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rabajo en equip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sponsabilidad profesion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l cumplimiento de los compromisos (funcionales y con los procesos de negocio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unicación para la ac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ementos clave :</a:t>
            </a: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72840" y="1824120"/>
            <a:ext cx="7778520" cy="40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ólo se puede producir un buen producto si se conoce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Sus especificacion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Sus parámetros de calid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Su cost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l aseguramiento de la calidad sólo asegura que el producto cumpla con las características de c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... pero sólo la calidad del proceso que lo produce puede lograrlo (ISO 9000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ementos clave: Tecnología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Habilitante de los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72840" y="1824120"/>
            <a:ext cx="7778520" cy="40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No es suficiente con incorporarl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uede transformarse en un problema si los otros factores de riesgo no han sido considerados prioritariam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be ser flexib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be estar integrada y servir como elemento de coordinación entre las áreas-funciones administrativas y los procesos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ementos clave :</a:t>
            </a: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structura Organizacio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Organización Jerárquica o Funcion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Organización Por Proces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Organización Matrici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eguntas propues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é gano haciendo el diseño por procesos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Puedo siempre hacer el diseño por procesos de negocios? ¿Qué debe cumplirs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é productos debo tener al final del diseño? ¿Cómo los represent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é importancia tienen los procesos de negocio en el cambio organizaciona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Procesos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2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olicitud de manten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enta/Compra (provisión) de un servic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rden de Facturación de un cargo puntu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2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Verdana"/>
              </a:rPr>
              <a:t>Se basa en redes de compromisos en torno al ciclo básico de trabajo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iclo B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ásico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83818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577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ceso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aracterístic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0000"/>
                </a:solidFill>
                <a:latin typeface="Verdana"/>
              </a:rPr>
              <a:t>Niveles de decisi</a:t>
            </a:r>
            <a:r>
              <a:rPr b="0" lang="es-MX" sz="2200" spc="-1" strike="noStrike">
                <a:solidFill>
                  <a:srgbClr val="cc0000"/>
                </a:solidFill>
                <a:latin typeface="Verdana"/>
              </a:rPr>
              <a:t>ón: táctico-operativ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cc0000"/>
                </a:solidFill>
                <a:latin typeface="Verdana"/>
              </a:rPr>
              <a:t>Componentes funcionales con cohesión por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cc0000"/>
                </a:solidFill>
                <a:latin typeface="Verdana"/>
              </a:rPr>
              <a:t>Procesos de negocios críticos o corporati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lementos que confluy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istem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actores Crít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sabilid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727200" y="189000"/>
            <a:ext cx="8416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racterizaci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ón de los Procesos de Negoc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ísticas de los Procesos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Objetivo general de un proceso de negoci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ir valor agregado (ver como se agrega valo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atisfacer los requerimientos (peticiones u ofertas) de los clientes (o proveedor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ísticas de los Procesos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de Negocio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41160" y="1824120"/>
            <a:ext cx="7778520" cy="40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a calidad (del producto y de las tareas) incluye la funcionalidad, la confiabilidad, la oportunidad de la entrega y el co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i las actividades de un proceso se hacen con calidad, la probabilidad de que el resultado del proceso sea un producto de calidad es alt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aracterísticas de los Procesos de Negocios (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1160" y="1824120"/>
            <a:ext cx="7778520" cy="40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hacen cargo de las necesidades de nuestros 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quieren de coordinación horizon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y herramientas de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Workflow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que apoyan el seguimiento y control de gestión de procesos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rabajan sobre bases de datos que comparten con los sistemas fun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9:38:54Z</dcterms:created>
  <dc:creator>Instituto De Estudios Bancarios</dc:creator>
  <dc:description/>
  <dc:language>en-US</dc:language>
  <cp:lastModifiedBy>Antonio</cp:lastModifiedBy>
  <dcterms:modified xsi:type="dcterms:W3CDTF">2009-07-10T19:14:33Z</dcterms:modified>
  <cp:revision>130</cp:revision>
  <dc:subject/>
  <dc:title>Diapositiva 1</dc:title>
</cp:coreProperties>
</file>