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9.wmf" ContentType="image/x-wmf"/>
  <Override PartName="/ppt/media/image1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4.png" ContentType="image/png"/>
  <Override PartName="/ppt/media/image25.png" ContentType="image/png"/>
  <Override PartName="/ppt/media/image2.png" ContentType="image/png"/>
  <Override PartName="/ppt/media/image5.wmf" ContentType="image/x-wmf"/>
  <Override PartName="/ppt/media/image35.wmf" ContentType="image/x-wmf"/>
  <Override PartName="/ppt/media/image14.wmf" ContentType="image/x-wmf"/>
  <Override PartName="/ppt/media/image6.png" ContentType="image/png"/>
  <Override PartName="/ppt/media/image36.png" ContentType="image/png"/>
  <Override PartName="/ppt/media/image15.wmf" ContentType="image/x-wmf"/>
  <Override PartName="/ppt/media/image32.wmf" ContentType="image/x-wmf"/>
  <Override PartName="/ppt/media/image13.wmf" ContentType="image/x-wmf"/>
  <Override PartName="/ppt/media/image10.jpeg" ContentType="image/jpeg"/>
  <Override PartName="/ppt/media/image30.png" ContentType="image/png"/>
  <Override PartName="/ppt/media/image37.wmf" ContentType="image/x-wmf"/>
  <Override PartName="/ppt/media/image38.wmf" ContentType="image/x-wmf"/>
  <Override PartName="/ppt/media/image42.png" ContentType="image/png"/>
  <Override PartName="/ppt/media/image43.png" ContentType="image/png"/>
  <Override PartName="/ppt/media/image44.png" ContentType="image/png"/>
  <Override PartName="/ppt/media/image45.wmf" ContentType="image/x-wmf"/>
  <Override PartName="/ppt/media/image34.wmf" ContentType="image/x-wmf"/>
  <Override PartName="/ppt/media/image46.wmf" ContentType="image/x-wmf"/>
  <Override PartName="/ppt/media/image48.wmf" ContentType="image/x-wmf"/>
  <Override PartName="/ppt/media/image11.wmf" ContentType="image/x-wmf"/>
  <Override PartName="/ppt/media/image26.png" ContentType="image/png"/>
  <Override PartName="/ppt/media/image47.wmf" ContentType="image/x-wmf"/>
  <Override PartName="/ppt/media/image12.wmf" ContentType="image/x-wmf"/>
  <Override PartName="/ppt/media/image4.png" ContentType="image/png"/>
  <Override PartName="/ppt/media/image27.png" ContentType="image/png"/>
  <Override PartName="/ppt/media/image28.png" ContentType="image/png"/>
  <Override PartName="/ppt/media/image31.wmf" ContentType="image/x-wmf"/>
  <Override PartName="/ppt/media/image39.png" ContentType="image/png"/>
  <Override PartName="/ppt/media/image9.png" ContentType="image/png"/>
  <Override PartName="/ppt/media/image41.wmf" ContentType="image/x-wmf"/>
  <Override PartName="/ppt/media/image8.png" ContentType="image/png"/>
  <Override PartName="/ppt/media/image3.png" ContentType="image/png"/>
  <Override PartName="/ppt/media/image33.png" ContentType="image/png"/>
  <Override PartName="/ppt/media/image40.wmf" ContentType="image/x-wmf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1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44.xml.rels" ContentType="application/vnd.openxmlformats-package.relationships+xml"/>
  <Override PartName="/ppt/slides/_rels/slide97.xml.rels" ContentType="application/vnd.openxmlformats-package.relationships+xml"/>
  <Override PartName="/ppt/slides/_rels/slide31.xml.rels" ContentType="application/vnd.openxmlformats-package.relationships+xml"/>
  <Override PartName="/ppt/slides/_rels/slide117.xml.rels" ContentType="application/vnd.openxmlformats-package.relationships+xml"/>
  <Override PartName="/ppt/slides/_rels/slide84.xml.rels" ContentType="application/vnd.openxmlformats-package.relationships+xml"/>
  <Override PartName="/ppt/slides/_rels/slide15.xml.rels" ContentType="application/vnd.openxmlformats-package.relationships+xml"/>
  <Override PartName="/ppt/slides/_rels/slide29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43.xml.rels" ContentType="application/vnd.openxmlformats-package.relationships+xml"/>
  <Override PartName="/ppt/slides/_rels/slide96.xml.rels" ContentType="application/vnd.openxmlformats-package.relationships+xml"/>
  <Override PartName="/ppt/slides/_rels/slide129.xml.rels" ContentType="application/vnd.openxmlformats-package.relationships+xml"/>
  <Override PartName="/ppt/slides/_rels/slide77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86.xml.rels" ContentType="application/vnd.openxmlformats-package.relationships+xml"/>
  <Override PartName="/ppt/slides/_rels/slide119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2.xml.rels" ContentType="application/vnd.openxmlformats-package.relationships+xml"/>
  <Override PartName="/ppt/slides/_rels/slide59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11.xml.rels" ContentType="application/vnd.openxmlformats-package.relationships+xml"/>
  <Override PartName="/ppt/slides/_rels/slide53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1.xml.rels" ContentType="application/vnd.openxmlformats-package.relationships+xml"/>
  <Override PartName="/ppt/slides/_rels/slide52.xml.rels" ContentType="application/vnd.openxmlformats-package.relationships+xml"/>
  <Override PartName="/ppt/slides/_rels/slide35.xml.rels" ContentType="application/vnd.openxmlformats-package.relationships+xml"/>
  <Override PartName="/ppt/slides/_rels/slide112.xml.rels" ContentType="application/vnd.openxmlformats-package.relationships+xml"/>
  <Override PartName="/ppt/slides/_rels/slide58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62.xml.rels" ContentType="application/vnd.openxmlformats-package.relationships+xml"/>
  <Override PartName="/ppt/slides/_rels/slide63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20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39.xml.rels" ContentType="application/vnd.openxmlformats-package.relationships+xml"/>
  <Override PartName="/ppt/slides/_rels/slide68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123.xml.rels" ContentType="application/vnd.openxmlformats-package.relationships+xml"/>
  <Override PartName="/ppt/slides/_rels/slide69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07.xml.rels" ContentType="application/vnd.openxmlformats-package.relationships+xml"/>
  <Override PartName="/ppt/slides/_rels/slide108.xml.rels" ContentType="application/vnd.openxmlformats-package.relationships+xml"/>
  <Override PartName="/ppt/slides/_rels/slide75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70.xml.rels" ContentType="application/vnd.openxmlformats-package.relationships+xml"/>
  <Override PartName="/ppt/slides/_rels/slide26.xml.rels" ContentType="application/vnd.openxmlformats-package.relationships+xml"/>
  <Override PartName="/ppt/slides/_rels/slide103.xml.rels" ContentType="application/vnd.openxmlformats-package.relationships+xml"/>
  <Override PartName="/ppt/slides/_rels/slide109.xml.rels" ContentType="application/vnd.openxmlformats-package.relationships+xml"/>
  <Override PartName="/ppt/slides/_rels/slide76.xml.rels" ContentType="application/vnd.openxmlformats-package.relationships+xml"/>
  <Override PartName="/ppt/slides/_rels/slide73.xml.rels" ContentType="application/vnd.openxmlformats-package.relationships+xml"/>
  <Override PartName="/ppt/slides/_rels/slide106.xml.rels" ContentType="application/vnd.openxmlformats-package.relationships+xml"/>
  <Override PartName="/ppt/slides/_rels/slide78.xml.rels" ContentType="application/vnd.openxmlformats-package.relationships+xml"/>
  <Override PartName="/ppt/slides/_rels/slide80.xml.rels" ContentType="application/vnd.openxmlformats-package.relationships+xml"/>
  <Override PartName="/ppt/slides/_rels/slide36.xml.rels" ContentType="application/vnd.openxmlformats-package.relationships+xml"/>
  <Override PartName="/ppt/slides/_rels/slide113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114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5.xml.rels" ContentType="application/vnd.openxmlformats-package.relationships+xml"/>
  <Override PartName="/ppt/slides/_rels/slide88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27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_rels/slide28.xml.rels" ContentType="application/vnd.openxmlformats-package.relationships+xml"/>
  <Override PartName="/ppt/slides/_rels/slide126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9.xml" ContentType="application/vnd.openxmlformats-officedocument.presentationml.slide+xml"/>
  <Override PartName="/ppt/slides/slide59.xml" ContentType="application/vnd.openxmlformats-officedocument.presentationml.slide+xml"/>
  <Override PartName="/ppt/slides/slide58.xml" ContentType="application/vnd.openxmlformats-officedocument.presentationml.slide+xml"/>
  <Override PartName="/ppt/slides/slide8.xml" ContentType="application/vnd.openxmlformats-officedocument.presentationml.slide+xml"/>
  <Override PartName="/ppt/slides/slide21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.xml" ContentType="application/vnd.openxmlformats-officedocument.presentationml.slide+xml"/>
  <Override PartName="/ppt/slides/slide108.xml" ContentType="application/vnd.openxmlformats-officedocument.presentationml.slide+xml"/>
  <Override PartName="/ppt/slides/slide2.xml" ContentType="application/vnd.openxmlformats-officedocument.presentationml.slide+xml"/>
  <Override PartName="/ppt/slides/slide42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81.xml" ContentType="application/vnd.openxmlformats-officedocument.presentationml.slide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8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51.xml" ContentType="application/vnd.openxmlformats-officedocument.presentationml.slide+xml"/>
  <Override PartName="/ppt/slides/slide8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9.xml" ContentType="application/vnd.openxmlformats-officedocument.presentationml.slide+xml"/>
  <Override PartName="/ppt/slides/slide111.xml" ContentType="application/vnd.openxmlformats-officedocument.presentationml.slide+xml"/>
  <Override PartName="/ppt/slides/slide15.xml" ContentType="application/vnd.openxmlformats-officedocument.presentationml.slide+xml"/>
  <Override PartName="/ppt/slides/slide83.xml" ContentType="application/vnd.openxmlformats-officedocument.presentationml.slide+xml"/>
  <Override PartName="/ppt/slides/slide128.xml" ContentType="application/vnd.openxmlformats-officedocument.presentationml.slide+xml"/>
  <Override PartName="/ppt/slides/slide33.xml" ContentType="application/vnd.openxmlformats-officedocument.presentationml.slide+xml"/>
  <Override PartName="/ppt/slides/slide52.xml" ContentType="application/vnd.openxmlformats-officedocument.presentationml.slide+xml"/>
  <Override PartName="/ppt/slides/slide129.xml" ContentType="application/vnd.openxmlformats-officedocument.presentationml.slide+xml"/>
  <Override PartName="/ppt/slides/slide30.xml" ContentType="application/vnd.openxmlformats-officedocument.presentationml.slide+xml"/>
  <Override PartName="/ppt/slides/slide34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41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44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107.xml" ContentType="application/vnd.openxmlformats-officedocument.presentationml.slide+xml"/>
  <Override PartName="/ppt/slides/slide79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78.xml" ContentType="application/vnd.openxmlformats-officedocument.presentationml.slide+xml"/>
  <Override PartName="/ppt/slides/slide106.xml" ContentType="application/vnd.openxmlformats-officedocument.presentationml.slide+xml"/>
  <Override PartName="/ppt/slides/slide17.xml" ContentType="application/vnd.openxmlformats-officedocument.presentationml.slide+xml"/>
  <Override PartName="/ppt/slides/slide85.xml" ContentType="application/vnd.openxmlformats-officedocument.presentationml.slide+xml"/>
  <Override PartName="/ppt/slides/slide113.xml" ContentType="application/vnd.openxmlformats-officedocument.presentationml.slide+xml"/>
  <Override PartName="/ppt/slides/slide18.xml" ContentType="application/vnd.openxmlformats-officedocument.presentationml.slide+xml"/>
  <Override PartName="/ppt/slides/slide86.xml" ContentType="application/vnd.openxmlformats-officedocument.presentationml.slide+xml"/>
  <Override PartName="/ppt/slides/slide114.xml" ContentType="application/vnd.openxmlformats-officedocument.presentationml.slide+xml"/>
  <Override PartName="/ppt/slides/slide19.xml" ContentType="application/vnd.openxmlformats-officedocument.presentationml.slide+xml"/>
  <Override PartName="/ppt/slides/slide87.xml" ContentType="application/vnd.openxmlformats-officedocument.presentationml.slide+xml"/>
  <Override PartName="/ppt/slides/slide115.xml" ContentType="application/vnd.openxmlformats-officedocument.presentationml.slide+xml"/>
  <Override PartName="/ppt/slides/slide88.xml" ContentType="application/vnd.openxmlformats-officedocument.presentationml.slide+xml"/>
  <Override PartName="/ppt/slides/slide116.xml" ContentType="application/vnd.openxmlformats-officedocument.presentationml.slide+xml"/>
  <Override PartName="/ppt/slides/slide89.xml" ContentType="application/vnd.openxmlformats-officedocument.presentationml.slide+xml"/>
  <Override PartName="/ppt/slides/slide117.xml" ContentType="application/vnd.openxmlformats-officedocument.presentationml.slide+xml"/>
  <Override PartName="/ppt/slides/slide118.xml" ContentType="application/vnd.openxmlformats-officedocument.presentationml.slide+xml"/>
  <Override PartName="/ppt/slides/slide27.xml" ContentType="application/vnd.openxmlformats-officedocument.presentationml.slide+xml"/>
  <Override PartName="/ppt/slides/slide95.xml" ContentType="application/vnd.openxmlformats-officedocument.presentationml.slide+xml"/>
  <Override PartName="/ppt/slides/slide123.xml" ContentType="application/vnd.openxmlformats-officedocument.presentationml.slide+xml"/>
  <Override PartName="/ppt/slides/slide28.xml" ContentType="application/vnd.openxmlformats-officedocument.presentationml.slide+xml"/>
  <Override PartName="/ppt/slides/slide96.xml" ContentType="application/vnd.openxmlformats-officedocument.presentationml.slide+xml"/>
  <Override PartName="/ppt/slides/slide124.xml" ContentType="application/vnd.openxmlformats-officedocument.presentationml.slide+xml"/>
  <Override PartName="/ppt/slides/slide29.xml" ContentType="application/vnd.openxmlformats-officedocument.presentationml.slide+xml"/>
  <Override PartName="/ppt/slides/slide97.xml" ContentType="application/vnd.openxmlformats-officedocument.presentationml.slide+xml"/>
  <Override PartName="/ppt/slides/slide125.xml" ContentType="application/vnd.openxmlformats-officedocument.presentationml.slide+xml"/>
  <Override PartName="/ppt/slides/slide98.xml" ContentType="application/vnd.openxmlformats-officedocument.presentationml.slide+xml"/>
  <Override PartName="/ppt/slides/slide1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  <p:sldId id="374" r:id="rId122"/>
    <p:sldId id="375" r:id="rId123"/>
    <p:sldId id="376" r:id="rId124"/>
    <p:sldId id="377" r:id="rId125"/>
    <p:sldId id="378" r:id="rId126"/>
    <p:sldId id="379" r:id="rId127"/>
    <p:sldId id="380" r:id="rId128"/>
    <p:sldId id="381" r:id="rId129"/>
    <p:sldId id="382" r:id="rId130"/>
    <p:sldId id="383" r:id="rId131"/>
    <p:sldId id="384" r:id="rId1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slide" Target="slides/slide119.xml"/><Relationship Id="rId123" Type="http://schemas.openxmlformats.org/officeDocument/2006/relationships/slide" Target="slides/slide120.xml"/><Relationship Id="rId124" Type="http://schemas.openxmlformats.org/officeDocument/2006/relationships/slide" Target="slides/slide121.xml"/><Relationship Id="rId125" Type="http://schemas.openxmlformats.org/officeDocument/2006/relationships/slide" Target="slides/slide122.xml"/><Relationship Id="rId126" Type="http://schemas.openxmlformats.org/officeDocument/2006/relationships/slide" Target="slides/slide123.xml"/><Relationship Id="rId127" Type="http://schemas.openxmlformats.org/officeDocument/2006/relationships/slide" Target="slides/slide124.xml"/><Relationship Id="rId128" Type="http://schemas.openxmlformats.org/officeDocument/2006/relationships/slide" Target="slides/slide125.xml"/><Relationship Id="rId129" Type="http://schemas.openxmlformats.org/officeDocument/2006/relationships/slide" Target="slides/slide126.xml"/><Relationship Id="rId130" Type="http://schemas.openxmlformats.org/officeDocument/2006/relationships/slide" Target="slides/slide127.xml"/><Relationship Id="rId131" Type="http://schemas.openxmlformats.org/officeDocument/2006/relationships/slide" Target="slides/slide128.xml"/><Relationship Id="rId132" Type="http://schemas.openxmlformats.org/officeDocument/2006/relationships/slide" Target="slides/slide129.xml"/><Relationship Id="rId1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986326-F36B-4B99-BE9F-D7622C573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8DE95D-0396-46B0-97E9-8C86D4D4F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73EB95-0AAA-4E72-B1FD-A64FF957F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9FB24C-663A-4FE6-AC09-EF36C07B6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001F8B-DD85-4931-B217-01C4DC3A4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CDF7FE-5CD0-45E8-8868-FFB9A1407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0864CB-F196-43A3-98F1-F6767B037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A0FC46-77BE-4E8B-94C7-4C4692E30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42DD50-33B0-48B0-A1D2-F4724C564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8A68ED-D755-4683-AAC4-6020B8043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102F79-6F16-4A39-97B5-A20EED2C4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7C0536-03F3-45D2-B782-3CD696460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5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11280" y="6244920"/>
            <a:ext cx="792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55A, Sistemas de Información Administrativos                                     Otoño 2007       8-</a:t>
            </a:r>
            <a:fld id="{B9CBDFAB-A800-4D28-896C-A0798647EDA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17715-DF8D-4715-882E-AF225D66C89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55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pptx"/><Relationship Id="rId3" Type="http://schemas.openxmlformats.org/officeDocument/2006/relationships/image" Target="../media/image41.wmf"/><Relationship Id="rId4" Type="http://schemas.openxmlformats.org/officeDocument/2006/relationships/slideLayout" Target="../slideLayouts/slideLayout3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2.png"/><Relationship Id="rId4" Type="http://schemas.openxmlformats.org/officeDocument/2006/relationships/slideLayout" Target="../slideLayouts/slideLayout3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3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pptx"/><Relationship Id="rId3" Type="http://schemas.openxmlformats.org/officeDocument/2006/relationships/image" Target="../media/image45.wmf"/><Relationship Id="rId4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46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7.wmf"/><Relationship Id="rId3" Type="http://schemas.openxmlformats.org/officeDocument/2006/relationships/slideLayout" Target="../slideLayouts/slideLayout1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48.wmf"/><Relationship Id="rId4" Type="http://schemas.openxmlformats.org/officeDocument/2006/relationships/slideLayout" Target="../slideLayouts/slideLayout5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4.wmf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9.wmf"/><Relationship Id="rId4" Type="http://schemas.openxmlformats.org/officeDocument/2006/relationships/slideLayout" Target="../slideLayouts/slideLayout5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ccs.mit.edu/moc/" TargetMode="External"/><Relationship Id="rId3" Type="http://schemas.openxmlformats.org/officeDocument/2006/relationships/hyperlink" Target="http://ccs.mit.edu/moc/" TargetMode="External"/><Relationship Id="rId4" Type="http://schemas.openxmlformats.org/officeDocument/2006/relationships/hyperlink" Target="http://ccs.mit.edu/moc/" TargetMode="External"/><Relationship Id="rId5" Type="http://schemas.openxmlformats.org/officeDocument/2006/relationships/hyperlink" Target="http://ccs.mit.edu/moc/" TargetMode="External"/><Relationship Id="rId6" Type="http://schemas.openxmlformats.org/officeDocument/2006/relationships/hyperlink" Target="http://ccs.mit.edu/moc/" TargetMode="External"/><Relationship Id="rId7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8.wmf"/><Relationship Id="rId3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3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0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Verdana"/>
              </a:rPr>
              <a:t>Módulo 3</a:t>
            </a:r>
            <a:br>
              <a:rPr sz="4000"/>
            </a:br>
            <a:r>
              <a:rPr b="0" lang="es-ES_tradnl" sz="4000" spc="-1" strike="noStrike">
                <a:solidFill>
                  <a:srgbClr val="000000"/>
                </a:solidFill>
                <a:latin typeface="Verdana"/>
              </a:rPr>
              <a:t>Análisis y Rediseño</a:t>
            </a:r>
            <a:br>
              <a:rPr sz="4000"/>
            </a:br>
            <a:r>
              <a:rPr b="0" lang="es-ES_tradnl" sz="4000" spc="-1" strike="noStrike">
                <a:solidFill>
                  <a:srgbClr val="000000"/>
                </a:solidFill>
                <a:latin typeface="Verdana"/>
              </a:rPr>
              <a:t>de Proceso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142640" y="3886200"/>
            <a:ext cx="701028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Departamento de Ingeniería Industria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Universidad de Chil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Derechos Reservados ©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Antonio Holgado S.M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El concepto de VALO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838080" y="1905120"/>
            <a:ext cx="7743960" cy="41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Metodologí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>
            <a:off x="3836880" y="1752480"/>
            <a:ext cx="1327320" cy="47808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3889440" y="1805040"/>
            <a:ext cx="12556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3955680" y="1846440"/>
            <a:ext cx="1032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odelo de Proc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1870200" y="2495520"/>
            <a:ext cx="5419440" cy="3506760"/>
          </a:xfrm>
          <a:prstGeom prst="ellipse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5854680" y="2762280"/>
            <a:ext cx="1434960" cy="47772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5854680" y="2814480"/>
            <a:ext cx="14349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6231960" y="2854440"/>
            <a:ext cx="744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. Entender l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5948640" y="3008160"/>
            <a:ext cx="1287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rquitectura del Servici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6280200" y="3665520"/>
            <a:ext cx="1326960" cy="47772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6459480" y="3718080"/>
            <a:ext cx="100800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6527880" y="3757680"/>
            <a:ext cx="904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. Caracterizar l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6533280" y="3911760"/>
            <a:ext cx="884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arga de Trabaj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6013440" y="4727520"/>
            <a:ext cx="1328760" cy="47772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6013440" y="4780080"/>
            <a:ext cx="131616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6319440" y="4821120"/>
            <a:ext cx="718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. Obtener l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6079680" y="4973760"/>
            <a:ext cx="1220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rámetros del Model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5483160" y="5524560"/>
            <a:ext cx="1327320" cy="47772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5477040" y="5576760"/>
            <a:ext cx="13204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5534640" y="5618160"/>
            <a:ext cx="1232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4. Predecir la Evolució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5569560" y="5770440"/>
            <a:ext cx="1160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e la Carga de Trabaj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1870200" y="5099040"/>
            <a:ext cx="1328760" cy="47772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1870200" y="5153040"/>
            <a:ext cx="13078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2089080" y="5192640"/>
            <a:ext cx="892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5. Desarrollar u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1936440" y="5345280"/>
            <a:ext cx="1213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odelo de Desempeñ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1498680" y="3878280"/>
            <a:ext cx="1328760" cy="47772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1498680" y="3930480"/>
            <a:ext cx="114300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1744200" y="3970440"/>
            <a:ext cx="672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6. Calibrar 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1565280" y="4122720"/>
            <a:ext cx="1038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Validar los Model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1924200" y="2762280"/>
            <a:ext cx="1326960" cy="47772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1924200" y="2814480"/>
            <a:ext cx="1341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2249640" y="2854440"/>
            <a:ext cx="707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7. Predecir e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1990800" y="3008160"/>
            <a:ext cx="1244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esempeño del Servici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4102200" y="4408560"/>
            <a:ext cx="1380960" cy="477720"/>
          </a:xfrm>
          <a:prstGeom prst="ellipse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4340160" y="4462560"/>
            <a:ext cx="98280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4485600" y="4502160"/>
            <a:ext cx="704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odelo de l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4401000" y="4654440"/>
            <a:ext cx="884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arga de Trabaj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3889440" y="3611520"/>
            <a:ext cx="71100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3974400" y="3651120"/>
            <a:ext cx="549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odelo 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3956040" y="3805200"/>
            <a:ext cx="601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esempeñ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3570120" y="3559320"/>
            <a:ext cx="1381320" cy="477720"/>
          </a:xfrm>
          <a:prstGeom prst="ellipse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 flipH="1">
            <a:off x="5322600" y="3903840"/>
            <a:ext cx="957240" cy="5508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5283360" y="4414680"/>
            <a:ext cx="72720" cy="60480"/>
          </a:xfrm>
          <a:custGeom>
            <a:avLst/>
            <a:gdLst/>
            <a:ahLst/>
            <a:rect l="l" t="t" r="r" b="b"/>
            <a:pathLst>
              <a:path w="46" h="38">
                <a:moveTo>
                  <a:pt x="25" y="0"/>
                </a:moveTo>
                <a:lnTo>
                  <a:pt x="0" y="38"/>
                </a:lnTo>
                <a:lnTo>
                  <a:pt x="46" y="38"/>
                </a:lnTo>
                <a:lnTo>
                  <a:pt x="2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 flipH="1" flipV="1">
            <a:off x="5528880" y="4667040"/>
            <a:ext cx="484200" cy="2919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5483160" y="4648320"/>
            <a:ext cx="79560" cy="66600"/>
          </a:xfrm>
          <a:custGeom>
            <a:avLst/>
            <a:gdLst/>
            <a:ahLst/>
            <a:rect l="l" t="t" r="r" b="b"/>
            <a:pathLst>
              <a:path w="50" h="42">
                <a:moveTo>
                  <a:pt x="50" y="4"/>
                </a:moveTo>
                <a:lnTo>
                  <a:pt x="0" y="0"/>
                </a:lnTo>
                <a:lnTo>
                  <a:pt x="29" y="42"/>
                </a:lnTo>
                <a:lnTo>
                  <a:pt x="50" y="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 flipH="1" flipV="1">
            <a:off x="4300200" y="4063680"/>
            <a:ext cx="492120" cy="3445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4260960" y="4037040"/>
            <a:ext cx="79200" cy="73080"/>
          </a:xfrm>
          <a:custGeom>
            <a:avLst/>
            <a:gdLst/>
            <a:ahLst/>
            <a:rect l="l" t="t" r="r" b="b"/>
            <a:pathLst>
              <a:path w="50" h="46">
                <a:moveTo>
                  <a:pt x="50" y="12"/>
                </a:moveTo>
                <a:lnTo>
                  <a:pt x="0" y="0"/>
                </a:lnTo>
                <a:lnTo>
                  <a:pt x="25" y="46"/>
                </a:lnTo>
                <a:lnTo>
                  <a:pt x="50" y="1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4819680" y="4925880"/>
            <a:ext cx="636480" cy="7970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4792680" y="4886280"/>
            <a:ext cx="73080" cy="81000"/>
          </a:xfrm>
          <a:custGeom>
            <a:avLst/>
            <a:gdLst/>
            <a:ahLst/>
            <a:rect l="l" t="t" r="r" b="b"/>
            <a:pathLst>
              <a:path w="46" h="51">
                <a:moveTo>
                  <a:pt x="46" y="25"/>
                </a:moveTo>
                <a:lnTo>
                  <a:pt x="0" y="0"/>
                </a:lnTo>
                <a:lnTo>
                  <a:pt x="12" y="51"/>
                </a:lnTo>
                <a:lnTo>
                  <a:pt x="46" y="2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5416560" y="5689440"/>
            <a:ext cx="66600" cy="73080"/>
          </a:xfrm>
          <a:custGeom>
            <a:avLst/>
            <a:gdLst/>
            <a:ahLst/>
            <a:rect l="l" t="t" r="r" b="b"/>
            <a:pathLst>
              <a:path w="42" h="46">
                <a:moveTo>
                  <a:pt x="0" y="26"/>
                </a:moveTo>
                <a:lnTo>
                  <a:pt x="42" y="46"/>
                </a:lnTo>
                <a:lnTo>
                  <a:pt x="33" y="0"/>
                </a:lnTo>
                <a:lnTo>
                  <a:pt x="0" y="2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 flipV="1">
            <a:off x="2535120" y="3997440"/>
            <a:ext cx="1201680" cy="11016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3697200" y="3970440"/>
            <a:ext cx="73080" cy="73080"/>
          </a:xfrm>
          <a:custGeom>
            <a:avLst/>
            <a:gdLst/>
            <a:ahLst/>
            <a:rect l="l" t="t" r="r" b="b"/>
            <a:pathLst>
              <a:path w="46" h="46">
                <a:moveTo>
                  <a:pt x="33" y="46"/>
                </a:moveTo>
                <a:lnTo>
                  <a:pt x="46" y="0"/>
                </a:lnTo>
                <a:lnTo>
                  <a:pt x="0" y="13"/>
                </a:lnTo>
                <a:lnTo>
                  <a:pt x="33" y="4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 flipH="1" flipV="1">
            <a:off x="3277800" y="3039840"/>
            <a:ext cx="492120" cy="5857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3251160" y="3000240"/>
            <a:ext cx="73080" cy="81000"/>
          </a:xfrm>
          <a:custGeom>
            <a:avLst/>
            <a:gdLst/>
            <a:ahLst/>
            <a:rect l="l" t="t" r="r" b="b"/>
            <a:pathLst>
              <a:path w="46" h="51">
                <a:moveTo>
                  <a:pt x="46" y="25"/>
                </a:moveTo>
                <a:lnTo>
                  <a:pt x="0" y="0"/>
                </a:lnTo>
                <a:lnTo>
                  <a:pt x="13" y="51"/>
                </a:lnTo>
                <a:lnTo>
                  <a:pt x="46" y="2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 flipV="1">
            <a:off x="2873520" y="3824280"/>
            <a:ext cx="650880" cy="2649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2827440" y="4056120"/>
            <a:ext cx="79200" cy="66600"/>
          </a:xfrm>
          <a:custGeom>
            <a:avLst/>
            <a:gdLst/>
            <a:ahLst/>
            <a:rect l="l" t="t" r="r" b="b"/>
            <a:pathLst>
              <a:path w="50" h="42">
                <a:moveTo>
                  <a:pt x="33" y="0"/>
                </a:moveTo>
                <a:lnTo>
                  <a:pt x="0" y="38"/>
                </a:lnTo>
                <a:lnTo>
                  <a:pt x="50" y="42"/>
                </a:lnTo>
                <a:lnTo>
                  <a:pt x="3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3497400" y="3797280"/>
            <a:ext cx="72720" cy="66600"/>
          </a:xfrm>
          <a:custGeom>
            <a:avLst/>
            <a:gdLst/>
            <a:ahLst/>
            <a:rect l="l" t="t" r="r" b="b"/>
            <a:pathLst>
              <a:path w="46" h="42">
                <a:moveTo>
                  <a:pt x="17" y="42"/>
                </a:moveTo>
                <a:lnTo>
                  <a:pt x="46" y="0"/>
                </a:lnTo>
                <a:lnTo>
                  <a:pt x="0" y="0"/>
                </a:lnTo>
                <a:lnTo>
                  <a:pt x="17" y="4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4260960" y="2230560"/>
            <a:ext cx="531720" cy="264960"/>
          </a:xfrm>
          <a:custGeom>
            <a:avLst/>
            <a:gdLst/>
            <a:ahLst/>
            <a:rect l="l" t="t" r="r" b="b"/>
            <a:pathLst>
              <a:path w="335" h="167">
                <a:moveTo>
                  <a:pt x="0" y="126"/>
                </a:moveTo>
                <a:lnTo>
                  <a:pt x="84" y="126"/>
                </a:lnTo>
                <a:lnTo>
                  <a:pt x="84" y="0"/>
                </a:lnTo>
                <a:lnTo>
                  <a:pt x="251" y="0"/>
                </a:lnTo>
                <a:lnTo>
                  <a:pt x="251" y="126"/>
                </a:lnTo>
                <a:lnTo>
                  <a:pt x="335" y="126"/>
                </a:lnTo>
                <a:lnTo>
                  <a:pt x="168" y="167"/>
                </a:lnTo>
                <a:lnTo>
                  <a:pt x="0" y="126"/>
                </a:lnTo>
                <a:close/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3836880" y="1752480"/>
            <a:ext cx="1327320" cy="47808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3889440" y="1805040"/>
            <a:ext cx="12556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4028760" y="1998720"/>
            <a:ext cx="32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3836880" y="1752480"/>
            <a:ext cx="1327320" cy="47808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3889440" y="1805040"/>
            <a:ext cx="12556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1870200" y="2495520"/>
            <a:ext cx="5419440" cy="3506760"/>
          </a:xfrm>
          <a:prstGeom prst="ellipse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5854680" y="2762280"/>
            <a:ext cx="1434960" cy="47772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5854680" y="2814480"/>
            <a:ext cx="14349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6231960" y="2854440"/>
            <a:ext cx="744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. Entender l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5948640" y="3008160"/>
            <a:ext cx="1287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rquitectura del Servici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5854680" y="2762280"/>
            <a:ext cx="1434960" cy="47772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5854680" y="2814480"/>
            <a:ext cx="14349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6232680" y="2854440"/>
            <a:ext cx="831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. Identificar l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5948640" y="3008160"/>
            <a:ext cx="1293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Variables de diseño y 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6280200" y="3665520"/>
            <a:ext cx="1326960" cy="47772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6459480" y="3718080"/>
            <a:ext cx="100800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6527880" y="3757680"/>
            <a:ext cx="904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. Caracterizar l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6533280" y="3911760"/>
            <a:ext cx="884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arga de Trabaj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6280200" y="3665520"/>
            <a:ext cx="1326960" cy="47772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6459480" y="3718080"/>
            <a:ext cx="100800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6527880" y="3757680"/>
            <a:ext cx="904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. Caracterizar l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6533280" y="3911760"/>
            <a:ext cx="884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arga de Trabaj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6013440" y="4727520"/>
            <a:ext cx="1328760" cy="47772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6013440" y="4780080"/>
            <a:ext cx="131616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6319440" y="4821120"/>
            <a:ext cx="718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. Obtener l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6079680" y="4973760"/>
            <a:ext cx="1220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rámetros del Model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6013440" y="4727520"/>
            <a:ext cx="1328760" cy="47772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6013440" y="4780080"/>
            <a:ext cx="131616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6319440" y="4821120"/>
            <a:ext cx="718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. Obtener l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6079680" y="4973760"/>
            <a:ext cx="1220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rámetros del Model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5483160" y="5524560"/>
            <a:ext cx="1327320" cy="47772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5477040" y="5576760"/>
            <a:ext cx="13204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5534640" y="5618160"/>
            <a:ext cx="1232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4. Predecir la Evolució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5569560" y="5770440"/>
            <a:ext cx="1160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e la Carga de Trabaj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5483160" y="5524560"/>
            <a:ext cx="1327320" cy="47772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5477040" y="5576760"/>
            <a:ext cx="13204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5534640" y="5618160"/>
            <a:ext cx="1232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4. Predecir la Evolució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5569560" y="5770440"/>
            <a:ext cx="1160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e la Carga de Trabaj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1870200" y="5099040"/>
            <a:ext cx="1328760" cy="47772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1870200" y="5153040"/>
            <a:ext cx="13078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2089080" y="5192640"/>
            <a:ext cx="892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5. Desarrollar u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1936440" y="5345280"/>
            <a:ext cx="1213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odelo de Desempeñ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1870200" y="5099040"/>
            <a:ext cx="1328760" cy="47772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1870200" y="5153040"/>
            <a:ext cx="13078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2089080" y="5192640"/>
            <a:ext cx="892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5. Desarrollar u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1936440" y="5345280"/>
            <a:ext cx="1213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odelo de Desempeñ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1498680" y="3878280"/>
            <a:ext cx="1328760" cy="47772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1498680" y="3930480"/>
            <a:ext cx="114300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1744200" y="3970440"/>
            <a:ext cx="672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6. Calibrar 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1565280" y="4122720"/>
            <a:ext cx="1038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Validar los Model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1498680" y="3878280"/>
            <a:ext cx="1328760" cy="47772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1498680" y="3930480"/>
            <a:ext cx="114300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1744200" y="3970440"/>
            <a:ext cx="648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6. Proyecta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1563840" y="4122720"/>
            <a:ext cx="1017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l desempeñ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1924200" y="2762280"/>
            <a:ext cx="1326960" cy="47772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1924200" y="2814480"/>
            <a:ext cx="1341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2249640" y="2854440"/>
            <a:ext cx="707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7. Predecir e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1990800" y="3008160"/>
            <a:ext cx="1244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esempeño del Servici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1924200" y="2762280"/>
            <a:ext cx="1326960" cy="47772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1924200" y="2814480"/>
            <a:ext cx="1341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2249280" y="2854440"/>
            <a:ext cx="65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7. Definir e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1988640" y="3008160"/>
            <a:ext cx="982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iseño fin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4102200" y="4408560"/>
            <a:ext cx="1380960" cy="477720"/>
          </a:xfrm>
          <a:prstGeom prst="ellipse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4340160" y="4462560"/>
            <a:ext cx="98280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4485600" y="4502160"/>
            <a:ext cx="704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odelo de l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4401000" y="4654440"/>
            <a:ext cx="884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arga de Trabaj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4102200" y="4408560"/>
            <a:ext cx="1380960" cy="477720"/>
          </a:xfrm>
          <a:prstGeom prst="ellipse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4340160" y="4462560"/>
            <a:ext cx="98280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4485600" y="4502160"/>
            <a:ext cx="704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odelo de l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4401000" y="4654440"/>
            <a:ext cx="884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arga de Trabaj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3889440" y="3611520"/>
            <a:ext cx="71100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3974400" y="3651120"/>
            <a:ext cx="549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odelo 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3956040" y="3805200"/>
            <a:ext cx="601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esempeñ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3570120" y="3559320"/>
            <a:ext cx="1381320" cy="477720"/>
          </a:xfrm>
          <a:prstGeom prst="ellipse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3889440" y="3611520"/>
            <a:ext cx="71100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3974400" y="3651120"/>
            <a:ext cx="549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odelo 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3956040" y="3805200"/>
            <a:ext cx="601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esempeñ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3570120" y="3559320"/>
            <a:ext cx="1381320" cy="477720"/>
          </a:xfrm>
          <a:prstGeom prst="ellipse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 flipH="1">
            <a:off x="5322600" y="3903840"/>
            <a:ext cx="957240" cy="5508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5283360" y="4414680"/>
            <a:ext cx="72720" cy="60480"/>
          </a:xfrm>
          <a:custGeom>
            <a:avLst/>
            <a:gdLst/>
            <a:ahLst/>
            <a:rect l="l" t="t" r="r" b="b"/>
            <a:pathLst>
              <a:path w="46" h="38">
                <a:moveTo>
                  <a:pt x="25" y="0"/>
                </a:moveTo>
                <a:lnTo>
                  <a:pt x="0" y="38"/>
                </a:lnTo>
                <a:lnTo>
                  <a:pt x="46" y="38"/>
                </a:lnTo>
                <a:lnTo>
                  <a:pt x="2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 flipH="1" flipV="1">
            <a:off x="5528880" y="4667040"/>
            <a:ext cx="484200" cy="2919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5483160" y="4648320"/>
            <a:ext cx="79560" cy="66600"/>
          </a:xfrm>
          <a:custGeom>
            <a:avLst/>
            <a:gdLst/>
            <a:ahLst/>
            <a:rect l="l" t="t" r="r" b="b"/>
            <a:pathLst>
              <a:path w="50" h="42">
                <a:moveTo>
                  <a:pt x="50" y="4"/>
                </a:moveTo>
                <a:lnTo>
                  <a:pt x="0" y="0"/>
                </a:lnTo>
                <a:lnTo>
                  <a:pt x="29" y="42"/>
                </a:lnTo>
                <a:lnTo>
                  <a:pt x="50" y="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 flipH="1" flipV="1">
            <a:off x="4300200" y="4063680"/>
            <a:ext cx="492120" cy="3445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4260960" y="4037040"/>
            <a:ext cx="79200" cy="73080"/>
          </a:xfrm>
          <a:custGeom>
            <a:avLst/>
            <a:gdLst/>
            <a:ahLst/>
            <a:rect l="l" t="t" r="r" b="b"/>
            <a:pathLst>
              <a:path w="50" h="46">
                <a:moveTo>
                  <a:pt x="50" y="12"/>
                </a:moveTo>
                <a:lnTo>
                  <a:pt x="0" y="0"/>
                </a:lnTo>
                <a:lnTo>
                  <a:pt x="25" y="46"/>
                </a:lnTo>
                <a:lnTo>
                  <a:pt x="50" y="1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4819680" y="4925880"/>
            <a:ext cx="636480" cy="7970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4792680" y="4886280"/>
            <a:ext cx="73080" cy="81000"/>
          </a:xfrm>
          <a:custGeom>
            <a:avLst/>
            <a:gdLst/>
            <a:ahLst/>
            <a:rect l="l" t="t" r="r" b="b"/>
            <a:pathLst>
              <a:path w="46" h="51">
                <a:moveTo>
                  <a:pt x="46" y="25"/>
                </a:moveTo>
                <a:lnTo>
                  <a:pt x="0" y="0"/>
                </a:lnTo>
                <a:lnTo>
                  <a:pt x="12" y="51"/>
                </a:lnTo>
                <a:lnTo>
                  <a:pt x="46" y="2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5416560" y="5689440"/>
            <a:ext cx="66600" cy="73080"/>
          </a:xfrm>
          <a:custGeom>
            <a:avLst/>
            <a:gdLst/>
            <a:ahLst/>
            <a:rect l="l" t="t" r="r" b="b"/>
            <a:pathLst>
              <a:path w="42" h="46">
                <a:moveTo>
                  <a:pt x="0" y="26"/>
                </a:moveTo>
                <a:lnTo>
                  <a:pt x="42" y="46"/>
                </a:lnTo>
                <a:lnTo>
                  <a:pt x="33" y="0"/>
                </a:lnTo>
                <a:lnTo>
                  <a:pt x="0" y="2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 flipV="1">
            <a:off x="2535120" y="3997440"/>
            <a:ext cx="1201680" cy="11016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3697200" y="3970440"/>
            <a:ext cx="73080" cy="73080"/>
          </a:xfrm>
          <a:custGeom>
            <a:avLst/>
            <a:gdLst/>
            <a:ahLst/>
            <a:rect l="l" t="t" r="r" b="b"/>
            <a:pathLst>
              <a:path w="46" h="46">
                <a:moveTo>
                  <a:pt x="33" y="46"/>
                </a:moveTo>
                <a:lnTo>
                  <a:pt x="46" y="0"/>
                </a:lnTo>
                <a:lnTo>
                  <a:pt x="0" y="13"/>
                </a:lnTo>
                <a:lnTo>
                  <a:pt x="33" y="4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 flipH="1" flipV="1">
            <a:off x="3277800" y="3039840"/>
            <a:ext cx="492120" cy="5857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3251160" y="3000240"/>
            <a:ext cx="73080" cy="81000"/>
          </a:xfrm>
          <a:custGeom>
            <a:avLst/>
            <a:gdLst/>
            <a:ahLst/>
            <a:rect l="l" t="t" r="r" b="b"/>
            <a:pathLst>
              <a:path w="46" h="51">
                <a:moveTo>
                  <a:pt x="46" y="25"/>
                </a:moveTo>
                <a:lnTo>
                  <a:pt x="0" y="0"/>
                </a:lnTo>
                <a:lnTo>
                  <a:pt x="13" y="51"/>
                </a:lnTo>
                <a:lnTo>
                  <a:pt x="46" y="2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 flipV="1">
            <a:off x="2873520" y="3824280"/>
            <a:ext cx="650880" cy="2649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2827440" y="4056120"/>
            <a:ext cx="79200" cy="66600"/>
          </a:xfrm>
          <a:custGeom>
            <a:avLst/>
            <a:gdLst/>
            <a:ahLst/>
            <a:rect l="l" t="t" r="r" b="b"/>
            <a:pathLst>
              <a:path w="50" h="42">
                <a:moveTo>
                  <a:pt x="33" y="0"/>
                </a:moveTo>
                <a:lnTo>
                  <a:pt x="0" y="38"/>
                </a:lnTo>
                <a:lnTo>
                  <a:pt x="50" y="42"/>
                </a:lnTo>
                <a:lnTo>
                  <a:pt x="3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3497400" y="3797280"/>
            <a:ext cx="72720" cy="66600"/>
          </a:xfrm>
          <a:custGeom>
            <a:avLst/>
            <a:gdLst/>
            <a:ahLst/>
            <a:rect l="l" t="t" r="r" b="b"/>
            <a:pathLst>
              <a:path w="46" h="42">
                <a:moveTo>
                  <a:pt x="17" y="42"/>
                </a:moveTo>
                <a:lnTo>
                  <a:pt x="46" y="0"/>
                </a:lnTo>
                <a:lnTo>
                  <a:pt x="0" y="0"/>
                </a:lnTo>
                <a:lnTo>
                  <a:pt x="17" y="4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4260960" y="2230560"/>
            <a:ext cx="531720" cy="264960"/>
          </a:xfrm>
          <a:custGeom>
            <a:avLst/>
            <a:gdLst/>
            <a:ahLst/>
            <a:rect l="l" t="t" r="r" b="b"/>
            <a:pathLst>
              <a:path w="335" h="167">
                <a:moveTo>
                  <a:pt x="0" y="126"/>
                </a:moveTo>
                <a:lnTo>
                  <a:pt x="84" y="126"/>
                </a:lnTo>
                <a:lnTo>
                  <a:pt x="84" y="0"/>
                </a:lnTo>
                <a:lnTo>
                  <a:pt x="251" y="0"/>
                </a:lnTo>
                <a:lnTo>
                  <a:pt x="251" y="126"/>
                </a:lnTo>
                <a:lnTo>
                  <a:pt x="335" y="126"/>
                </a:lnTo>
                <a:lnTo>
                  <a:pt x="168" y="167"/>
                </a:lnTo>
                <a:lnTo>
                  <a:pt x="0" y="126"/>
                </a:lnTo>
                <a:close/>
              </a:path>
            </a:pathLst>
          </a:custGeom>
          <a:solidFill>
            <a:srgbClr val="ffff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Definición de niveles de servici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spcBef>
                <a:spcPts val="825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000000"/>
                </a:solidFill>
                <a:latin typeface="Verdana"/>
              </a:rPr>
              <a:t>Niveles de Servicio</a:t>
            </a:r>
            <a:r>
              <a:rPr b="0" lang="es-ES_tradnl" sz="3300" spc="-1" strike="noStrike">
                <a:solidFill>
                  <a:srgbClr val="000000"/>
                </a:solidFill>
                <a:latin typeface="Verdana"/>
              </a:rPr>
              <a:t>: representa la definición de aquellos indicadores de calidad del proceso. 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Ejemplo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Tiempo de cic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Costo de producció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Número de errores generado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/>
          </p:nvPr>
        </p:nvSpPr>
        <p:spPr>
          <a:xfrm>
            <a:off x="611280" y="1773360"/>
            <a:ext cx="8353440" cy="4248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rresponde a los requerimientos que un determinado proceso recibe para ser procesado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jemplo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legadas de clientes u órden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olicitudes sobre un sistema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ransacciones sobre DB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a carga de trabajo puede ser analizada en componentes menores denominados </a:t>
            </a:r>
            <a:r>
              <a:rPr b="1" i="1" lang="en-US" sz="2600" spc="-1" strike="noStrike">
                <a:solidFill>
                  <a:srgbClr val="000000"/>
                </a:solidFill>
                <a:latin typeface="Verdana"/>
              </a:rPr>
              <a:t>componentes básicos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Carga de trabaj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Componentes básic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8577360" cy="23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550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Corresponden a aquellos elementos mínimos necesarios para analizar sus características (frecuencia, intensidad, estacionalidad, etc.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Ejemplos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759" name=""/>
          <p:cNvGraphicFramePr/>
          <p:nvPr/>
        </p:nvGraphicFramePr>
        <p:xfrm>
          <a:off x="1116000" y="3429000"/>
          <a:ext cx="7416720" cy="2097000"/>
        </p:xfrm>
        <a:graphic>
          <a:graphicData uri="http://schemas.openxmlformats.org/drawingml/2006/table">
            <a:tbl>
              <a:tblPr/>
              <a:tblGrid>
                <a:gridCol w="3710160"/>
                <a:gridCol w="3706560"/>
              </a:tblGrid>
              <a:tr h="453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mponente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1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mponente Básico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olicitud de Sald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dentificac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cceso a BD (consulta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misión de resultad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scripción de Ram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nsultas de Disponibilida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nálisis de Factibilidad y Priorida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scripción final (registrar los curso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000000"/>
                </a:solidFill>
                <a:latin typeface="Verdana"/>
              </a:rPr>
              <a:t>Parámetros de la Carga de Trabajo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3264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Corresponde a la caracterización, a través de un modelo, de las características relevantes que describen la carga de trabajo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Parámetros de Intensid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número de mensajes enviados/hora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número de llegas de clientes/min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Parámetros de Servici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Largo promedio del mensaj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Tiempo promedio de atención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2" name=""/>
          <p:cNvGraphicFramePr/>
          <p:nvPr/>
        </p:nvGraphicFramePr>
        <p:xfrm>
          <a:off x="1906560" y="1820880"/>
          <a:ext cx="5756400" cy="4167000"/>
        </p:xfrm>
        <a:graphic>
          <a:graphicData uri="http://schemas.openxmlformats.org/presentationml/2006/ole">
            <p:oleObj progId="PowerPoint.Show.12" r:id="rId2" spid="">
              <p:embed/>
              <p:pic>
                <p:nvPicPr>
                  <p:cNvPr id="76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06560" y="1820880"/>
                    <a:ext cx="5756400" cy="416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¿Cómo medir los parámetros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000000"/>
                </a:solidFill>
                <a:latin typeface="Verdana"/>
              </a:rPr>
              <a:t>Proyección de la Carga de Trabajo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8253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Corresponde a definir la evolución futura de los parámetros de la carga de trabajo dentro de los períodos relevantes de análisi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Método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Recopilación de antecedentes (datos, planes estratégicos, competencia, etc)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Uso de metodologías de pronóstico (regresión lineal, promedios móviles, ajuste exponencial, etc.) ajustados por planes estratégico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"/>
          <p:cNvSpPr/>
          <p:nvPr/>
        </p:nvSpPr>
        <p:spPr>
          <a:xfrm>
            <a:off x="755640" y="2312640"/>
            <a:ext cx="76201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Verdana"/>
              </a:rPr>
              <a:t>Definición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: Un Call Center es una Plataforma Tecnológica que permite administrar un Centro de Llamados en forma óptima, tanto en sus funciones InBound (Comunicación de los clientes hacia la empresa: requerimientos de información, reclamos y otras inquietudes comerciales) como OutBound (Comunicación de la empresa a los clientes: Campañas de venta, fidelización, promociones, et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8" name=""/>
          <p:cNvGraphicFramePr/>
          <p:nvPr/>
        </p:nvGraphicFramePr>
        <p:xfrm>
          <a:off x="7524720" y="189000"/>
          <a:ext cx="1279440" cy="1314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6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524720" y="189000"/>
                    <a:ext cx="1279440" cy="131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Ejemplo de un Call Cente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1" name=""/>
          <p:cNvGraphicFramePr/>
          <p:nvPr/>
        </p:nvGraphicFramePr>
        <p:xfrm>
          <a:off x="7667640" y="333360"/>
          <a:ext cx="1206360" cy="1238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7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67640" y="333360"/>
                    <a:ext cx="1206360" cy="123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Beneficios de un Call Cente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425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Verdana"/>
              </a:rPr>
              <a:t>Disminución del costo de transacción por automatización de funcione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25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Verdana"/>
              </a:rPr>
              <a:t>Permite ampliar la cobertura, racionalizando recursos (disminución de tiempos de espera, N° de líneas de entrada mayor N° de agentes, IVR)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25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Verdana"/>
              </a:rPr>
              <a:t>Facilita la individualización de los consumidores (en llamados realizados y transferidos)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25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Verdana"/>
              </a:rPr>
              <a:t>Provee información en tiempo real y reportes del funcionamiento del sistema (predicciones de flujo de llamados, determinación de picks)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25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Verdana"/>
              </a:rPr>
              <a:t>Realiza una distribución inteligente de llamadas entre los distintos grupos de agentes optimizando el flujo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25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Verdana"/>
              </a:rPr>
              <a:t>Dispone de herramientas para control de agentes (monitoreo de puestos de trabajo y grabación de llamadas)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5" name="" descr=""/>
          <p:cNvPicPr/>
          <p:nvPr/>
        </p:nvPicPr>
        <p:blipFill>
          <a:blip r:embed="rId2"/>
          <a:stretch/>
        </p:blipFill>
        <p:spPr>
          <a:xfrm>
            <a:off x="2252520" y="2133720"/>
            <a:ext cx="5267520" cy="3809880"/>
          </a:xfrm>
          <a:prstGeom prst="rect">
            <a:avLst/>
          </a:prstGeom>
          <a:ln w="0">
            <a:noFill/>
          </a:ln>
        </p:spPr>
      </p:pic>
      <p:sp>
        <p:nvSpPr>
          <p:cNvPr id="776" name=""/>
          <p:cNvSpPr/>
          <p:nvPr/>
        </p:nvSpPr>
        <p:spPr>
          <a:xfrm>
            <a:off x="183600" y="5013360"/>
            <a:ext cx="18374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00"/>
                </a:solidFill>
                <a:latin typeface="Times New Roman"/>
              </a:rPr>
              <a:t>AC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00"/>
                </a:solidFill>
                <a:latin typeface="Times New Roman"/>
              </a:rPr>
              <a:t>Sistema de Contr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s-ES_tradnl" sz="1600" spc="-1" strike="noStrike">
                <a:solidFill>
                  <a:srgbClr val="ff0000"/>
                </a:solidFill>
                <a:latin typeface="Times New Roman"/>
              </a:rPr>
              <a:t>de Llamadas</a:t>
            </a:r>
            <a:r>
              <a:rPr b="1" lang="es-ES_tradnl" sz="2400" spc="-1" strike="noStrike">
                <a:solidFill>
                  <a:srgbClr val="ff0000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 flipV="1">
            <a:off x="1692360" y="5078520"/>
            <a:ext cx="1363680" cy="79200"/>
          </a:xfrm>
          <a:prstGeom prst="line">
            <a:avLst/>
          </a:prstGeom>
          <a:ln w="63360">
            <a:solidFill>
              <a:srgbClr val="ff0000"/>
            </a:solidFill>
            <a:miter/>
            <a:tailEnd len="lg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2598840" y="4392720"/>
            <a:ext cx="1523880" cy="1371600"/>
          </a:xfrm>
          <a:prstGeom prst="ellipse">
            <a:avLst/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Component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780" name=""/>
          <p:cNvGrpSpPr/>
          <p:nvPr/>
        </p:nvGrpSpPr>
        <p:grpSpPr>
          <a:xfrm>
            <a:off x="4124160" y="2205000"/>
            <a:ext cx="4669200" cy="1569240"/>
            <a:chOff x="4124160" y="2205000"/>
            <a:chExt cx="4669200" cy="1569240"/>
          </a:xfrm>
        </p:grpSpPr>
        <p:sp>
          <p:nvSpPr>
            <p:cNvPr id="781" name=""/>
            <p:cNvSpPr/>
            <p:nvPr/>
          </p:nvSpPr>
          <p:spPr>
            <a:xfrm>
              <a:off x="7131240" y="2950200"/>
              <a:ext cx="16621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0000"/>
                  </a:solidFill>
                  <a:latin typeface="Times New Roman"/>
                </a:rPr>
                <a:t>IV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0000"/>
                  </a:solidFill>
                  <a:latin typeface="Times New Roman"/>
                </a:rPr>
                <a:t>Interactive Voi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ff0000"/>
                  </a:solidFill>
                  <a:latin typeface="Times New Roman"/>
                </a:rPr>
                <a:t>Respons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 flipH="1" flipV="1">
              <a:off x="5123160" y="2790360"/>
              <a:ext cx="2442240" cy="318960"/>
            </a:xfrm>
            <a:prstGeom prst="line">
              <a:avLst/>
            </a:prstGeom>
            <a:ln w="63360">
              <a:solidFill>
                <a:srgbClr val="ff0000"/>
              </a:solidFill>
              <a:miter/>
              <a:tailEnd len="lg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4124160" y="2205000"/>
              <a:ext cx="1110240" cy="957600"/>
            </a:xfrm>
            <a:prstGeom prst="ellipse">
              <a:avLst/>
            </a:prstGeom>
            <a:noFill/>
            <a:ln w="63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4" name=""/>
          <p:cNvSpPr/>
          <p:nvPr/>
        </p:nvSpPr>
        <p:spPr>
          <a:xfrm>
            <a:off x="2556000" y="3141720"/>
            <a:ext cx="1523880" cy="1371600"/>
          </a:xfrm>
          <a:prstGeom prst="ellipse">
            <a:avLst/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253080" y="3661920"/>
            <a:ext cx="200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00"/>
                </a:solidFill>
                <a:latin typeface="Times New Roman"/>
              </a:rPr>
              <a:t>Marcador Predictiv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8432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100" spc="-1" strike="noStrike">
                <a:solidFill>
                  <a:srgbClr val="000000"/>
                </a:solidFill>
                <a:latin typeface="Tahoma"/>
              </a:rPr>
              <a:t>Algunas Actividades de la Cadena de Valor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886040"/>
            <a:ext cx="8077320" cy="42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36680" indent="-4366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Verdana"/>
              </a:rPr>
              <a:t>Logística de Entrada y Salida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213560" indent="-367560">
              <a:spcBef>
                <a:spcPts val="550"/>
              </a:spcBef>
              <a:buClr>
                <a:srgbClr val="cc0000"/>
              </a:buClr>
              <a:buSzPct val="5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Administración de flota (medio, cuantos, rutas, flujos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213560" indent="-367560">
              <a:spcBef>
                <a:spcPts val="550"/>
              </a:spcBef>
              <a:buClr>
                <a:srgbClr val="cc0000"/>
              </a:buClr>
              <a:buSzPct val="5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Bodegas (ubicación, tamaño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36680" indent="-4366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Verdana"/>
              </a:rPr>
              <a:t>Operacione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213560" indent="-367560">
              <a:spcBef>
                <a:spcPts val="550"/>
              </a:spcBef>
              <a:buClr>
                <a:srgbClr val="cc0000"/>
              </a:buClr>
              <a:buSzPct val="5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Planificación de la producció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213560" indent="-367560">
              <a:spcBef>
                <a:spcPts val="550"/>
              </a:spcBef>
              <a:buClr>
                <a:srgbClr val="cc0000"/>
              </a:buClr>
              <a:buSzPct val="5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Diseño de equipos de trabaj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213560" indent="-367560">
              <a:spcBef>
                <a:spcPts val="550"/>
              </a:spcBef>
              <a:buClr>
                <a:srgbClr val="cc0000"/>
              </a:buClr>
              <a:buSzPct val="5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Configuración de proceso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36680" indent="-4366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Verdana"/>
              </a:rPr>
              <a:t>Marketing y Venta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213560" indent="-367560">
              <a:spcBef>
                <a:spcPts val="550"/>
              </a:spcBef>
              <a:buClr>
                <a:srgbClr val="cc0000"/>
              </a:buClr>
              <a:buSzPct val="5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Pronósticos de venta, Análisis de Dato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213560" indent="-367560">
              <a:spcBef>
                <a:spcPts val="550"/>
              </a:spcBef>
              <a:buClr>
                <a:srgbClr val="cc0000"/>
              </a:buClr>
              <a:buSzPct val="5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Diseño de productos y campaña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213560" indent="-367560">
              <a:spcBef>
                <a:spcPts val="550"/>
              </a:spcBef>
              <a:buClr>
                <a:srgbClr val="cc0000"/>
              </a:buClr>
              <a:buSzPct val="5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Servicio al client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74560" y="304920"/>
            <a:ext cx="824544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all Center en un Banc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8253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n banco ha instalado un Call Center para atender a sus clientes y potenciales client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l banco desea determinar cuántas líneas debe dedicar a cada uno de los clientes o si debe atenderlos con los mismos ejecutivos de cuent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 ha estudiado que cuánto más publicidad se realiza, mayor es el número de potenciales clientes que llaman al Banco, así como se incrementa el número de llamadas maliciosa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¿Cómo se podría caracterizar la carga de trabajo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74560" y="304920"/>
            <a:ext cx="824544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Verdana"/>
              </a:rPr>
              <a:t>Carga de Trabajo del Call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 Cente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76057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Distintos tipos de clientes (antiguos, nuevos y otros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ada cliente tiene diferentes tiempos de atención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ente antiguo: realiza operaciones bancarias con el ejecutivo y posiblemente un trabajo adicional para el ejecutivo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ente nuevo: se realiza un proceso de venta, explicando las ventajas del nuevo sistema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Llamadas maliciosas: rápidamente son descartada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Diferentes etapas de atención (ACD y ACW)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Estimación de la Carga de Trabajo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856800" y="1915920"/>
            <a:ext cx="7699320" cy="387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 estimo el tiempo entre llamadas de clientes antiguos y nuevo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ara el caso de otras llamadas, se estimó como un porcentaje de las llamadas de clientes nuevo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 ajustaron curvas (exponenciales) de los tiempos entre llamadas para los diferentes clientes (ajuste sobe un 90% de confiabilidad)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000000"/>
                </a:solidFill>
                <a:latin typeface="Verdana"/>
              </a:rPr>
              <a:t>Proyección de la Carga de Trabajo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El trabajo fue realizado en una etapa inicial del servicio (3 meses de haber partido su operación)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En conversaciones con los ejecutivos se estimo que en los próximos 12 meses se debería ampliar la base de clientes por un factor de 10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Todo esto debía se monitoreado adecuadamente para ir tomando las decisiones anticipadament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Metodologí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5" name=""/>
          <p:cNvSpPr/>
          <p:nvPr/>
        </p:nvSpPr>
        <p:spPr>
          <a:xfrm>
            <a:off x="3836880" y="1752480"/>
            <a:ext cx="1327320" cy="47808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>
            <a:off x="3889440" y="1805040"/>
            <a:ext cx="12556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3955680" y="1846440"/>
            <a:ext cx="1032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odelo de Proc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1870200" y="2495520"/>
            <a:ext cx="5419440" cy="3506760"/>
          </a:xfrm>
          <a:prstGeom prst="ellipse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5854680" y="2762280"/>
            <a:ext cx="1434960" cy="47772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5854680" y="2814480"/>
            <a:ext cx="14349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6231960" y="2854440"/>
            <a:ext cx="744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. Entender l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5948640" y="3008160"/>
            <a:ext cx="1287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rquitectura del Servici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6280200" y="3665520"/>
            <a:ext cx="1326960" cy="47772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6459480" y="3718080"/>
            <a:ext cx="100800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6527880" y="3757680"/>
            <a:ext cx="904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. Caracterizar l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6533280" y="3911760"/>
            <a:ext cx="884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arga de Trabaj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6013440" y="4727520"/>
            <a:ext cx="1328760" cy="47772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6013440" y="4780080"/>
            <a:ext cx="131616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6319440" y="4821120"/>
            <a:ext cx="718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. Obtener l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6079680" y="4973760"/>
            <a:ext cx="1220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rámetros del Model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5483160" y="5524560"/>
            <a:ext cx="1327320" cy="47772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5477040" y="5576760"/>
            <a:ext cx="13204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5534640" y="5618160"/>
            <a:ext cx="1232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4. Predecir la Evolució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5569560" y="5770440"/>
            <a:ext cx="1160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e la Carga de Trabaj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1870200" y="5099040"/>
            <a:ext cx="1328760" cy="47772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1870200" y="5153040"/>
            <a:ext cx="13078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2089080" y="5192640"/>
            <a:ext cx="892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5. Desarrollar u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1936440" y="5345280"/>
            <a:ext cx="1213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odelo de Desempeñ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1498680" y="3878280"/>
            <a:ext cx="1328760" cy="47772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1498680" y="3930480"/>
            <a:ext cx="114300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1744200" y="3970440"/>
            <a:ext cx="672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6. Calibrar 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1565280" y="4122720"/>
            <a:ext cx="1038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Validar los Model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1924200" y="2762280"/>
            <a:ext cx="1326960" cy="47772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1924200" y="2814480"/>
            <a:ext cx="1341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2249640" y="2854440"/>
            <a:ext cx="707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7. Predecir e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1990800" y="3008160"/>
            <a:ext cx="1244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esempeño del Servici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4102200" y="4408560"/>
            <a:ext cx="1380960" cy="477720"/>
          </a:xfrm>
          <a:prstGeom prst="ellipse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4340160" y="4462560"/>
            <a:ext cx="98280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4485600" y="4502160"/>
            <a:ext cx="704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odelo de l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4401000" y="4654440"/>
            <a:ext cx="884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arga de Trabaj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3889440" y="3611520"/>
            <a:ext cx="71100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3974400" y="3651120"/>
            <a:ext cx="549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odelo 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3956040" y="3805200"/>
            <a:ext cx="601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esempeñ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3570120" y="3559320"/>
            <a:ext cx="1381320" cy="477720"/>
          </a:xfrm>
          <a:prstGeom prst="ellipse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 flipH="1">
            <a:off x="5322600" y="3903840"/>
            <a:ext cx="957240" cy="5508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5283360" y="4414680"/>
            <a:ext cx="72720" cy="60480"/>
          </a:xfrm>
          <a:custGeom>
            <a:avLst/>
            <a:gdLst/>
            <a:ahLst/>
            <a:rect l="l" t="t" r="r" b="b"/>
            <a:pathLst>
              <a:path w="46" h="38">
                <a:moveTo>
                  <a:pt x="25" y="0"/>
                </a:moveTo>
                <a:lnTo>
                  <a:pt x="0" y="38"/>
                </a:lnTo>
                <a:lnTo>
                  <a:pt x="46" y="38"/>
                </a:lnTo>
                <a:lnTo>
                  <a:pt x="2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 flipH="1" flipV="1">
            <a:off x="5528880" y="4667040"/>
            <a:ext cx="484200" cy="2919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5483160" y="4648320"/>
            <a:ext cx="79560" cy="66600"/>
          </a:xfrm>
          <a:custGeom>
            <a:avLst/>
            <a:gdLst/>
            <a:ahLst/>
            <a:rect l="l" t="t" r="r" b="b"/>
            <a:pathLst>
              <a:path w="50" h="42">
                <a:moveTo>
                  <a:pt x="50" y="4"/>
                </a:moveTo>
                <a:lnTo>
                  <a:pt x="0" y="0"/>
                </a:lnTo>
                <a:lnTo>
                  <a:pt x="29" y="42"/>
                </a:lnTo>
                <a:lnTo>
                  <a:pt x="50" y="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 flipH="1" flipV="1">
            <a:off x="4300200" y="4063680"/>
            <a:ext cx="492120" cy="3445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4260960" y="4037040"/>
            <a:ext cx="79200" cy="73080"/>
          </a:xfrm>
          <a:custGeom>
            <a:avLst/>
            <a:gdLst/>
            <a:ahLst/>
            <a:rect l="l" t="t" r="r" b="b"/>
            <a:pathLst>
              <a:path w="50" h="46">
                <a:moveTo>
                  <a:pt x="50" y="12"/>
                </a:moveTo>
                <a:lnTo>
                  <a:pt x="0" y="0"/>
                </a:lnTo>
                <a:lnTo>
                  <a:pt x="25" y="46"/>
                </a:lnTo>
                <a:lnTo>
                  <a:pt x="50" y="1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4819680" y="4925880"/>
            <a:ext cx="636480" cy="7970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4792680" y="4886280"/>
            <a:ext cx="73080" cy="81000"/>
          </a:xfrm>
          <a:custGeom>
            <a:avLst/>
            <a:gdLst/>
            <a:ahLst/>
            <a:rect l="l" t="t" r="r" b="b"/>
            <a:pathLst>
              <a:path w="46" h="51">
                <a:moveTo>
                  <a:pt x="46" y="25"/>
                </a:moveTo>
                <a:lnTo>
                  <a:pt x="0" y="0"/>
                </a:lnTo>
                <a:lnTo>
                  <a:pt x="12" y="51"/>
                </a:lnTo>
                <a:lnTo>
                  <a:pt x="46" y="2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5416560" y="5689440"/>
            <a:ext cx="66600" cy="73080"/>
          </a:xfrm>
          <a:custGeom>
            <a:avLst/>
            <a:gdLst/>
            <a:ahLst/>
            <a:rect l="l" t="t" r="r" b="b"/>
            <a:pathLst>
              <a:path w="42" h="46">
                <a:moveTo>
                  <a:pt x="0" y="26"/>
                </a:moveTo>
                <a:lnTo>
                  <a:pt x="42" y="46"/>
                </a:lnTo>
                <a:lnTo>
                  <a:pt x="33" y="0"/>
                </a:lnTo>
                <a:lnTo>
                  <a:pt x="0" y="2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 flipV="1">
            <a:off x="2535120" y="3997440"/>
            <a:ext cx="1201680" cy="11016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3697200" y="3970440"/>
            <a:ext cx="73080" cy="73080"/>
          </a:xfrm>
          <a:custGeom>
            <a:avLst/>
            <a:gdLst/>
            <a:ahLst/>
            <a:rect l="l" t="t" r="r" b="b"/>
            <a:pathLst>
              <a:path w="46" h="46">
                <a:moveTo>
                  <a:pt x="33" y="46"/>
                </a:moveTo>
                <a:lnTo>
                  <a:pt x="46" y="0"/>
                </a:lnTo>
                <a:lnTo>
                  <a:pt x="0" y="13"/>
                </a:lnTo>
                <a:lnTo>
                  <a:pt x="33" y="4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 flipH="1" flipV="1">
            <a:off x="3277800" y="3039840"/>
            <a:ext cx="492120" cy="5857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3251160" y="3000240"/>
            <a:ext cx="73080" cy="81000"/>
          </a:xfrm>
          <a:custGeom>
            <a:avLst/>
            <a:gdLst/>
            <a:ahLst/>
            <a:rect l="l" t="t" r="r" b="b"/>
            <a:pathLst>
              <a:path w="46" h="51">
                <a:moveTo>
                  <a:pt x="46" y="25"/>
                </a:moveTo>
                <a:lnTo>
                  <a:pt x="0" y="0"/>
                </a:lnTo>
                <a:lnTo>
                  <a:pt x="13" y="51"/>
                </a:lnTo>
                <a:lnTo>
                  <a:pt x="46" y="2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 flipV="1">
            <a:off x="2873520" y="3824280"/>
            <a:ext cx="650880" cy="2649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2827440" y="4056120"/>
            <a:ext cx="79200" cy="66600"/>
          </a:xfrm>
          <a:custGeom>
            <a:avLst/>
            <a:gdLst/>
            <a:ahLst/>
            <a:rect l="l" t="t" r="r" b="b"/>
            <a:pathLst>
              <a:path w="50" h="42">
                <a:moveTo>
                  <a:pt x="33" y="0"/>
                </a:moveTo>
                <a:lnTo>
                  <a:pt x="0" y="38"/>
                </a:lnTo>
                <a:lnTo>
                  <a:pt x="50" y="42"/>
                </a:lnTo>
                <a:lnTo>
                  <a:pt x="3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3497400" y="3797280"/>
            <a:ext cx="72720" cy="66600"/>
          </a:xfrm>
          <a:custGeom>
            <a:avLst/>
            <a:gdLst/>
            <a:ahLst/>
            <a:rect l="l" t="t" r="r" b="b"/>
            <a:pathLst>
              <a:path w="46" h="42">
                <a:moveTo>
                  <a:pt x="17" y="42"/>
                </a:moveTo>
                <a:lnTo>
                  <a:pt x="46" y="0"/>
                </a:lnTo>
                <a:lnTo>
                  <a:pt x="0" y="0"/>
                </a:lnTo>
                <a:lnTo>
                  <a:pt x="17" y="4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4260960" y="2230560"/>
            <a:ext cx="531720" cy="264960"/>
          </a:xfrm>
          <a:custGeom>
            <a:avLst/>
            <a:gdLst/>
            <a:ahLst/>
            <a:rect l="l" t="t" r="r" b="b"/>
            <a:pathLst>
              <a:path w="335" h="167">
                <a:moveTo>
                  <a:pt x="0" y="126"/>
                </a:moveTo>
                <a:lnTo>
                  <a:pt x="84" y="126"/>
                </a:lnTo>
                <a:lnTo>
                  <a:pt x="84" y="0"/>
                </a:lnTo>
                <a:lnTo>
                  <a:pt x="251" y="0"/>
                </a:lnTo>
                <a:lnTo>
                  <a:pt x="251" y="126"/>
                </a:lnTo>
                <a:lnTo>
                  <a:pt x="335" y="126"/>
                </a:lnTo>
                <a:lnTo>
                  <a:pt x="168" y="167"/>
                </a:lnTo>
                <a:lnTo>
                  <a:pt x="0" y="126"/>
                </a:lnTo>
                <a:close/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3836880" y="1752480"/>
            <a:ext cx="1327320" cy="47808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3889440" y="1805040"/>
            <a:ext cx="12556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4028760" y="1998720"/>
            <a:ext cx="32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3836880" y="1752480"/>
            <a:ext cx="1327320" cy="47808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3889440" y="1805040"/>
            <a:ext cx="12556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1870200" y="2495520"/>
            <a:ext cx="5419440" cy="3506760"/>
          </a:xfrm>
          <a:prstGeom prst="ellipse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5854680" y="2762280"/>
            <a:ext cx="1434960" cy="47772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5854680" y="2814480"/>
            <a:ext cx="14349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6231960" y="2854440"/>
            <a:ext cx="744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. Entender l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5948640" y="3008160"/>
            <a:ext cx="1287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rquitectura del Servici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5854680" y="2762280"/>
            <a:ext cx="1434960" cy="47772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5854680" y="2814480"/>
            <a:ext cx="14349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6232680" y="2854440"/>
            <a:ext cx="831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. Identificar l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5948640" y="3008160"/>
            <a:ext cx="1293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Variables de diseño y 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6280200" y="3665520"/>
            <a:ext cx="1326960" cy="47772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6459480" y="3718080"/>
            <a:ext cx="100800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6527880" y="3757680"/>
            <a:ext cx="904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. Caracterizar l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6533280" y="3911760"/>
            <a:ext cx="884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arga de Trabaj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6280200" y="3665520"/>
            <a:ext cx="1326960" cy="47772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6459480" y="3718080"/>
            <a:ext cx="100800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6527880" y="3757680"/>
            <a:ext cx="904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. Caracterizar l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6533280" y="3911760"/>
            <a:ext cx="884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arga de Trabaj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6013440" y="4727520"/>
            <a:ext cx="1328760" cy="47772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>
            <a:off x="6013440" y="4780080"/>
            <a:ext cx="131616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6319440" y="4821120"/>
            <a:ext cx="718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. Obtener l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6079680" y="4973760"/>
            <a:ext cx="1220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rámetros del Model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6013440" y="4727520"/>
            <a:ext cx="1328760" cy="47772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6013440" y="4780080"/>
            <a:ext cx="131616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6319440" y="4821120"/>
            <a:ext cx="718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. Obtener l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6079680" y="4973760"/>
            <a:ext cx="1220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rámetros del Model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5483160" y="5524560"/>
            <a:ext cx="1327320" cy="47772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5477040" y="5576760"/>
            <a:ext cx="13204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5534640" y="5618160"/>
            <a:ext cx="1232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4. Predecir la Evolució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5569560" y="5770440"/>
            <a:ext cx="1160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e la Carga de Trabaj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5483160" y="5524560"/>
            <a:ext cx="1327320" cy="47772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5477040" y="5576760"/>
            <a:ext cx="13204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5534640" y="5618160"/>
            <a:ext cx="1232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4. Predecir la Evolució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5569560" y="5770440"/>
            <a:ext cx="1160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e la Carga de Trabaj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1870200" y="5099040"/>
            <a:ext cx="1328760" cy="47772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1870200" y="5153040"/>
            <a:ext cx="13078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2089080" y="5192640"/>
            <a:ext cx="892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5. Desarrollar u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1936440" y="5345280"/>
            <a:ext cx="1213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odelo de Desempeñ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1870200" y="5099040"/>
            <a:ext cx="1328760" cy="47772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1870200" y="5153040"/>
            <a:ext cx="13078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2089080" y="5192640"/>
            <a:ext cx="892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5. Desarrollar u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1936440" y="5345280"/>
            <a:ext cx="1213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odelo de Desempeñ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1498680" y="3878280"/>
            <a:ext cx="1328760" cy="47772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1498680" y="3930480"/>
            <a:ext cx="114300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1744200" y="3970440"/>
            <a:ext cx="672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6. Calibrar 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1565280" y="4122720"/>
            <a:ext cx="1038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Validar los Model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1498680" y="3878280"/>
            <a:ext cx="1328760" cy="47772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1498680" y="3930480"/>
            <a:ext cx="114300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1744200" y="3970440"/>
            <a:ext cx="648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6. Proyecta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1563840" y="4122720"/>
            <a:ext cx="1017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l desempeñ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1924200" y="2762280"/>
            <a:ext cx="1326960" cy="47772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1924200" y="2814480"/>
            <a:ext cx="1341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>
            <a:off x="2249640" y="2854440"/>
            <a:ext cx="707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7. Predecir e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1990800" y="3008160"/>
            <a:ext cx="1244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esempeño del Servici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1924200" y="2762280"/>
            <a:ext cx="1326960" cy="47772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1924200" y="2814480"/>
            <a:ext cx="1341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2249280" y="2854440"/>
            <a:ext cx="65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7. Definir e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1988640" y="3008160"/>
            <a:ext cx="982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iseño fin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4102200" y="4408560"/>
            <a:ext cx="1380960" cy="477720"/>
          </a:xfrm>
          <a:prstGeom prst="ellipse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>
            <a:off x="4340160" y="4462560"/>
            <a:ext cx="98280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>
            <a:off x="4485600" y="4502160"/>
            <a:ext cx="704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odelo de l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>
            <a:off x="4401000" y="4654440"/>
            <a:ext cx="884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arga de Trabaj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4102200" y="4408560"/>
            <a:ext cx="1380960" cy="477720"/>
          </a:xfrm>
          <a:prstGeom prst="ellipse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4340160" y="4462560"/>
            <a:ext cx="98280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4485600" y="4502160"/>
            <a:ext cx="704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odelo de l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4401000" y="4654440"/>
            <a:ext cx="884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arga de Trabaj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3889440" y="3611520"/>
            <a:ext cx="71100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3974400" y="3651120"/>
            <a:ext cx="549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odelo 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>
            <a:off x="3956040" y="3805200"/>
            <a:ext cx="601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esempeñ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3570120" y="3559320"/>
            <a:ext cx="1381320" cy="477720"/>
          </a:xfrm>
          <a:prstGeom prst="ellipse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>
            <a:off x="3889440" y="3611520"/>
            <a:ext cx="71100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>
            <a:off x="3974400" y="3651120"/>
            <a:ext cx="549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odelo 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>
            <a:off x="3956040" y="3805200"/>
            <a:ext cx="601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esempeñ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3570120" y="3559320"/>
            <a:ext cx="1381320" cy="477720"/>
          </a:xfrm>
          <a:prstGeom prst="ellipse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 flipH="1">
            <a:off x="5322600" y="3903840"/>
            <a:ext cx="957240" cy="5508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5283360" y="4414680"/>
            <a:ext cx="72720" cy="60480"/>
          </a:xfrm>
          <a:custGeom>
            <a:avLst/>
            <a:gdLst/>
            <a:ahLst/>
            <a:rect l="l" t="t" r="r" b="b"/>
            <a:pathLst>
              <a:path w="46" h="38">
                <a:moveTo>
                  <a:pt x="25" y="0"/>
                </a:moveTo>
                <a:lnTo>
                  <a:pt x="0" y="38"/>
                </a:lnTo>
                <a:lnTo>
                  <a:pt x="46" y="38"/>
                </a:lnTo>
                <a:lnTo>
                  <a:pt x="25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 flipH="1" flipV="1">
            <a:off x="5528880" y="4667040"/>
            <a:ext cx="484200" cy="2919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5483160" y="4648320"/>
            <a:ext cx="79560" cy="66600"/>
          </a:xfrm>
          <a:custGeom>
            <a:avLst/>
            <a:gdLst/>
            <a:ahLst/>
            <a:rect l="l" t="t" r="r" b="b"/>
            <a:pathLst>
              <a:path w="50" h="42">
                <a:moveTo>
                  <a:pt x="50" y="4"/>
                </a:moveTo>
                <a:lnTo>
                  <a:pt x="0" y="0"/>
                </a:lnTo>
                <a:lnTo>
                  <a:pt x="29" y="42"/>
                </a:lnTo>
                <a:lnTo>
                  <a:pt x="50" y="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 flipH="1" flipV="1">
            <a:off x="4300200" y="4063680"/>
            <a:ext cx="492120" cy="3445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>
            <a:off x="4260960" y="4037040"/>
            <a:ext cx="79200" cy="73080"/>
          </a:xfrm>
          <a:custGeom>
            <a:avLst/>
            <a:gdLst/>
            <a:ahLst/>
            <a:rect l="l" t="t" r="r" b="b"/>
            <a:pathLst>
              <a:path w="50" h="46">
                <a:moveTo>
                  <a:pt x="50" y="12"/>
                </a:moveTo>
                <a:lnTo>
                  <a:pt x="0" y="0"/>
                </a:lnTo>
                <a:lnTo>
                  <a:pt x="25" y="46"/>
                </a:lnTo>
                <a:lnTo>
                  <a:pt x="50" y="1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>
            <a:off x="4819680" y="4925880"/>
            <a:ext cx="636480" cy="7970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4792680" y="4886280"/>
            <a:ext cx="73080" cy="81000"/>
          </a:xfrm>
          <a:custGeom>
            <a:avLst/>
            <a:gdLst/>
            <a:ahLst/>
            <a:rect l="l" t="t" r="r" b="b"/>
            <a:pathLst>
              <a:path w="46" h="51">
                <a:moveTo>
                  <a:pt x="46" y="25"/>
                </a:moveTo>
                <a:lnTo>
                  <a:pt x="0" y="0"/>
                </a:lnTo>
                <a:lnTo>
                  <a:pt x="12" y="51"/>
                </a:lnTo>
                <a:lnTo>
                  <a:pt x="46" y="2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>
            <a:off x="5416560" y="5689440"/>
            <a:ext cx="66600" cy="73080"/>
          </a:xfrm>
          <a:custGeom>
            <a:avLst/>
            <a:gdLst/>
            <a:ahLst/>
            <a:rect l="l" t="t" r="r" b="b"/>
            <a:pathLst>
              <a:path w="42" h="46">
                <a:moveTo>
                  <a:pt x="0" y="26"/>
                </a:moveTo>
                <a:lnTo>
                  <a:pt x="42" y="46"/>
                </a:lnTo>
                <a:lnTo>
                  <a:pt x="33" y="0"/>
                </a:lnTo>
                <a:lnTo>
                  <a:pt x="0" y="2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 flipV="1">
            <a:off x="2535120" y="3997440"/>
            <a:ext cx="1201680" cy="11016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>
            <a:off x="3697200" y="3970440"/>
            <a:ext cx="73080" cy="73080"/>
          </a:xfrm>
          <a:custGeom>
            <a:avLst/>
            <a:gdLst/>
            <a:ahLst/>
            <a:rect l="l" t="t" r="r" b="b"/>
            <a:pathLst>
              <a:path w="46" h="46">
                <a:moveTo>
                  <a:pt x="33" y="46"/>
                </a:moveTo>
                <a:lnTo>
                  <a:pt x="46" y="0"/>
                </a:lnTo>
                <a:lnTo>
                  <a:pt x="0" y="13"/>
                </a:lnTo>
                <a:lnTo>
                  <a:pt x="33" y="4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 flipH="1" flipV="1">
            <a:off x="3277800" y="3039840"/>
            <a:ext cx="492120" cy="5857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"/>
          <p:cNvSpPr/>
          <p:nvPr/>
        </p:nvSpPr>
        <p:spPr>
          <a:xfrm>
            <a:off x="3251160" y="3000240"/>
            <a:ext cx="73080" cy="81000"/>
          </a:xfrm>
          <a:custGeom>
            <a:avLst/>
            <a:gdLst/>
            <a:ahLst/>
            <a:rect l="l" t="t" r="r" b="b"/>
            <a:pathLst>
              <a:path w="46" h="51">
                <a:moveTo>
                  <a:pt x="46" y="25"/>
                </a:moveTo>
                <a:lnTo>
                  <a:pt x="0" y="0"/>
                </a:lnTo>
                <a:lnTo>
                  <a:pt x="13" y="51"/>
                </a:lnTo>
                <a:lnTo>
                  <a:pt x="46" y="2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 flipV="1">
            <a:off x="2873520" y="3824280"/>
            <a:ext cx="650880" cy="2649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>
            <a:off x="2827440" y="4056120"/>
            <a:ext cx="79200" cy="66600"/>
          </a:xfrm>
          <a:custGeom>
            <a:avLst/>
            <a:gdLst/>
            <a:ahLst/>
            <a:rect l="l" t="t" r="r" b="b"/>
            <a:pathLst>
              <a:path w="50" h="42">
                <a:moveTo>
                  <a:pt x="33" y="0"/>
                </a:moveTo>
                <a:lnTo>
                  <a:pt x="0" y="38"/>
                </a:lnTo>
                <a:lnTo>
                  <a:pt x="50" y="42"/>
                </a:lnTo>
                <a:lnTo>
                  <a:pt x="3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>
            <a:off x="3497400" y="3797280"/>
            <a:ext cx="72720" cy="66600"/>
          </a:xfrm>
          <a:custGeom>
            <a:avLst/>
            <a:gdLst/>
            <a:ahLst/>
            <a:rect l="l" t="t" r="r" b="b"/>
            <a:pathLst>
              <a:path w="46" h="42">
                <a:moveTo>
                  <a:pt x="17" y="42"/>
                </a:moveTo>
                <a:lnTo>
                  <a:pt x="46" y="0"/>
                </a:lnTo>
                <a:lnTo>
                  <a:pt x="0" y="0"/>
                </a:lnTo>
                <a:lnTo>
                  <a:pt x="17" y="4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>
            <a:off x="4260960" y="2230560"/>
            <a:ext cx="531720" cy="264960"/>
          </a:xfrm>
          <a:custGeom>
            <a:avLst/>
            <a:gdLst/>
            <a:ahLst/>
            <a:rect l="l" t="t" r="r" b="b"/>
            <a:pathLst>
              <a:path w="335" h="167">
                <a:moveTo>
                  <a:pt x="0" y="126"/>
                </a:moveTo>
                <a:lnTo>
                  <a:pt x="84" y="126"/>
                </a:lnTo>
                <a:lnTo>
                  <a:pt x="84" y="0"/>
                </a:lnTo>
                <a:lnTo>
                  <a:pt x="251" y="0"/>
                </a:lnTo>
                <a:lnTo>
                  <a:pt x="251" y="126"/>
                </a:lnTo>
                <a:lnTo>
                  <a:pt x="335" y="126"/>
                </a:lnTo>
                <a:lnTo>
                  <a:pt x="168" y="167"/>
                </a:lnTo>
                <a:lnTo>
                  <a:pt x="0" y="126"/>
                </a:lnTo>
                <a:close/>
              </a:path>
            </a:pathLst>
          </a:custGeom>
          <a:solidFill>
            <a:srgbClr val="ffff00"/>
          </a:solid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4427640" y="2565360"/>
            <a:ext cx="3889440" cy="35276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>
            <a:off x="6632640" y="2076480"/>
            <a:ext cx="204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Trabajo realiz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>
            <a:off x="539640" y="4437000"/>
            <a:ext cx="1008000" cy="649440"/>
          </a:xfrm>
          <a:custGeom>
            <a:avLst/>
            <a:gdLst>
              <a:gd name="textAreaLeft" fmla="*/ 126000 w 1008000"/>
              <a:gd name="textAreaRight" fmla="*/ 882000 w 1008000"/>
              <a:gd name="textAreaTop" fmla="*/ 162360 h 649440"/>
              <a:gd name="textAreaBottom" fmla="*/ 487080 h 6494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"/>
          <p:cNvSpPr/>
          <p:nvPr/>
        </p:nvSpPr>
        <p:spPr>
          <a:xfrm>
            <a:off x="404280" y="5100480"/>
            <a:ext cx="121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Trabaj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Por hac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Modelos de Desempeñ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647280" y="1916280"/>
            <a:ext cx="78390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550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Corresponde a construir un modelo (matemático o de simulación) que represente la operación de un determinado proceso y permita probar el efecto en el desempeño de la asignación de recurso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953" name=""/>
          <p:cNvGraphicFramePr/>
          <p:nvPr/>
        </p:nvGraphicFramePr>
        <p:xfrm>
          <a:off x="1908000" y="3429000"/>
          <a:ext cx="5400720" cy="2376360"/>
        </p:xfrm>
        <a:graphic>
          <a:graphicData uri="http://schemas.openxmlformats.org/presentationml/2006/ole">
            <p:oleObj progId="PowerPoint.Show.12" r:id="rId2" spid="">
              <p:embed/>
              <p:pic>
                <p:nvPicPr>
                  <p:cNvPr id="95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08000" y="3429000"/>
                    <a:ext cx="5400720" cy="237636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000000"/>
                </a:solidFill>
                <a:latin typeface="Verdana"/>
              </a:rPr>
              <a:t>Tipos de Modelos de Desempeño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684360" y="1915920"/>
            <a:ext cx="763272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550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Modelos de simulación: permite una alta representación de los fenómenos, pero son difíciles de desarrollar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Modelos analíticos basados en redes de colas (Queuing Networks (QNs)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25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Verdana"/>
              </a:rPr>
              <a:t>Eficiente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25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Verdana"/>
              </a:rPr>
              <a:t>Permiten un rápido análisis de un gran número de escenario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25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Verdana"/>
              </a:rPr>
              <a:t>Buenos para fines de identificación de tradeoff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Modelos matemáticos de mayor sofisticación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Caso del Call Cente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755640" y="1752480"/>
            <a:ext cx="7812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Verdana"/>
              </a:rPr>
              <a:t>Existen dos posibles operaciones de los ejecutivos de cuenta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Verdana"/>
              </a:rPr>
              <a:t>ACD (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Automatic Call Distribution), el cual asigna una llamada a un ejecutivo al momento de recibir una llamada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Verdana"/>
              </a:rPr>
              <a:t>ACW (After Call Work) que corresponde al trabajo que un ejecutivo realiza después de la llamada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Verdana"/>
              </a:rPr>
              <a:t>En forma adicional, los ejecutivos tienen asignación de tiempos a otras actividades (salidas, ir al baño, reuniones, etc.)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Estudio de Tiempos de Ejecutivo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684000" y="3860640"/>
            <a:ext cx="78483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36680" indent="-43668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Tiempo Disponible es el que los ejecutivos están atendiendo, trabajando o esperando por llamada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36680" indent="-43668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Necesidad de gestionar tiempos AUX en horarios peak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61" name=""/>
          <p:cNvGrpSpPr/>
          <p:nvPr/>
        </p:nvGrpSpPr>
        <p:grpSpPr>
          <a:xfrm>
            <a:off x="1351080" y="2000160"/>
            <a:ext cx="6064200" cy="1656000"/>
            <a:chOff x="1351080" y="2000160"/>
            <a:chExt cx="6064200" cy="1656000"/>
          </a:xfrm>
        </p:grpSpPr>
        <p:sp>
          <p:nvSpPr>
            <p:cNvPr id="962" name=""/>
            <p:cNvSpPr/>
            <p:nvPr/>
          </p:nvSpPr>
          <p:spPr>
            <a:xfrm>
              <a:off x="1351080" y="3241800"/>
              <a:ext cx="1239840" cy="41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1351080" y="3241800"/>
              <a:ext cx="1239840" cy="41436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1809000" y="3359160"/>
              <a:ext cx="322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1351080" y="2000160"/>
              <a:ext cx="6064200" cy="41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1351080" y="2000160"/>
              <a:ext cx="6064200" cy="41436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3720600" y="2117880"/>
              <a:ext cx="13237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IEMPO NOMIN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5072040" y="2414520"/>
              <a:ext cx="2343240" cy="412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5072040" y="2414520"/>
              <a:ext cx="2343240" cy="41292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6085800" y="2532240"/>
              <a:ext cx="314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U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1351080" y="2414520"/>
              <a:ext cx="3720960" cy="412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1351080" y="2414520"/>
              <a:ext cx="3720960" cy="41292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449800" y="2532240"/>
              <a:ext cx="1546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IEMPO DISPONIB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3832200" y="2827440"/>
              <a:ext cx="1239840" cy="41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3832200" y="2827440"/>
              <a:ext cx="1239840" cy="41436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4087440" y="2871720"/>
              <a:ext cx="730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ERV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4267440" y="3052800"/>
              <a:ext cx="380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(DISP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2590920" y="3241800"/>
              <a:ext cx="1241280" cy="41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2590920" y="3241800"/>
              <a:ext cx="1241280" cy="41436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3030480" y="3359160"/>
              <a:ext cx="355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W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1351080" y="2827440"/>
              <a:ext cx="2481120" cy="41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1351080" y="2827440"/>
              <a:ext cx="2481120" cy="41436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1893960" y="2944800"/>
              <a:ext cx="1392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IEMPO EFECTIV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Medición de Operació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610920" y="1773360"/>
            <a:ext cx="4392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CD y ACW han sido estimados para clientes antiguos y nuevo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 estimaron los tiempos de procesamiento en ambos casos y para ambas operacione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986" name=""/>
          <p:cNvGraphicFramePr/>
          <p:nvPr/>
        </p:nvGraphicFramePr>
        <p:xfrm>
          <a:off x="4800600" y="2057400"/>
          <a:ext cx="4572000" cy="36482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98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00600" y="2057400"/>
                    <a:ext cx="4572000" cy="364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566640" y="2022480"/>
            <a:ext cx="7778880" cy="396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46040" indent="-44604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Verdana"/>
              </a:rPr>
              <a:t>Servicios de Post Venta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239480" indent="-3754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5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Atención telefónica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239480" indent="-3754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5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Manejo de cuadrilla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46040" indent="-44604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Verdana"/>
              </a:rPr>
              <a:t>Recursos Humano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239480" indent="-3754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5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Contratación y subcontratació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239480" indent="-3754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5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Capacitació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46040" indent="-44604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Verdana"/>
              </a:rPr>
              <a:t>Adquisicione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239480" indent="-3754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5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Manejo de proveedor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239480" indent="-3754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5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Administración de Inventario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46040" indent="-44604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Verdana"/>
              </a:rPr>
              <a:t>Tecnología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239480" indent="-3754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5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Desarrollo y/o utilización de nueva tecnología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406440" y="228240"/>
            <a:ext cx="8432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500" spc="-1" strike="noStrike">
                <a:solidFill>
                  <a:srgbClr val="000000"/>
                </a:solidFill>
                <a:latin typeface="Tahoma"/>
              </a:rPr>
              <a:t>Actividades de la Cadena de Valor</a:t>
            </a:r>
            <a:r>
              <a:rPr b="0" lang="es-ES_tradnl" sz="3500" spc="-1" strike="noStrike">
                <a:solidFill>
                  <a:srgbClr val="000099"/>
                </a:solidFill>
                <a:latin typeface="Tahoma"/>
              </a:rPr>
              <a:t> ...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5943600" y="2133720"/>
            <a:ext cx="2133720" cy="1066680"/>
          </a:xfrm>
          <a:prstGeom prst="upArrow">
            <a:avLst>
              <a:gd name="adj1" fmla="val 50000"/>
              <a:gd name="adj2" fmla="val 25000"/>
            </a:avLst>
          </a:prstGeom>
          <a:noFill/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99"/>
                </a:solidFill>
                <a:latin typeface="Arial"/>
              </a:rPr>
              <a:t>Primari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943600" y="3505320"/>
            <a:ext cx="2133720" cy="1218960"/>
          </a:xfrm>
          <a:prstGeom prst="downArrow">
            <a:avLst>
              <a:gd name="adj1" fmla="val 50000"/>
              <a:gd name="adj2" fmla="val 25000"/>
            </a:avLst>
          </a:prstGeom>
          <a:noFill/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99"/>
                </a:solidFill>
                <a:latin typeface="Arial"/>
              </a:rPr>
              <a:t>De Apoy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ffffff"/>
                </a:solidFill>
                <a:latin typeface="Verdana"/>
              </a:rPr>
              <a:t>Construcción de un modelo de</a:t>
            </a:r>
            <a:r>
              <a:rPr b="0" lang="es-ES_tradnl" sz="3400" spc="-1" strike="noStrike">
                <a:solidFill>
                  <a:srgbClr val="000000"/>
                </a:solidFill>
                <a:latin typeface="Verdana"/>
              </a:rPr>
              <a:t> desempeño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Corresponde al desarrollo de un modelo que represente la operación del proceso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¿Qué tipo de modelo podría hacer esto?, y ¿porqué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Teoría de esper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5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Verdana"/>
              </a:rPr>
              <a:t>M/M/C versus Redes de espera (M/M/C y M/M/1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Simulació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Modelo M/M/1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673200" y="1896840"/>
            <a:ext cx="7813440" cy="23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Verdana"/>
              </a:rPr>
              <a:t>Llegada es un proceso de Poisson de tasa </a:t>
            </a:r>
            <a:r>
              <a:rPr b="0" lang="es-ES_tradnl" sz="21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_tradnl" sz="2100" spc="-1" strike="noStrike">
                <a:solidFill>
                  <a:srgbClr val="000000"/>
                </a:solidFill>
                <a:latin typeface="Verdana"/>
              </a:rPr>
              <a:t> (llegadas/unidad de tiempo)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Verdana"/>
              </a:rPr>
              <a:t>Se forma una fila de espera con política de servicio FIFO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Verdana"/>
              </a:rPr>
              <a:t>El servicio es de un cliente a la vez con un tiempo distribuido exponencialmente con media 1/</a:t>
            </a:r>
            <a:r>
              <a:rPr b="0" lang="es-ES_tradnl" sz="21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Verdana"/>
              </a:rPr>
              <a:t>El sistema se encuentra en estado estacionario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2" name=""/>
          <p:cNvSpPr/>
          <p:nvPr/>
        </p:nvSpPr>
        <p:spPr>
          <a:xfrm>
            <a:off x="1982880" y="517860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>
            <a:off x="3659040" y="456876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>
            <a:off x="4573440" y="45687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"/>
          <p:cNvSpPr/>
          <p:nvPr/>
        </p:nvSpPr>
        <p:spPr>
          <a:xfrm>
            <a:off x="3659040" y="571176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"/>
          <p:cNvSpPr/>
          <p:nvPr/>
        </p:nvSpPr>
        <p:spPr>
          <a:xfrm>
            <a:off x="4573440" y="4340160"/>
            <a:ext cx="1981440" cy="1600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"/>
          <p:cNvSpPr/>
          <p:nvPr/>
        </p:nvSpPr>
        <p:spPr>
          <a:xfrm>
            <a:off x="6554880" y="5178600"/>
            <a:ext cx="1904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1144440" y="4721400"/>
            <a:ext cx="167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 (Hebrew)"/>
                <a:ea typeface="Times New Roman (Hebrew)"/>
              </a:rPr>
              <a:t>Poisson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7491960" y="4721400"/>
            <a:ext cx="96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 (Hebrew)"/>
                <a:ea typeface="Times New Roman (Hebrew)"/>
              </a:rPr>
              <a:t>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"/>
          <p:cNvSpPr/>
          <p:nvPr/>
        </p:nvSpPr>
        <p:spPr>
          <a:xfrm>
            <a:off x="3685320" y="5635800"/>
            <a:ext cx="90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 (Hebrew)"/>
                <a:ea typeface="Times New Roman (Hebrew)"/>
              </a:rPr>
              <a:t>que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>
            <a:off x="4649760" y="472140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 (Hebrew)"/>
                <a:ea typeface="Times New Roman (Hebrew)"/>
              </a:rPr>
              <a:t>Exponential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Medidas de desempeñ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7750440" cy="27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Corresponde a estimar relaciones entre las variables independientes (</a:t>
            </a:r>
            <a:r>
              <a:rPr b="0" lang="es-ES_tradnl" sz="2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 y </a:t>
            </a:r>
            <a:r>
              <a:rPr b="0" lang="es-ES_tradnl" sz="2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) y tiempos medios de espera (W) y número de clientes en espera (L)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Se asume que el sistema está en estacionari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4" name=""/>
              <p:cNvSpPr txBox="1"/>
              <p:nvPr/>
            </p:nvSpPr>
            <p:spPr>
              <a:xfrm>
                <a:off x="1332000" y="4508640"/>
                <a:ext cx="1655640" cy="11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ρ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ρ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5" name=""/>
              <p:cNvSpPr txBox="1"/>
              <p:nvPr/>
            </p:nvSpPr>
            <p:spPr>
              <a:xfrm>
                <a:off x="4068720" y="4653000"/>
                <a:ext cx="1728720" cy="93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μ</m:t>
                            </m:r>
                            <m:r>
                              <m:t xml:space="preserve">−</m:t>
                            </m:r>
                            <m:r>
                              <m:t xml:space="preserve">λ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06" name=""/>
          <p:cNvSpPr/>
          <p:nvPr/>
        </p:nvSpPr>
        <p:spPr>
          <a:xfrm>
            <a:off x="3337920" y="4884840"/>
            <a:ext cx="29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7" name=""/>
              <p:cNvSpPr txBox="1"/>
              <p:nvPr/>
            </p:nvSpPr>
            <p:spPr>
              <a:xfrm>
                <a:off x="7164360" y="4581360"/>
                <a:ext cx="1197000" cy="11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ρ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λ</m:t>
                        </m:r>
                      </m:num>
                      <m:den>
                        <m:r>
                          <m:t xml:space="preserve">μ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08" name=""/>
          <p:cNvSpPr/>
          <p:nvPr/>
        </p:nvSpPr>
        <p:spPr>
          <a:xfrm>
            <a:off x="6143040" y="4956120"/>
            <a:ext cx="57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c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Modelo M/M/C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7893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Corresponde a llegadas de tipo Poisson (</a:t>
            </a:r>
            <a:r>
              <a:rPr b="0" lang="es-ES_tradnl" sz="26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), atención exponencial (1/</a:t>
            </a:r>
            <a:r>
              <a:rPr b="0" lang="es-ES_tradnl" sz="2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) y C servidores (ejecutivos)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1" name=""/>
              <p:cNvSpPr txBox="1"/>
              <p:nvPr/>
            </p:nvSpPr>
            <p:spPr>
              <a:xfrm>
                <a:off x="2484360" y="3357720"/>
                <a:ext cx="3672000" cy="116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n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C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  <m:e>
                            <m:f>
                              <m:num>
                                <m:r>
                                  <m:t xml:space="preserve">(</m:t>
                                </m:r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λ</m:t>
                                    </m:r>
                                  </m:num>
                                  <m:den>
                                    <m:r>
                                      <m:t xml:space="preserve">μ</m:t>
                                    </m:r>
                                  </m:den>
                                </m:f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n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n</m:t>
                                </m:r>
                                <m:r>
                                  <m:t xml:space="preserve">!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C</m:t>
                                </m:r>
                                <m:r>
                                  <m:t xml:space="preserve">!</m:t>
                                </m:r>
                              </m:den>
                            </m:f>
                            <m:f>
                              <m:num>
                                <m:r>
                                  <m:t xml:space="preserve">(</m:t>
                                </m:r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λ</m:t>
                                    </m:r>
                                  </m:num>
                                  <m:den>
                                    <m:r>
                                      <m:t xml:space="preserve">μ</m:t>
                                    </m:r>
                                  </m:den>
                                </m:f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C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λ</m:t>
                                    </m:r>
                                  </m:num>
                                  <m:den>
                                    <m:r>
                                      <m:t xml:space="preserve">(</m:t>
                                    </m:r>
                                  </m:den>
                                </m:f>
                                <m:r>
                                  <m:t xml:space="preserve">Cμ</m:t>
                                </m:r>
                                <m:r>
                                  <m:t xml:space="preserve">)</m:t>
                                </m:r>
                              </m:den>
                            </m:f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2" name=""/>
              <p:cNvSpPr txBox="1"/>
              <p:nvPr/>
            </p:nvSpPr>
            <p:spPr>
              <a:xfrm>
                <a:off x="900000" y="4797360"/>
                <a:ext cx="3959280" cy="98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μ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λ</m:t>
                            </m:r>
                          </m:num>
                          <m:den>
                            <m:r>
                              <m:t xml:space="preserve">μ</m:t>
                            </m:r>
                          </m:den>
                        </m:f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C</m:t>
                            </m:r>
                          </m:sup>
                        </m:sSup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C</m:t>
                        </m:r>
                        <m:r>
                          <m:t xml:space="preserve">!</m:t>
                        </m:r>
                        <m:r>
                          <m:t xml:space="preserve">Cμ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λ</m:t>
                            </m:r>
                          </m:num>
                          <m:den>
                            <m:r>
                              <m:t xml:space="preserve">(</m:t>
                            </m:r>
                          </m:den>
                        </m:f>
                        <m:r>
                          <m:t xml:space="preserve">Cμ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3" name=""/>
              <p:cNvSpPr txBox="1"/>
              <p:nvPr/>
            </p:nvSpPr>
            <p:spPr>
              <a:xfrm>
                <a:off x="6300720" y="5013360"/>
                <a:ext cx="1944720" cy="66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r>
                      <m:t xml:space="preserve">λ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14" name=""/>
          <p:cNvSpPr/>
          <p:nvPr/>
        </p:nvSpPr>
        <p:spPr>
          <a:xfrm>
            <a:off x="5282640" y="5172120"/>
            <a:ext cx="29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Modelo Simple del Call Cente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326440" cy="182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60080" indent="-46008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Supuesto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89560" indent="-427320"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Llegada independiente </a:t>
            </a:r>
            <a:r>
              <a:rPr b="0" lang="es-ES_tradnl" sz="22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=</a:t>
            </a:r>
            <a:r>
              <a:rPr b="0" lang="es-ES_tradnl" sz="22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_tradnl" sz="22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+</a:t>
            </a:r>
            <a:r>
              <a:rPr b="0" lang="es-ES_tradnl" sz="22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_tradnl" sz="22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+</a:t>
            </a:r>
            <a:r>
              <a:rPr b="0" lang="es-ES_tradnl" sz="22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s-ES_tradnl" sz="2200" spc="-1" strike="noStrike" baseline="-25000">
                <a:solidFill>
                  <a:srgbClr val="000000"/>
                </a:solidFill>
                <a:latin typeface="Verdana"/>
              </a:rPr>
              <a:t>3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89560" indent="-427320"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Servicio único (un solo </a:t>
            </a:r>
            <a:r>
              <a:rPr b="0" lang="es-ES_tradnl" sz="2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ES_tradnl" sz="22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89560" indent="-427320"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ACW es trabajo individual y con tiempo medio 1/</a:t>
            </a:r>
            <a:r>
              <a:rPr b="0" lang="es-ES_tradnl" sz="2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ES_tradnl" sz="22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7" name=""/>
          <p:cNvSpPr/>
          <p:nvPr/>
        </p:nvSpPr>
        <p:spPr>
          <a:xfrm>
            <a:off x="2556000" y="3933720"/>
            <a:ext cx="1152360" cy="1008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AC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M/M/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"/>
          <p:cNvSpPr/>
          <p:nvPr/>
        </p:nvSpPr>
        <p:spPr>
          <a:xfrm>
            <a:off x="4859280" y="3933720"/>
            <a:ext cx="1152720" cy="1079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AC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M/M/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"/>
          <p:cNvSpPr/>
          <p:nvPr/>
        </p:nvSpPr>
        <p:spPr>
          <a:xfrm>
            <a:off x="826920" y="443700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"/>
          <p:cNvSpPr/>
          <p:nvPr/>
        </p:nvSpPr>
        <p:spPr>
          <a:xfrm>
            <a:off x="3708360" y="443700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"/>
          <p:cNvSpPr/>
          <p:nvPr/>
        </p:nvSpPr>
        <p:spPr>
          <a:xfrm>
            <a:off x="3708360" y="4437000"/>
            <a:ext cx="144000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"/>
          <p:cNvSpPr/>
          <p:nvPr/>
        </p:nvSpPr>
        <p:spPr>
          <a:xfrm>
            <a:off x="4129920" y="4092480"/>
            <a:ext cx="45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p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"/>
          <p:cNvSpPr/>
          <p:nvPr/>
        </p:nvSpPr>
        <p:spPr>
          <a:xfrm>
            <a:off x="3776040" y="5084640"/>
            <a:ext cx="79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(1-p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"/>
          <p:cNvSpPr/>
          <p:nvPr/>
        </p:nvSpPr>
        <p:spPr>
          <a:xfrm>
            <a:off x="1168560" y="4021200"/>
            <a:ext cx="30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"/>
          <p:cNvSpPr/>
          <p:nvPr/>
        </p:nvSpPr>
        <p:spPr>
          <a:xfrm>
            <a:off x="2853000" y="5029200"/>
            <a:ext cx="604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1/</a:t>
            </a:r>
            <a:r>
              <a:rPr b="0" lang="es-MX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MX" sz="18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"/>
          <p:cNvSpPr/>
          <p:nvPr/>
        </p:nvSpPr>
        <p:spPr>
          <a:xfrm>
            <a:off x="5301000" y="5029200"/>
            <a:ext cx="604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1/</a:t>
            </a:r>
            <a:r>
              <a:rPr b="0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Comentari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¿Es válido el modelo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¿Cuáles son sus principales problemas? Y ¿cómo afectan las medidas de desempeño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¿Qué se puede hacer al respecto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Modelo del Call Cente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30" name="" descr=""/>
          <p:cNvPicPr/>
          <p:nvPr/>
        </p:nvPicPr>
        <p:blipFill>
          <a:blip r:embed="rId2"/>
          <a:stretch/>
        </p:blipFill>
        <p:spPr>
          <a:xfrm>
            <a:off x="3948120" y="2049480"/>
            <a:ext cx="5016600" cy="3179880"/>
          </a:xfrm>
          <a:prstGeom prst="rect">
            <a:avLst/>
          </a:prstGeom>
          <a:ln w="0">
            <a:noFill/>
          </a:ln>
        </p:spPr>
      </p:pic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394920" y="1773360"/>
            <a:ext cx="40323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69800" indent="-46980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Modalidad Normativa: determinar el número de ejecutivos, dado el nivel de servicio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Modalidad Predictiva: determinar los niveles de servicio, dado el número de ejecutivos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Modelo de Teoría de Cola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delo M/M/C, es decir un patrón de llegada, un patrón de servicio, y C ejecutivos de cuenta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l patrón de llegada agrega estadísticamente las llamadas de clientes nuevos, antiguos y otro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l patrón de servicio agrega estadísticamente ACD y ACW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os ejecutivos son considerados como ejecutivos disponible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Modelo de Simulació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35" name=""/>
          <p:cNvGraphicFramePr/>
          <p:nvPr/>
        </p:nvGraphicFramePr>
        <p:xfrm>
          <a:off x="1143000" y="1828800"/>
          <a:ext cx="7543800" cy="42354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03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43000" y="1828800"/>
                    <a:ext cx="7543800" cy="423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onclusion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8253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 ha desarrollado un modelo para dimensionar el Call Center (modelo de colas y simulación),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l diseño debe dar cuenta de los cambios en la carga de trabajo, de manera de satisfacer los niveles de servicio explícitos establecidos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8432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500" spc="-1" strike="noStrike">
                <a:solidFill>
                  <a:srgbClr val="000099"/>
                </a:solidFill>
                <a:latin typeface="Tahoma"/>
              </a:rPr>
              <a:t>Pr</a:t>
            </a:r>
            <a:r>
              <a:rPr b="0" lang="es-MX" sz="3500" spc="-1" strike="noStrike">
                <a:solidFill>
                  <a:srgbClr val="000099"/>
                </a:solidFill>
                <a:latin typeface="Tahoma"/>
              </a:rPr>
              <a:t>ácticas de Trabajo ...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66280" y="2022480"/>
            <a:ext cx="7853400" cy="396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432000" indent="-43200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Verdana"/>
              </a:rPr>
              <a:t>Corresponden a </a:t>
            </a:r>
            <a:r>
              <a:rPr b="0" lang="es-ES_tradnl" sz="2300" spc="-1" strike="noStrike">
                <a:solidFill>
                  <a:srgbClr val="000099"/>
                </a:solidFill>
                <a:latin typeface="Verdana"/>
              </a:rPr>
              <a:t>COMO</a:t>
            </a:r>
            <a:r>
              <a:rPr b="0" lang="es-ES_tradnl" sz="2300" spc="-1" strike="noStrike">
                <a:solidFill>
                  <a:srgbClr val="000000"/>
                </a:solidFill>
                <a:latin typeface="Verdana"/>
              </a:rPr>
              <a:t> se llevan a cabo las actividades anteriore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200600" indent="-363600">
              <a:spcBef>
                <a:spcPts val="601"/>
              </a:spcBef>
              <a:buClr>
                <a:srgbClr val="cc0000"/>
              </a:buClr>
              <a:buSzPct val="5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Se pueden asociar a metodologías y procedimien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32000" indent="-43200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Verdana"/>
              </a:rPr>
              <a:t>Por ejemplo, en Marketing y Ventas tenemos la actividad Pronóstico de Venta. Este pronóstico puede realizarse: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200600" indent="-363600">
              <a:spcBef>
                <a:spcPts val="601"/>
              </a:spcBef>
              <a:buClr>
                <a:srgbClr val="cc0000"/>
              </a:buClr>
              <a:buSzPct val="5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n base al criterio del gerente de áre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200600" indent="-363600">
              <a:spcBef>
                <a:spcPts val="601"/>
              </a:spcBef>
              <a:buClr>
                <a:srgbClr val="cc0000"/>
              </a:buClr>
              <a:buSzPct val="5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Por series de tiempo en base a vent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2006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históricas, considerando varios facto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2006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de correcció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6858000" y="4572000"/>
            <a:ext cx="2133720" cy="1219320"/>
          </a:xfrm>
          <a:prstGeom prst="leftArrow">
            <a:avLst>
              <a:gd name="adj1" fmla="val 50000"/>
              <a:gd name="adj2" fmla="val 43748"/>
            </a:avLst>
          </a:prstGeom>
          <a:noFill/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99"/>
                </a:solidFill>
                <a:latin typeface="Arial"/>
              </a:rPr>
              <a:t>Prácticas de Trabaj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Tahoma"/>
              </a:rPr>
              <a:t>Ejemplo:</a:t>
            </a:r>
            <a:br>
              <a:rPr sz="3800"/>
            </a:br>
            <a:r>
              <a:rPr b="0" lang="es-ES_tradnl" sz="3800" spc="-1" strike="noStrike">
                <a:solidFill>
                  <a:srgbClr val="000000"/>
                </a:solidFill>
                <a:latin typeface="Tahoma"/>
              </a:rPr>
              <a:t>Organización Jerárquica v/s en Re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0760" y="1886040"/>
            <a:ext cx="4216320" cy="47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Mercado masiv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Pocos modelos / larga vid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Alta integración vertica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Maquinaria especializada A.Vo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Grandes inventarios de MP y PP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Comunicación vertica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Proveedores competidor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Grupos de trabajo basados en f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Múltiples niveles de adm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Específicas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 def. de trabaj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Sueldos fij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Autoridad basada en rang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266720" y="1885680"/>
            <a:ext cx="487692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Producción customizad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Oferta amplia / corta vid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Baja integración vertica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Maquinaria flexibl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Bajos inventarios JI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Comunicación direct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Pocos proveedores más confiabl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Equipos cross funcional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Administración plan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Autonomía local / TD descentralizada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Incentiv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Autoridad basada en expertis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Metodología de Trabaj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Definición del Proces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Evaluación de la Situación Actua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Definición y evaluación de las áreas de rediseño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Implantación del rediseño propuesto (Gente, Producto, Tecnología, Proceso y Cliente)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Puesta en Marcha y Operació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Definición del Proceso ..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228600" y="1904760"/>
            <a:ext cx="8686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Recursos Productivos</a:t>
            </a:r>
            <a:r>
              <a:rPr b="0" lang="es-ES_tradnl" sz="2300" spc="-1" strike="noStrike">
                <a:solidFill>
                  <a:srgbClr val="000000"/>
                </a:solidFill>
                <a:latin typeface="Verdana"/>
              </a:rPr>
              <a:t>: corresponden a los elementos que son utilizados para el desarrollo del proceso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Configuración del Proceso</a:t>
            </a:r>
            <a:r>
              <a:rPr b="0" lang="es-ES_tradnl" sz="2300" spc="-1" strike="noStrike">
                <a:solidFill>
                  <a:srgbClr val="000000"/>
                </a:solidFill>
                <a:latin typeface="Verdana"/>
              </a:rPr>
              <a:t>: corresponde a los procedimientos, reglas y distribución física de las operaciones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Carga de Trabajo</a:t>
            </a:r>
            <a:r>
              <a:rPr b="0" lang="es-ES_tradnl" sz="2300" spc="-1" strike="noStrike">
                <a:solidFill>
                  <a:srgbClr val="000000"/>
                </a:solidFill>
                <a:latin typeface="Verdana"/>
              </a:rPr>
              <a:t>: corresponde a los parámetros que describen la carga de trabajo, es decir, el tipo, frecuencia y comportamiento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Niveles de Servicio</a:t>
            </a:r>
            <a:r>
              <a:rPr b="0" lang="es-ES_tradnl" sz="2300" spc="-1" strike="noStrike">
                <a:solidFill>
                  <a:srgbClr val="000000"/>
                </a:solidFill>
                <a:latin typeface="Verdana"/>
              </a:rPr>
              <a:t>: representa la definición de aquellos indicadores de calidad del proceso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07560" y="506160"/>
            <a:ext cx="740412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Situación Actual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Es el modelamiento formal (representación precisa) que permita interactuar con otras personas, hacer análisis sistemáticos, y validar su concordancia con el actual estado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Modelar la situación actua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Validación y Medición del proces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Rediseño de Proces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80880" y="1828440"/>
            <a:ext cx="830592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46040" indent="-44604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Establece los cambios que deberán efectuarse en la situación actual y detalla como se ejecutarán los nuevos proceso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46040" indent="-44604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Es la fase más importante, ya que se definirán las nuevas formas de operar y su desempeño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46040" indent="-44604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Areas de rediseño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62200" indent="-41436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Verdana"/>
              </a:rPr>
              <a:t>Estructural: cambio en el proceso mismo (cambian las operaciones, se eliminan duplicidades, etc.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862200" indent="-41436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Verdana"/>
              </a:rPr>
              <a:t>Responsabilidades: se modifica la asignación de  responsabilidad (personal, incorporación de tecnología, centralizar o descentralizar responsabilidades, etc.)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4560" y="53316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Profundidad del Rediseñ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80880" y="18284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Racionalización (</a:t>
            </a: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años 70´s en adelante</a:t>
            </a: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Sólo los procedimientos administrativos son adecuádos a los sistemas computacionales</a:t>
            </a: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Rediseño Organizacional (</a:t>
            </a: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año 85 en adelante</a:t>
            </a: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Cambio profundo en la estructura organizacional. Ya la organización no volverá a ser nunca más la misma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Reingeniería (</a:t>
            </a: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años 90´s en adelante</a:t>
            </a: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Reinventamos la empresa. Todo esta en revisión, los productos, los mercados, los método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Agenda</a:t>
            </a:r>
            <a:br>
              <a:rPr sz="3000"/>
            </a:br>
            <a:r>
              <a:rPr b="0" lang="es-ES_tradnl" sz="3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Análisis y Rediseño de Proceso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Objetivo, origen y dirección de cambi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Prácticas de trabaj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Análisis por element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Cadena de valor y valor agregad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Ejemplo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Software de coordinació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Enfoque de patrones de procesos de negocio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Enfoque de madurez en el rediseño de proceso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75000"/>
              </a:lnSpc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Análisis: Actividades/Proces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Sólo actividades que agregan valo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Procesos en paralelo diminuyen holguras (tiempos entre actividades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Procesos en serie buscan mejor control y coordinación, aunque son más ineficientes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Pregunta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¿Esta actividad agrega valor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¿Esta holgura la puedo eliminar o reducir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juntando actividad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utilizando TI de coordinació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Análisis: Fluj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¿El flujo de información (y de materiales) puede eliminarse? Por ejemplo juntando actividade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¿Las actividades y sus flujos pueden hacerse en paralelo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6" name=""/>
          <p:cNvGraphicFramePr/>
          <p:nvPr/>
        </p:nvGraphicFramePr>
        <p:xfrm>
          <a:off x="533520" y="304920"/>
          <a:ext cx="7162560" cy="5994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520" y="304920"/>
                    <a:ext cx="7162560" cy="599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Ejempl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1920960" y="1752480"/>
          <a:ext cx="5290920" cy="4267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20960" y="1752480"/>
                    <a:ext cx="529092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75348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448920" cy="708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Modelamiento y simulació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Es posible simular el desempeño de un proceso por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modelos analítico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modelos de simulació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Objetivos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Optimizar el proces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determinar la fuerza de trabajo necesari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Objetiv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Hacer el proceso más eficiente y efectiv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Hacer que el proceso de negocios agregue valor al cliente y a la empres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Hacer el proceso administrado y predecibl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Análisis: Product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¿Esta definido el producto en todo detalle (especificaciones y estándares, precio y plazo de entrega)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¿Entiende lo mismo el cliente que nosotros en cuanto a las expectativas sobre las condiciones de satisfacción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Análisis: Gent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Verdana"/>
              </a:rPr>
              <a:t>las organizaciones (y sus procesos) cambian cuando la gente cambia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5000"/>
              </a:lnSpc>
              <a:spcBef>
                <a:spcPts val="575"/>
              </a:spcBef>
              <a:buClr>
                <a:srgbClr val="cc0000"/>
              </a:buClr>
              <a:buSzPct val="4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Verdana"/>
              </a:rPr>
              <a:t>más que capacitarlos es necesario entrenarlos para que adquieran nuevas competencias en: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5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Verdana"/>
              </a:rPr>
              <a:t>trabajo en equipo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5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Verdana"/>
              </a:rPr>
              <a:t>responsabilidad profesiona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5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Verdana"/>
              </a:rPr>
              <a:t>el cumplimiento de los compromisos (funcionales y con los procesos de negocios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5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Verdana"/>
              </a:rPr>
              <a:t>comunicación para la acción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Análisis: Tecnología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Verdana"/>
              </a:rPr>
              <a:t>Tecnologías blanda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Verdana"/>
              </a:rPr>
              <a:t>Hablar simpl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Verdana"/>
              </a:rPr>
              <a:t>Comunicación para la acción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Verdana"/>
              </a:rPr>
              <a:t>Tecnologías de la Información y Comunicación para la Coordinación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5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Verdana"/>
              </a:rPr>
              <a:t>e-mai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5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Verdana"/>
              </a:rPr>
              <a:t>groupware o workgroup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5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Verdana"/>
              </a:rPr>
              <a:t>workflow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68000" y="764640"/>
            <a:ext cx="8381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istemas de Ayuda a la Coordinación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2124000" y="2708280"/>
            <a:ext cx="4932360" cy="36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74200" y="701640"/>
            <a:ext cx="8001000" cy="8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Coordinació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830592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Dos o más usuarios deben interactuar para cumplir con sus funciones organizacionale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Esto puede ser estructurado o desestructurado, síncrono o asíncrono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Manejado históricamente a través de: flujo de papeles, comunicación directa (verbal o telefónica), procedimientos administrativos que definen a priori la actuación de las persona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20280" y="318600"/>
            <a:ext cx="7489800" cy="11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 u="sng">
                <a:solidFill>
                  <a:srgbClr val="000000"/>
                </a:solidFill>
                <a:uFillTx/>
                <a:latin typeface="Verdana"/>
              </a:rPr>
              <a:t>Groupware y Workflow</a:t>
            </a:r>
            <a:br>
              <a:rPr sz="2500"/>
            </a:br>
            <a:r>
              <a:rPr b="0" lang="es-ES_tradnl" sz="2500" spc="-1" strike="noStrike">
                <a:solidFill>
                  <a:srgbClr val="000000"/>
                </a:solidFill>
                <a:latin typeface="Verdana"/>
              </a:rPr>
              <a:t>Definicione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"/>
          <p:cNvSpPr/>
          <p:nvPr/>
        </p:nvSpPr>
        <p:spPr>
          <a:xfrm>
            <a:off x="685800" y="3886200"/>
            <a:ext cx="792468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00"/>
                </a:solidFill>
                <a:uFillTx/>
                <a:latin typeface="Times New Roman"/>
              </a:rPr>
              <a:t>Workf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imilar al Groupware, que permite hacer fluir los documentos, en forma automática, entre usuarios para cumplir un objetiv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ff0000"/>
                </a:solidFill>
                <a:latin typeface="Times New Roman"/>
              </a:rPr>
              <a:t>Producto Referencia: XN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09480" y="1752480"/>
            <a:ext cx="792504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00"/>
                </a:solidFill>
                <a:uFillTx/>
                <a:latin typeface="Times New Roman"/>
              </a:rPr>
              <a:t>Group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ermite compartir por parte de usuarios uno o más documentos a través de un kardex electrónic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ff0000"/>
                </a:solidFill>
                <a:latin typeface="Times New Roman"/>
              </a:rPr>
              <a:t>Producto Referencia: LOTUS NO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6300720" y="189000"/>
          <a:ext cx="1393920" cy="1368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300720" y="189000"/>
                    <a:ext cx="1393920" cy="13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8" dur="1" fill="hold"/>
                                  <p:tgtEl>
                                    <p:spTgt spid="220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20280" y="318600"/>
            <a:ext cx="7489800" cy="11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 u="sng">
                <a:solidFill>
                  <a:srgbClr val="000000"/>
                </a:solidFill>
                <a:uFillTx/>
                <a:latin typeface="Verdana"/>
              </a:rPr>
              <a:t>Groupware y Workflow</a:t>
            </a:r>
            <a:br>
              <a:rPr sz="2500"/>
            </a:br>
            <a:r>
              <a:rPr b="0" lang="es-ES_tradnl" sz="2500" spc="-1" strike="noStrike">
                <a:solidFill>
                  <a:srgbClr val="000000"/>
                </a:solidFill>
                <a:latin typeface="Verdana"/>
              </a:rPr>
              <a:t>Características Relevante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34680" y="2444760"/>
            <a:ext cx="3833640" cy="255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spcBef>
                <a:spcPts val="326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300" spc="-1" strike="noStrike">
                <a:solidFill>
                  <a:srgbClr val="000000"/>
                </a:solidFill>
                <a:latin typeface="Verdana"/>
              </a:rPr>
              <a:t>Almacenamiento, indexación y acceso a cualquier tipo de documento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spcBef>
                <a:spcPts val="326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300" spc="-1" strike="noStrike">
                <a:solidFill>
                  <a:srgbClr val="000000"/>
                </a:solidFill>
                <a:latin typeface="Verdana"/>
              </a:rPr>
              <a:t>Permite mezclar información de documento, generando vistas de interés para las necesidades del usuario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spcBef>
                <a:spcPts val="326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300" spc="-1" strike="noStrike">
                <a:solidFill>
                  <a:srgbClr val="000000"/>
                </a:solidFill>
                <a:latin typeface="Verdana"/>
              </a:rPr>
              <a:t>Correo electrónico, agenda, planificación de actividades (individuales y de grupo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spcBef>
                <a:spcPts val="326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300" spc="-1" strike="noStrike">
                <a:solidFill>
                  <a:srgbClr val="000000"/>
                </a:solidFill>
                <a:latin typeface="Verdana"/>
              </a:rPr>
              <a:t>Gestión de información Web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just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44640" y="2408040"/>
            <a:ext cx="3840120" cy="258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spcBef>
                <a:spcPts val="326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300" spc="-1" strike="noStrike">
                <a:solidFill>
                  <a:srgbClr val="000000"/>
                </a:solidFill>
                <a:latin typeface="Verdana"/>
              </a:rPr>
              <a:t>Especificación de formularios, lógica asociada y modelo gráfico de flujo de documento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spcBef>
                <a:spcPts val="326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300" spc="-1" strike="noStrike">
                <a:solidFill>
                  <a:srgbClr val="000000"/>
                </a:solidFill>
                <a:latin typeface="Verdana"/>
              </a:rPr>
              <a:t>Orientado a  proceso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spcBef>
                <a:spcPts val="326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300" spc="-1" strike="noStrike">
                <a:solidFill>
                  <a:srgbClr val="000000"/>
                </a:solidFill>
                <a:latin typeface="Verdana"/>
              </a:rPr>
              <a:t>Control de secuencia de tareas y quienes la realizan, la información que soporta las tareas, mas el seguimiento y mecanismos de reporte que las miden y controlan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just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just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"/>
          <p:cNvSpPr/>
          <p:nvPr/>
        </p:nvSpPr>
        <p:spPr>
          <a:xfrm>
            <a:off x="685800" y="5315040"/>
            <a:ext cx="77724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85800" y="5289480"/>
            <a:ext cx="80773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Software Generador de Aplica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85800" y="5746680"/>
            <a:ext cx="80773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Opera en Redes Computacion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6084720" y="260280"/>
            <a:ext cx="1295640" cy="104796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685800" y="2192400"/>
            <a:ext cx="3962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85800" y="2166840"/>
            <a:ext cx="39625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GROUPW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724280" y="2166840"/>
            <a:ext cx="40388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WORKFL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 u="sng">
                <a:solidFill>
                  <a:srgbClr val="000000"/>
                </a:solidFill>
                <a:uFillTx/>
                <a:latin typeface="Verdana"/>
              </a:rPr>
              <a:t>Workflow</a:t>
            </a:r>
            <a:r>
              <a:rPr b="0" lang="es-ES_tradnl" sz="25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2500"/>
            </a:br>
            <a:r>
              <a:rPr b="0" lang="es-ES_tradnl" sz="2500" spc="-1" strike="noStrike">
                <a:solidFill>
                  <a:srgbClr val="000000"/>
                </a:solidFill>
                <a:latin typeface="Verdana"/>
              </a:rPr>
              <a:t>Comunicaciones Corporativa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24000" y="1773360"/>
            <a:ext cx="8496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55400" indent="-455400">
              <a:spcBef>
                <a:spcPts val="524"/>
              </a:spcBef>
              <a:buClr>
                <a:srgbClr val="000000"/>
              </a:buClr>
              <a:buSzPct val="70000"/>
              <a:buFont typeface="Monotype Sor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Verdana"/>
              </a:rPr>
              <a:t>Formularios electrónicos, rutas y reglas predefinidas, Administración de Roles Dinámico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spcBef>
                <a:spcPts val="524"/>
              </a:spcBef>
              <a:buClr>
                <a:srgbClr val="000000"/>
              </a:buClr>
              <a:buSzPct val="70000"/>
              <a:buFont typeface="Monotype Sor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Verdana"/>
              </a:rPr>
              <a:t>Control de Gestió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880560" indent="-423000">
              <a:spcBef>
                <a:spcPts val="451"/>
              </a:spcBef>
              <a:buClr>
                <a:srgbClr val="ff0000"/>
              </a:buClr>
              <a:buSzPct val="60000"/>
              <a:buFont typeface="Monotype Sort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Herramienta para el seguimiento y control de procesos administrativ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spcBef>
                <a:spcPts val="524"/>
              </a:spcBef>
              <a:buClr>
                <a:srgbClr val="000000"/>
              </a:buClr>
              <a:buSzPct val="70000"/>
              <a:buFont typeface="Monotype Sor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Verdana"/>
              </a:rPr>
              <a:t>Capaz de integrar todas las plataformas de la empresa y</a:t>
            </a:r>
            <a:r>
              <a:rPr b="0" lang="es-ES_tradnl" sz="2100" spc="-1" strike="noStrike">
                <a:solidFill>
                  <a:srgbClr val="000000"/>
                </a:solidFill>
                <a:latin typeface="Verdana"/>
              </a:rPr>
              <a:t>Respaldo automático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 algn="just">
              <a:spcBef>
                <a:spcPts val="524"/>
              </a:spcBef>
              <a:buClr>
                <a:srgbClr val="000000"/>
              </a:buClr>
              <a:buSzPct val="70000"/>
              <a:buFont typeface="Monotype Sor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Verdana"/>
              </a:rPr>
              <a:t>Alarmas automáticas, calendarios: múltiples - horarios de trabajo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 algn="just">
              <a:spcBef>
                <a:spcPts val="524"/>
              </a:spcBef>
              <a:buClr>
                <a:srgbClr val="000000"/>
              </a:buClr>
              <a:buSzPct val="70000"/>
              <a:buFont typeface="Monotype Sor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Verdana"/>
              </a:rPr>
              <a:t>Auditoria: Quién y qué Rol representaba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 algn="just">
              <a:spcBef>
                <a:spcPts val="524"/>
              </a:spcBef>
              <a:buClr>
                <a:srgbClr val="000000"/>
              </a:buClr>
              <a:buSzPct val="70000"/>
              <a:buFont typeface="Monotype Sor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Verdana"/>
              </a:rPr>
              <a:t>Historia: Para cada mensaje saber por donde pasó, qué se hizo, quién lo hizo, que acciones automáticas se activar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7451640" y="189000"/>
          <a:ext cx="1401840" cy="119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451640" y="189000"/>
                    <a:ext cx="1401840" cy="119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dissolv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079280" y="720720"/>
            <a:ext cx="74898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000000"/>
                </a:solidFill>
                <a:latin typeface="Verdana"/>
              </a:rPr>
              <a:t>Colaboración - Secuenciamiento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453960" y="1613160"/>
            <a:ext cx="8555760" cy="4625640"/>
            <a:chOff x="453960" y="1613160"/>
            <a:chExt cx="8555760" cy="4625640"/>
          </a:xfrm>
        </p:grpSpPr>
        <p:sp>
          <p:nvSpPr>
            <p:cNvPr id="240" name=""/>
            <p:cNvSpPr/>
            <p:nvPr/>
          </p:nvSpPr>
          <p:spPr>
            <a:xfrm flipV="1">
              <a:off x="1731960" y="2018160"/>
              <a:ext cx="1080" cy="37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591560" y="5594760"/>
              <a:ext cx="5821560" cy="1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60520" y="1707840"/>
              <a:ext cx="214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Estructuració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53960" y="2637720"/>
              <a:ext cx="1438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estructurad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09400" y="4229280"/>
              <a:ext cx="1438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N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estructurad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398720" y="5558760"/>
              <a:ext cx="1213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enfoqu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067480" y="5596200"/>
              <a:ext cx="1393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Centrado 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informaci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381280" y="5596200"/>
              <a:ext cx="1393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Centrado 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proces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152800" y="4150800"/>
              <a:ext cx="1472760" cy="89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Times New Roman"/>
                </a:rPr>
                <a:t>Proceso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Times New Roman"/>
                </a:rPr>
                <a:t>colaborativo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133440" y="3601800"/>
              <a:ext cx="1539720" cy="965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Workflow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ad-ho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186800" y="2981160"/>
              <a:ext cx="1893600" cy="1031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Workflow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administrativ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659560" y="2500200"/>
              <a:ext cx="1472760" cy="9626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Workflow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producció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205080" y="2018520"/>
              <a:ext cx="4137840" cy="26820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982320" y="2340360"/>
              <a:ext cx="1418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400" spc="-1" strike="noStrike">
                  <a:solidFill>
                    <a:srgbClr val="000000"/>
                  </a:solidFill>
                  <a:latin typeface="Times New Roman"/>
                </a:rPr>
                <a:t>Workflow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163600" y="4996440"/>
              <a:ext cx="23691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Times New Roman"/>
                </a:rPr>
                <a:t>Lotus Notes (IBM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Times New Roman"/>
                </a:rPr>
                <a:t>Microsoft Exchang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286240" y="4541040"/>
              <a:ext cx="25671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Times New Roman"/>
                </a:rPr>
                <a:t>Flowmark (IBM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Times New Roman"/>
                </a:rPr>
                <a:t>Xnear (Xnear - Chile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Times New Roman"/>
                </a:rPr>
                <a:t>Metro (ActionTech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 flipH="1" flipV="1">
              <a:off x="5870160" y="4012560"/>
              <a:ext cx="701280" cy="618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371200" y="1613160"/>
              <a:ext cx="3638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Visual Workflow (FileNet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 flipH="1">
              <a:off x="6431040" y="2087640"/>
              <a:ext cx="350640" cy="343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" name=""/>
          <p:cNvSpPr/>
          <p:nvPr/>
        </p:nvSpPr>
        <p:spPr>
          <a:xfrm>
            <a:off x="1676520" y="3505320"/>
            <a:ext cx="716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4800600" y="1828800"/>
            <a:ext cx="0" cy="3733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 u="sng">
                <a:solidFill>
                  <a:srgbClr val="000000"/>
                </a:solidFill>
                <a:uFillTx/>
                <a:latin typeface="Verdana"/>
              </a:rPr>
              <a:t>Groupware y Workflow</a:t>
            </a:r>
            <a:r>
              <a:rPr b="0" lang="es-ES_tradnl" sz="25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2500"/>
            </a:br>
            <a:r>
              <a:rPr b="0" lang="es-ES_tradnl" sz="2500" spc="-1" strike="noStrike">
                <a:solidFill>
                  <a:srgbClr val="000000"/>
                </a:solidFill>
                <a:latin typeface="Verdana"/>
              </a:rPr>
              <a:t>Impedimentos para su Uso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62" name=""/>
          <p:cNvGraphicFramePr/>
          <p:nvPr/>
        </p:nvGraphicFramePr>
        <p:xfrm>
          <a:off x="1476360" y="1700280"/>
          <a:ext cx="6676920" cy="384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6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76360" y="1700280"/>
                    <a:ext cx="6676920" cy="384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4" name=""/>
          <p:cNvSpPr/>
          <p:nvPr/>
        </p:nvSpPr>
        <p:spPr>
          <a:xfrm>
            <a:off x="1332000" y="5661000"/>
            <a:ext cx="7308720" cy="65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Fuente: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ncuesta 500 Usuarios Group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http://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www.compinfo-center.com/pqpwr-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4"/>
          <a:stretch/>
        </p:blipFill>
        <p:spPr>
          <a:xfrm>
            <a:off x="6227640" y="260280"/>
            <a:ext cx="1316160" cy="12351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000000"/>
                </a:solidFill>
                <a:latin typeface="Verdana"/>
              </a:rPr>
              <a:t>Valor agregado desde el punto de</a:t>
            </a:r>
            <a:r>
              <a:rPr b="0" lang="es-ES_tradnl" sz="3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_tradnl" sz="3400" spc="-1" strike="noStrike">
                <a:solidFill>
                  <a:srgbClr val="000000"/>
                </a:solidFill>
                <a:latin typeface="Verdana"/>
              </a:rPr>
              <a:t>vista del client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rcRect l="2884" t="14300" r="961" b="3463"/>
          <a:stretch/>
        </p:blipFill>
        <p:spPr>
          <a:xfrm>
            <a:off x="838080" y="2438280"/>
            <a:ext cx="762012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39280" y="188640"/>
            <a:ext cx="597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 u="sng">
                <a:solidFill>
                  <a:srgbClr val="000000"/>
                </a:solidFill>
                <a:uFillTx/>
                <a:latin typeface="Verdana"/>
              </a:rPr>
              <a:t>Workflow</a:t>
            </a:r>
            <a:r>
              <a:rPr b="0" lang="es-ES_tradnl" sz="25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2500"/>
            </a:br>
            <a:r>
              <a:rPr b="0" lang="es-ES_tradnl" sz="2500" spc="-1" strike="noStrike">
                <a:solidFill>
                  <a:srgbClr val="000000"/>
                </a:solidFill>
                <a:latin typeface="Verdana"/>
              </a:rPr>
              <a:t>Producto : XNear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2"/>
          <a:stretch/>
        </p:blipFill>
        <p:spPr>
          <a:xfrm>
            <a:off x="7740720" y="260280"/>
            <a:ext cx="942840" cy="100800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3"/>
          <a:stretch/>
        </p:blipFill>
        <p:spPr>
          <a:xfrm>
            <a:off x="324000" y="1844640"/>
            <a:ext cx="3962160" cy="297180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4"/>
          <a:stretch/>
        </p:blipFill>
        <p:spPr>
          <a:xfrm>
            <a:off x="1547640" y="4292640"/>
            <a:ext cx="1371600" cy="182880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5"/>
          <a:stretch/>
        </p:blipFill>
        <p:spPr>
          <a:xfrm>
            <a:off x="3419640" y="2349360"/>
            <a:ext cx="3962160" cy="281952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/>
          <p:cNvPicPr/>
          <p:nvPr/>
        </p:nvPicPr>
        <p:blipFill>
          <a:blip r:embed="rId6"/>
          <a:stretch/>
        </p:blipFill>
        <p:spPr>
          <a:xfrm>
            <a:off x="5219640" y="3213000"/>
            <a:ext cx="3505320" cy="281952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/>
          <p:nvPr/>
        </p:nvSpPr>
        <p:spPr>
          <a:xfrm>
            <a:off x="2590920" y="5715000"/>
            <a:ext cx="1676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00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2500"/>
                            </p:stCondLst>
                            <p:childTnLst>
                              <p:par>
                                <p:cTn id="3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500"/>
                            </p:stCondLst>
                            <p:childTnLst>
                              <p:par>
                                <p:cTn id="3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74560" y="823680"/>
            <a:ext cx="7778880" cy="517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br>
              <a:rPr sz="3800"/>
            </a:br>
            <a:br>
              <a:rPr sz="3800"/>
            </a:b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Análisis: Organización</a:t>
            </a:r>
            <a:r>
              <a:rPr b="0" lang="es-ES_tradnl" sz="3800" spc="-1" strike="noStrike">
                <a:solidFill>
                  <a:srgbClr val="ffffff"/>
                </a:solidFill>
                <a:latin typeface="Verdana"/>
              </a:rPr>
              <a:t> </a:t>
            </a:r>
            <a:br>
              <a:rPr sz="3800"/>
            </a:br>
            <a:r>
              <a:rPr b="0" lang="es-ES_tradnl" sz="3100" spc="-1" strike="noStrike">
                <a:solidFill>
                  <a:srgbClr val="000000"/>
                </a:solidFill>
                <a:latin typeface="Verdana"/>
              </a:rPr>
              <a:t>Estructura matricial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41160" y="1897200"/>
            <a:ext cx="7778520" cy="4022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1873080" y="2514600"/>
            <a:ext cx="64328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1797120" y="3124080"/>
            <a:ext cx="64324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1728720" y="5486400"/>
            <a:ext cx="6500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4572000" y="1982880"/>
            <a:ext cx="0" cy="3427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894120" y="1982880"/>
            <a:ext cx="0" cy="3427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316480" y="2058840"/>
            <a:ext cx="0" cy="342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062760" y="2058840"/>
            <a:ext cx="0" cy="342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6807240" y="2058840"/>
            <a:ext cx="0" cy="342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485120" y="2058840"/>
            <a:ext cx="0" cy="342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8229600" y="2058840"/>
            <a:ext cx="0" cy="342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548280" y="2598840"/>
            <a:ext cx="327888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MS Sans Serif"/>
              </a:rPr>
              <a:t>Proceso de Negocios 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597240" y="3200400"/>
            <a:ext cx="327888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MS Sans Serif"/>
              </a:rPr>
              <a:t>Proceso de Negocios 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73560" y="3733920"/>
            <a:ext cx="327888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MS Sans Serif"/>
              </a:rPr>
              <a:t>Proceso de Negocios 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594000" y="5029200"/>
            <a:ext cx="330156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MS Sans Serif"/>
              </a:rPr>
              <a:t>Proceso de Negocios 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013120" y="4351320"/>
            <a:ext cx="66060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MS Sans Serif"/>
              </a:rPr>
              <a:t>.....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962520" y="1066680"/>
            <a:ext cx="396216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MS Sans Serif"/>
              </a:rPr>
              <a:t>Areas de la organiz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672440" y="1836720"/>
            <a:ext cx="34524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MS Sans Serif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994560" y="1836720"/>
            <a:ext cx="34524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MS Sans Serif"/>
              </a:rPr>
              <a:t>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485320" y="1836720"/>
            <a:ext cx="34524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MS Sans Serif"/>
              </a:rPr>
              <a:t>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298200" y="1836720"/>
            <a:ext cx="34524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MS Sans Serif"/>
              </a:rPr>
              <a:t>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716960" y="1836720"/>
            <a:ext cx="36792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MS Sans Serif"/>
              </a:rPr>
              <a:t>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904080" y="1913040"/>
            <a:ext cx="42264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MS Sans Serif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1830240" y="3657600"/>
            <a:ext cx="63644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1797120" y="4267080"/>
            <a:ext cx="64324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797120" y="4876920"/>
            <a:ext cx="64324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68000" y="836280"/>
            <a:ext cx="8001000" cy="64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Elementos para lograr equilibri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69800" indent="-469800">
              <a:spcBef>
                <a:spcPts val="575"/>
              </a:spcBef>
              <a:buClr>
                <a:srgbClr val="cc0000"/>
              </a:buClr>
              <a:buSzPct val="4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Verdana"/>
              </a:rPr>
              <a:t>Equilibrio entre autoridad y responsabilidad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75"/>
              </a:spcBef>
              <a:buClr>
                <a:srgbClr val="cc0000"/>
              </a:buClr>
              <a:buSzPct val="4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Verdana"/>
              </a:rPr>
              <a:t>Estructura organizacional matricia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1096920" indent="-4366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Verdana"/>
              </a:rPr>
              <a:t>dependencia administrativa y dependencia del proceso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75"/>
              </a:spcBef>
              <a:buClr>
                <a:srgbClr val="cc0000"/>
              </a:buClr>
              <a:buSzPct val="4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Empowering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75"/>
              </a:spcBef>
              <a:buClr>
                <a:srgbClr val="cc0000"/>
              </a:buClr>
              <a:buSzPct val="4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Verdana"/>
              </a:rPr>
              <a:t>Contratos de desempeño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75"/>
              </a:spcBef>
              <a:buClr>
                <a:srgbClr val="cc0000"/>
              </a:buClr>
              <a:buSzPct val="4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Verdana"/>
              </a:rPr>
              <a:t>Las áreas funcionales existen en lo operativo para apoyar los procesos de negocios que son el fin de la empresa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Métricas de Procesos de Negocio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6400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550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Verdana"/>
              </a:rPr>
              <a:t>Representan medidas cuantitativas del desempeño del proceso. Existen de tres tipos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Verdana"/>
              </a:rPr>
              <a:t>Indicadores del negoci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Verdana"/>
              </a:rPr>
              <a:t>Indicadores de Proceso, son aquellas que miden los flujos en los procesos (tiempos, tasas de producción, cuellos de botella, etc.)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Verdana"/>
              </a:rPr>
              <a:t>Indicadores de Variables de Estado, son aquellas que miden etapas en los procesos (inventarios, holguras, fallas, etc.)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4" name=""/>
          <p:cNvGraphicFramePr/>
          <p:nvPr/>
        </p:nvGraphicFramePr>
        <p:xfrm>
          <a:off x="0" y="-1440"/>
          <a:ext cx="9144000" cy="6859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0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-1440"/>
                    <a:ext cx="9144000" cy="685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" descr="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Guías para el Rediseñ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Metodología genéric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Cadena de Valo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Mejores Práctica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Benchmarking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Ciclo de vid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CMM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EMM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Patrones de Proceso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Verdana"/>
              </a:rPr>
              <a:t>Patrones de</a:t>
            </a:r>
            <a:br>
              <a:rPr sz="4000"/>
            </a:br>
            <a:r>
              <a:rPr b="0" lang="es-ES_tradnl" sz="4000" spc="-1" strike="noStrike">
                <a:solidFill>
                  <a:srgbClr val="000000"/>
                </a:solidFill>
                <a:latin typeface="Verdana"/>
              </a:rPr>
              <a:t>Procesos de Negocio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1142640" y="3886200"/>
            <a:ext cx="701028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Departamento de Ingeniería Industria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Universidad de Chil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Derechos Reservados ©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Antonio Holgado S.M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Patrones de Procesos</a:t>
            </a:r>
            <a:br>
              <a:rPr sz="3800"/>
            </a:b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de Negoci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64760" indent="-46476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Doctor Oscar Barro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Patrones Normativo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Incorporan mejores pr</a:t>
            </a: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áctica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Verdana"/>
              </a:rPr>
              <a:t>Prácticas de trabajo utilizadas por las empresas líderes en sus rubros, a nivel mundia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Distinguen procesos en áreas cómo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Verdana"/>
              </a:rPr>
              <a:t>Relaciones con agent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Gestió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Operaciones y Logística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spcBef>
                <a:spcPts val="425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Mantención de Estado</a:t>
            </a:r>
            <a:r>
              <a:rPr b="0" lang="es-ES_tradnl" sz="1700" spc="-1" strike="noStrike">
                <a:solidFill>
                  <a:srgbClr val="000000"/>
                </a:solidFill>
                <a:latin typeface="Verdana"/>
              </a:rPr>
              <a:t> (información consolidada del sistema)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Macroprocesos de una</a:t>
            </a: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 Empres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2"/>
          <a:srcRect l="6349" t="15705" r="4688" b="22046"/>
          <a:stretch/>
        </p:blipFill>
        <p:spPr>
          <a:xfrm>
            <a:off x="326880" y="1728720"/>
            <a:ext cx="8677440" cy="44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"/>
          <p:cNvGrpSpPr/>
          <p:nvPr/>
        </p:nvGrpSpPr>
        <p:grpSpPr>
          <a:xfrm>
            <a:off x="227160" y="1523880"/>
            <a:ext cx="8916480" cy="4261320"/>
            <a:chOff x="227160" y="1523880"/>
            <a:chExt cx="8916480" cy="4261320"/>
          </a:xfrm>
        </p:grpSpPr>
        <p:sp>
          <p:nvSpPr>
            <p:cNvPr id="92" name=""/>
            <p:cNvSpPr/>
            <p:nvPr/>
          </p:nvSpPr>
          <p:spPr>
            <a:xfrm>
              <a:off x="980640" y="3761640"/>
              <a:ext cx="2092680" cy="0"/>
            </a:xfrm>
            <a:prstGeom prst="line">
              <a:avLst/>
            </a:prstGeom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391040" y="2524320"/>
              <a:ext cx="1682640" cy="2728800"/>
            </a:xfrm>
            <a:custGeom>
              <a:avLst/>
              <a:gdLst/>
              <a:ahLst/>
              <a:rect l="l" t="t" r="r" b="b"/>
              <a:pathLst>
                <a:path w="1054" h="1740">
                  <a:moveTo>
                    <a:pt x="1054" y="0"/>
                  </a:moveTo>
                  <a:lnTo>
                    <a:pt x="0" y="0"/>
                  </a:lnTo>
                  <a:lnTo>
                    <a:pt x="0" y="1740"/>
                  </a:lnTo>
                  <a:lnTo>
                    <a:pt x="1054" y="1740"/>
                  </a:lnTo>
                </a:path>
              </a:pathLst>
            </a:custGeom>
            <a:noFill/>
            <a:ln w="324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075120" y="3506040"/>
              <a:ext cx="191880" cy="497160"/>
            </a:xfrm>
            <a:custGeom>
              <a:avLst/>
              <a:gdLst/>
              <a:ahLst/>
              <a:rect l="l" t="t" r="r" b="b"/>
              <a:pathLst>
                <a:path w="120" h="317">
                  <a:moveTo>
                    <a:pt x="103" y="0"/>
                  </a:moveTo>
                  <a:lnTo>
                    <a:pt x="0" y="0"/>
                  </a:lnTo>
                  <a:lnTo>
                    <a:pt x="0" y="317"/>
                  </a:lnTo>
                  <a:lnTo>
                    <a:pt x="120" y="317"/>
                  </a:lnTo>
                </a:path>
              </a:pathLst>
            </a:custGeom>
            <a:noFill/>
            <a:ln w="324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075120" y="4958640"/>
              <a:ext cx="191880" cy="497160"/>
            </a:xfrm>
            <a:custGeom>
              <a:avLst/>
              <a:gdLst/>
              <a:ahLst/>
              <a:rect l="l" t="t" r="r" b="b"/>
              <a:pathLst>
                <a:path w="120" h="317">
                  <a:moveTo>
                    <a:pt x="103" y="0"/>
                  </a:moveTo>
                  <a:lnTo>
                    <a:pt x="0" y="0"/>
                  </a:lnTo>
                  <a:lnTo>
                    <a:pt x="0" y="317"/>
                  </a:lnTo>
                  <a:lnTo>
                    <a:pt x="120" y="317"/>
                  </a:lnTo>
                </a:path>
              </a:pathLst>
            </a:custGeom>
            <a:noFill/>
            <a:ln w="324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075120" y="2268720"/>
              <a:ext cx="191880" cy="497160"/>
            </a:xfrm>
            <a:custGeom>
              <a:avLst/>
              <a:gdLst/>
              <a:ahLst/>
              <a:rect l="l" t="t" r="r" b="b"/>
              <a:pathLst>
                <a:path w="120" h="317">
                  <a:moveTo>
                    <a:pt x="103" y="0"/>
                  </a:moveTo>
                  <a:lnTo>
                    <a:pt x="0" y="0"/>
                  </a:lnTo>
                  <a:lnTo>
                    <a:pt x="0" y="317"/>
                  </a:lnTo>
                  <a:lnTo>
                    <a:pt x="120" y="317"/>
                  </a:lnTo>
                </a:path>
              </a:pathLst>
            </a:custGeom>
            <a:noFill/>
            <a:ln w="3240">
              <a:solidFill>
                <a:srgbClr val="0033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590480" y="3267720"/>
              <a:ext cx="1254600" cy="1037880"/>
            </a:xfrm>
            <a:prstGeom prst="rect">
              <a:avLst/>
            </a:prstGeom>
            <a:solidFill>
              <a:srgbClr val="a3b2c1"/>
            </a:solidFill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590480" y="2003760"/>
              <a:ext cx="1254600" cy="1037880"/>
            </a:xfrm>
            <a:prstGeom prst="rect">
              <a:avLst/>
            </a:prstGeom>
            <a:solidFill>
              <a:srgbClr val="a3b2c1"/>
            </a:solidFill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255840" y="2064960"/>
              <a:ext cx="1152720" cy="406080"/>
            </a:xfrm>
            <a:custGeom>
              <a:avLst/>
              <a:gdLst>
                <a:gd name="textAreaLeft" fmla="*/ 0 w 1152720"/>
                <a:gd name="textAreaRight" fmla="*/ 1153080 w 1152720"/>
                <a:gd name="textAreaTop" fmla="*/ 0 h 406080"/>
                <a:gd name="textAreaBottom" fmla="*/ 406440 h 406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343" y="0"/>
                  </a:lnTo>
                  <a:lnTo>
                    <a:pt x="21600" y="10800"/>
                  </a:lnTo>
                  <a:lnTo>
                    <a:pt x="20343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a3b2c1"/>
            </a:solidFill>
            <a:ln w="32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255840" y="2551320"/>
              <a:ext cx="1152720" cy="406080"/>
            </a:xfrm>
            <a:custGeom>
              <a:avLst/>
              <a:gdLst>
                <a:gd name="textAreaLeft" fmla="*/ 0 w 1152720"/>
                <a:gd name="textAreaRight" fmla="*/ 1153080 w 1152720"/>
                <a:gd name="textAreaTop" fmla="*/ 0 h 406080"/>
                <a:gd name="textAreaBottom" fmla="*/ 406440 h 406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343" y="0"/>
                  </a:lnTo>
                  <a:lnTo>
                    <a:pt x="21600" y="10800"/>
                  </a:lnTo>
                  <a:lnTo>
                    <a:pt x="20343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a3b2c1"/>
            </a:solidFill>
            <a:ln w="32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255840" y="3306960"/>
              <a:ext cx="1152720" cy="406080"/>
            </a:xfrm>
            <a:custGeom>
              <a:avLst/>
              <a:gdLst>
                <a:gd name="textAreaLeft" fmla="*/ 0 w 1152720"/>
                <a:gd name="textAreaRight" fmla="*/ 1153080 w 1152720"/>
                <a:gd name="textAreaTop" fmla="*/ 0 h 406080"/>
                <a:gd name="textAreaBottom" fmla="*/ 406440 h 406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343" y="0"/>
                  </a:lnTo>
                  <a:lnTo>
                    <a:pt x="21600" y="10800"/>
                  </a:lnTo>
                  <a:lnTo>
                    <a:pt x="20343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a3b2c1"/>
            </a:solidFill>
            <a:ln w="32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255840" y="3800880"/>
              <a:ext cx="1152720" cy="406080"/>
            </a:xfrm>
            <a:custGeom>
              <a:avLst/>
              <a:gdLst>
                <a:gd name="textAreaLeft" fmla="*/ 0 w 1152720"/>
                <a:gd name="textAreaRight" fmla="*/ 1153080 w 1152720"/>
                <a:gd name="textAreaTop" fmla="*/ 0 h 406080"/>
                <a:gd name="textAreaBottom" fmla="*/ 406440 h 406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343" y="0"/>
                  </a:lnTo>
                  <a:lnTo>
                    <a:pt x="21600" y="10800"/>
                  </a:lnTo>
                  <a:lnTo>
                    <a:pt x="20343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a3b2c1"/>
            </a:solidFill>
            <a:ln w="32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99840" y="1523880"/>
              <a:ext cx="35118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Niveles en la creación de val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27160" y="3338280"/>
              <a:ext cx="846360" cy="821880"/>
            </a:xfrm>
            <a:prstGeom prst="rect">
              <a:avLst/>
            </a:prstGeom>
            <a:solidFill>
              <a:srgbClr val="cc0000"/>
            </a:solidFill>
            <a:ln w="3240">
              <a:solidFill>
                <a:srgbClr val="003366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dddddd"/>
                  </a:solidFill>
                  <a:latin typeface="Arial"/>
                </a:rPr>
                <a:t>Creació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dddddd"/>
                  </a:solidFill>
                  <a:latin typeface="Arial"/>
                </a:rPr>
                <a:t>de Valo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dddddd"/>
                  </a:solidFill>
                  <a:latin typeface="Arial"/>
                </a:rPr>
                <a:t>(EVA</a:t>
              </a:r>
              <a:r>
                <a:rPr b="1" lang="en-US" sz="1200" spc="-1" strike="noStrike" baseline="30000">
                  <a:solidFill>
                    <a:srgbClr val="dddddd"/>
                  </a:solidFill>
                  <a:latin typeface="Arial"/>
                </a:rPr>
                <a:t>®</a:t>
              </a:r>
              <a:r>
                <a:rPr b="1" lang="en-US" sz="1200" spc="-1" strike="noStrike">
                  <a:solidFill>
                    <a:srgbClr val="dddddd"/>
                  </a:solidFill>
                  <a:latin typeface="Arial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351600" y="2160720"/>
              <a:ext cx="101052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Volumen de Venta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598560" y="2615400"/>
              <a:ext cx="5706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Preci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255480" y="3800880"/>
              <a:ext cx="11070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Administració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88600" y="3953160"/>
              <a:ext cx="9151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      </a:t>
              </a: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y Venta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366360" y="3391560"/>
              <a:ext cx="8114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Operació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647960" y="2025360"/>
              <a:ext cx="4430160" cy="991080"/>
            </a:xfrm>
            <a:prstGeom prst="rect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721400" y="2055240"/>
              <a:ext cx="20786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marL="171360" indent="-171360"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Acceso a nuevos mercado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171360"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Nuevos producto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996600" y="2055240"/>
              <a:ext cx="202572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71360" indent="-171360"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Creación de nuevos productos / servici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721040" y="2507040"/>
              <a:ext cx="189252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marL="171360" indent="-171360"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Construcción de imagen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171360"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Cuadrar demanda-oferta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726080" y="3297600"/>
              <a:ext cx="243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71360" indent="-171360"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Reducción de costos operac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171360"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Mejores compra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22120" y="3796200"/>
              <a:ext cx="2412360" cy="59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marL="171360" indent="-171360"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Mejoramiento costos servici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171360"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Redes logísticas eficiente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171360"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Reducción costos de transacción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996600" y="3796200"/>
              <a:ext cx="21470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71360" indent="-171360"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Marketing efectiv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171360"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Monitoreo de operacione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001280" y="5185800"/>
              <a:ext cx="2134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71360" indent="-171360"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Mejoramiento de productividad de flota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718160" y="5190480"/>
              <a:ext cx="2271600" cy="59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71360" indent="-171360"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Mejoramientos de productividad de redes logística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996600" y="3297600"/>
              <a:ext cx="185508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71360" indent="-171360"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Fuentes de negociación de contrato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730760" y="4705920"/>
              <a:ext cx="215352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71360" indent="-171360"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Optimización de Inventario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171360" indent="-171360"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000000"/>
                  </a:solidFill>
                  <a:latin typeface="Arial"/>
                </a:rPr>
                <a:t>Reducción Time-to-market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380200" y="1531440"/>
              <a:ext cx="27147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osibilidad de mejorar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641480" y="3278880"/>
              <a:ext cx="4430160" cy="1128960"/>
            </a:xfrm>
            <a:prstGeom prst="rect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635360" y="4660560"/>
              <a:ext cx="4430160" cy="1078920"/>
            </a:xfrm>
            <a:prstGeom prst="rect">
              <a:avLst/>
            </a:pr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246120" y="4753080"/>
              <a:ext cx="1152720" cy="406080"/>
            </a:xfrm>
            <a:custGeom>
              <a:avLst/>
              <a:gdLst>
                <a:gd name="textAreaLeft" fmla="*/ 0 w 1152720"/>
                <a:gd name="textAreaRight" fmla="*/ 1153080 w 1152720"/>
                <a:gd name="textAreaTop" fmla="*/ 0 h 406080"/>
                <a:gd name="textAreaBottom" fmla="*/ 406440 h 406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343" y="0"/>
                  </a:lnTo>
                  <a:lnTo>
                    <a:pt x="21600" y="10800"/>
                  </a:lnTo>
                  <a:lnTo>
                    <a:pt x="20343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a3b2c1"/>
            </a:solidFill>
            <a:ln w="32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246120" y="5240520"/>
              <a:ext cx="1152720" cy="406080"/>
            </a:xfrm>
            <a:custGeom>
              <a:avLst/>
              <a:gdLst>
                <a:gd name="textAreaLeft" fmla="*/ 0 w 1152720"/>
                <a:gd name="textAreaRight" fmla="*/ 1153080 w 1152720"/>
                <a:gd name="textAreaTop" fmla="*/ 0 h 406080"/>
                <a:gd name="textAreaBottom" fmla="*/ 406440 h 406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0343" y="0"/>
                  </a:lnTo>
                  <a:lnTo>
                    <a:pt x="21600" y="10800"/>
                  </a:lnTo>
                  <a:lnTo>
                    <a:pt x="20343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a3b2c1"/>
            </a:solidFill>
            <a:ln w="32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255840" y="4753080"/>
              <a:ext cx="108036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Capital de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Trabaj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366360" y="5284800"/>
              <a:ext cx="973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Activos Fijo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013880" y="2488320"/>
              <a:ext cx="204372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71360" indent="-171360"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Segmentación efectiva de consumidore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990120" y="4699800"/>
              <a:ext cx="2153520" cy="25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71360" indent="-171360">
                <a:buClr>
                  <a:srgbClr val="003366"/>
                </a:buClr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Pronósticos más preciso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662480" y="3324240"/>
              <a:ext cx="1107720" cy="44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Reducció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de Costos</a:t>
              </a:r>
              <a:br>
                <a:rPr sz="1000"/>
              </a:b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1" name=""/>
            <p:cNvGrpSpPr/>
            <p:nvPr/>
          </p:nvGrpSpPr>
          <p:grpSpPr>
            <a:xfrm>
              <a:off x="1809000" y="3768120"/>
              <a:ext cx="949680" cy="446040"/>
              <a:chOff x="1809000" y="3768120"/>
              <a:chExt cx="949680" cy="446040"/>
            </a:xfrm>
          </p:grpSpPr>
          <p:sp>
            <p:nvSpPr>
              <p:cNvPr id="132" name=""/>
              <p:cNvSpPr/>
              <p:nvPr/>
            </p:nvSpPr>
            <p:spPr>
              <a:xfrm>
                <a:off x="1809000" y="3768120"/>
                <a:ext cx="0" cy="444240"/>
              </a:xfrm>
              <a:prstGeom prst="line">
                <a:avLst/>
              </a:prstGeom>
              <a:ln w="381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1809000" y="4214160"/>
                <a:ext cx="949680" cy="0"/>
              </a:xfrm>
              <a:prstGeom prst="line">
                <a:avLst/>
              </a:prstGeom>
              <a:ln w="381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1854000" y="3312000"/>
              <a:ext cx="1585440" cy="835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1106" y="21596"/>
                  </a:moveTo>
                  <a:arcTo wR="10800" hR="10800" stAng="5302466" swAng="5607219"/>
                  <a:lnTo>
                    <a:pt x="10800" y="10800"/>
                  </a:lnTo>
                  <a:close/>
                </a:path>
                <a:path fill="none" w="21600" h="21600">
                  <a:moveTo>
                    <a:pt x="11106" y="21596"/>
                  </a:moveTo>
                  <a:arcTo wR="10800" hR="10800" stAng="5302466" swAng="5607219"/>
                </a:path>
              </a:pathLst>
            </a:custGeom>
            <a:noFill/>
            <a:ln w="38160">
              <a:solidFill>
                <a:srgbClr val="dddddd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590480" y="4693320"/>
              <a:ext cx="1254600" cy="1038240"/>
            </a:xfrm>
            <a:prstGeom prst="rect">
              <a:avLst/>
            </a:prstGeom>
            <a:solidFill>
              <a:srgbClr val="a3b2c1"/>
            </a:solidFill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596960" y="4708800"/>
              <a:ext cx="1243440" cy="44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Reducción del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uso de activo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681560" y="5511960"/>
              <a:ext cx="109800" cy="134640"/>
            </a:xfrm>
            <a:prstGeom prst="rect">
              <a:avLst/>
            </a:prstGeom>
            <a:solidFill>
              <a:srgbClr val="00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833480" y="5511960"/>
              <a:ext cx="111240" cy="13464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978560" y="5511960"/>
              <a:ext cx="109800" cy="13464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767960" y="5347080"/>
              <a:ext cx="111600" cy="134640"/>
            </a:xfrm>
            <a:prstGeom prst="rect">
              <a:avLst/>
            </a:prstGeom>
            <a:solidFill>
              <a:srgbClr val="00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932120" y="5369400"/>
              <a:ext cx="109800" cy="13464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866600" y="5204520"/>
              <a:ext cx="110160" cy="13464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527920" y="5482080"/>
              <a:ext cx="111600" cy="135000"/>
            </a:xfrm>
            <a:prstGeom prst="rect">
              <a:avLst/>
            </a:prstGeom>
            <a:solidFill>
              <a:srgbClr val="ff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266200" y="5339520"/>
              <a:ext cx="156240" cy="17568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5" name=""/>
            <p:cNvGrpSpPr/>
            <p:nvPr/>
          </p:nvGrpSpPr>
          <p:grpSpPr>
            <a:xfrm>
              <a:off x="1801080" y="2477160"/>
              <a:ext cx="951480" cy="446400"/>
              <a:chOff x="1801080" y="2477160"/>
              <a:chExt cx="951480" cy="446400"/>
            </a:xfrm>
          </p:grpSpPr>
          <p:sp>
            <p:nvSpPr>
              <p:cNvPr id="146" name=""/>
              <p:cNvSpPr/>
              <p:nvPr/>
            </p:nvSpPr>
            <p:spPr>
              <a:xfrm>
                <a:off x="1801080" y="2477160"/>
                <a:ext cx="0" cy="444600"/>
              </a:xfrm>
              <a:prstGeom prst="line">
                <a:avLst/>
              </a:prstGeom>
              <a:ln w="381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1801080" y="2923560"/>
                <a:ext cx="951480" cy="0"/>
              </a:xfrm>
              <a:prstGeom prst="line">
                <a:avLst/>
              </a:prstGeom>
              <a:ln w="381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8" name=""/>
            <p:cNvSpPr/>
            <p:nvPr/>
          </p:nvSpPr>
          <p:spPr>
            <a:xfrm flipV="1">
              <a:off x="1017000" y="2181600"/>
              <a:ext cx="1632960" cy="686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38160">
              <a:solidFill>
                <a:srgbClr val="ddddd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648080" y="2022840"/>
              <a:ext cx="1139760" cy="44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Mejoramient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Ingreso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647960" y="2491560"/>
              <a:ext cx="4433400" cy="0"/>
            </a:xfrm>
            <a:prstGeom prst="line">
              <a:avLst/>
            </a:prstGeom>
            <a:ln w="19080">
              <a:solidFill>
                <a:srgbClr val="cc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638600" y="3764880"/>
              <a:ext cx="4433040" cy="0"/>
            </a:xfrm>
            <a:prstGeom prst="line">
              <a:avLst/>
            </a:prstGeom>
            <a:ln w="19080">
              <a:solidFill>
                <a:srgbClr val="cc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628880" y="5162400"/>
              <a:ext cx="4433400" cy="0"/>
            </a:xfrm>
            <a:prstGeom prst="line">
              <a:avLst/>
            </a:prstGeom>
            <a:ln w="19080">
              <a:solidFill>
                <a:srgbClr val="cc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uentes en la creación de valor</a:t>
            </a: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 para la empresa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"/>
          <p:cNvSpPr/>
          <p:nvPr/>
        </p:nvSpPr>
        <p:spPr>
          <a:xfrm>
            <a:off x="1371600" y="52578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371600" y="60199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719360" y="5899320"/>
            <a:ext cx="543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Aumento de valor de las acciones, del capital humano y/o del acctivo nomi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086600" y="6019920"/>
            <a:ext cx="76320" cy="759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752480" y="5867280"/>
            <a:ext cx="5410440" cy="30492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Verdana"/>
              </a:rPr>
              <a:t>Macro 1: Gestión, Producción y Provisión Bien o Servicio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1142640" y="3886200"/>
            <a:ext cx="701028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Departamento de Ingeniería Industria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Universidad de Chil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Derechos Reservados ©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Antonio Holgado S.M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Macro 1: Gestión, Producción y</a:t>
            </a: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 Provisión Bien o Servici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566280" y="1676160"/>
            <a:ext cx="8348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46040" indent="-446040"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Verdana"/>
              </a:rPr>
              <a:t>Administración relación con el client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239480" indent="-375480">
              <a:spcBef>
                <a:spcPts val="425"/>
              </a:spcBef>
              <a:buClr>
                <a:srgbClr val="cc0000"/>
              </a:buClr>
              <a:buSzPct val="5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Verdana"/>
              </a:rPr>
              <a:t>Marketing y análisis mercado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239480" indent="-375480">
              <a:spcBef>
                <a:spcPts val="425"/>
              </a:spcBef>
              <a:buClr>
                <a:srgbClr val="cc0000"/>
              </a:buClr>
              <a:buSzPct val="5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Verdana"/>
              </a:rPr>
              <a:t>Venta y atención al client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239480" indent="-375480">
              <a:spcBef>
                <a:spcPts val="425"/>
              </a:spcBef>
              <a:buClr>
                <a:srgbClr val="cc0000"/>
              </a:buClr>
              <a:buSzPct val="5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Verdana"/>
              </a:rPr>
              <a:t>Decidir satisfacción requerimiento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46040" indent="-446040"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Verdana"/>
              </a:rPr>
              <a:t>Administración relación con proveedor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46040" indent="-446040"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Verdana"/>
              </a:rPr>
              <a:t>Gestión producción y entrega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239480" indent="-375480">
              <a:spcBef>
                <a:spcPts val="425"/>
              </a:spcBef>
              <a:buClr>
                <a:srgbClr val="cc0000"/>
              </a:buClr>
              <a:buSzPct val="5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Verdana"/>
              </a:rPr>
              <a:t>Implementación nuevos productos y servicio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239480" indent="-375480">
              <a:spcBef>
                <a:spcPts val="425"/>
              </a:spcBef>
              <a:buClr>
                <a:srgbClr val="cc0000"/>
              </a:buClr>
              <a:buSzPct val="5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Verdana"/>
              </a:rPr>
              <a:t>Planificación y control producción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239480" indent="-375480">
              <a:spcBef>
                <a:spcPts val="425"/>
              </a:spcBef>
              <a:buClr>
                <a:srgbClr val="cc0000"/>
              </a:buClr>
              <a:buSzPct val="5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Verdana"/>
              </a:rPr>
              <a:t>Decidir entrega producto o servicio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46040" indent="-446040"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Verdana"/>
              </a:rPr>
              <a:t>Producción y entrega bien o servicio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239480" indent="-375480">
              <a:spcBef>
                <a:spcPts val="425"/>
              </a:spcBef>
              <a:buClr>
                <a:srgbClr val="cc0000"/>
              </a:buClr>
              <a:buSzPct val="5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Verdana"/>
              </a:rPr>
              <a:t>Producción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1239480" indent="-375480">
              <a:spcBef>
                <a:spcPts val="425"/>
              </a:spcBef>
              <a:buClr>
                <a:srgbClr val="cc0000"/>
              </a:buClr>
              <a:buSzPct val="5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Verdana"/>
              </a:rPr>
              <a:t>Entrega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46040" indent="-446040"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Verdana"/>
              </a:rPr>
              <a:t>Mantención estado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" descr=""/>
          <p:cNvPicPr/>
          <p:nvPr/>
        </p:nvPicPr>
        <p:blipFill>
          <a:blip r:embed="rId2"/>
          <a:srcRect l="4688" t="14551" r="4688" b="27939"/>
          <a:stretch/>
        </p:blipFill>
        <p:spPr>
          <a:xfrm>
            <a:off x="101520" y="1735200"/>
            <a:ext cx="8991720" cy="4282920"/>
          </a:xfrm>
          <a:prstGeom prst="rect">
            <a:avLst/>
          </a:prstGeom>
          <a:ln w="0">
            <a:noFill/>
          </a:ln>
        </p:spPr>
      </p:pic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Macro 1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" descr=""/>
          <p:cNvPicPr/>
          <p:nvPr/>
        </p:nvPicPr>
        <p:blipFill>
          <a:blip r:embed="rId2"/>
          <a:srcRect l="4703" t="5757" r="4670" b="10822"/>
          <a:stretch/>
        </p:blipFill>
        <p:spPr>
          <a:xfrm>
            <a:off x="138240" y="193680"/>
            <a:ext cx="8955000" cy="5973840"/>
          </a:xfrm>
          <a:prstGeom prst="rect">
            <a:avLst/>
          </a:prstGeom>
          <a:ln w="0">
            <a:noFill/>
          </a:ln>
        </p:spPr>
      </p:pic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74200" y="232416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cc0000"/>
                </a:solidFill>
                <a:latin typeface="Verdana"/>
              </a:rPr>
              <a:t>A0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" descr=""/>
          <p:cNvPicPr/>
          <p:nvPr/>
        </p:nvPicPr>
        <p:blipFill>
          <a:blip r:embed="rId2"/>
          <a:srcRect l="7099" t="9074" r="4703" b="10710"/>
          <a:stretch/>
        </p:blipFill>
        <p:spPr>
          <a:xfrm>
            <a:off x="222120" y="353880"/>
            <a:ext cx="8883720" cy="58215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74200" y="232416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cc0000"/>
                </a:solidFill>
                <a:latin typeface="Verdana"/>
              </a:rPr>
              <a:t>A0.1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" descr=""/>
          <p:cNvPicPr/>
          <p:nvPr/>
        </p:nvPicPr>
        <p:blipFill>
          <a:blip r:embed="rId2"/>
          <a:srcRect l="17121" t="9252" r="4688" b="10527"/>
          <a:stretch/>
        </p:blipFill>
        <p:spPr>
          <a:xfrm>
            <a:off x="407880" y="243000"/>
            <a:ext cx="8355240" cy="5932440"/>
          </a:xfrm>
          <a:prstGeom prst="rect">
            <a:avLst/>
          </a:prstGeom>
          <a:ln w="0">
            <a:noFill/>
          </a:ln>
        </p:spPr>
      </p:pic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74200" y="232416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cc0000"/>
                </a:solidFill>
                <a:latin typeface="Verdana"/>
              </a:rPr>
              <a:t>A0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" descr=""/>
          <p:cNvPicPr/>
          <p:nvPr/>
        </p:nvPicPr>
        <p:blipFill>
          <a:blip r:embed="rId2"/>
          <a:srcRect l="12548" t="12748" r="4703" b="10888"/>
          <a:stretch/>
        </p:blipFill>
        <p:spPr>
          <a:xfrm>
            <a:off x="326880" y="480960"/>
            <a:ext cx="8726760" cy="5694480"/>
          </a:xfrm>
          <a:prstGeom prst="rect">
            <a:avLst/>
          </a:prstGeom>
          <a:ln w="0">
            <a:noFill/>
          </a:ln>
        </p:spPr>
      </p:pic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74200" y="232416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cc0000"/>
                </a:solidFill>
                <a:latin typeface="Verdana"/>
              </a:rPr>
              <a:t>A0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Verdana"/>
              </a:rPr>
              <a:t>Modelo de Madurez de</a:t>
            </a:r>
            <a:r>
              <a:rPr b="0" lang="es-CL" sz="3800" spc="-1" strike="noStrike">
                <a:solidFill>
                  <a:srgbClr val="000000"/>
                </a:solidFill>
                <a:latin typeface="Verdana"/>
              </a:rPr>
              <a:t> Proces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75000"/>
              </a:lnSpc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Aplicación del análisis de procesos de negocios y mejoramiento continuo de su calidad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75000"/>
              </a:lnSpc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Verdana"/>
              </a:rPr>
              <a:t>Permite diagnosticar y evaluar como se realizan los proceso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75000"/>
              </a:lnSpc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Verdana"/>
              </a:rPr>
              <a:t>Provee una estructura para priorizar y guiar acciones tendientes al desarrollo evolutivo de competencias en los miembros del grupo de rediseño de los proceso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75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300" spc="-1" strike="noStrike">
                <a:solidFill>
                  <a:srgbClr val="0000ff"/>
                </a:solidFill>
                <a:latin typeface="Verdana"/>
              </a:rPr>
              <a:t>Orienta el redise</a:t>
            </a:r>
            <a:r>
              <a:rPr b="0" lang="es-MX" sz="2300" spc="-1" strike="noStrike">
                <a:solidFill>
                  <a:srgbClr val="0000ff"/>
                </a:solidFill>
                <a:latin typeface="Verdana"/>
              </a:rPr>
              <a:t>ño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75000"/>
              </a:lnSpc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Verdana"/>
              </a:rPr>
              <a:t>Posibilidad de realizar comparaciones con otras organizacion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Verdana"/>
              </a:rPr>
              <a:t>Niveles de Madurez</a:t>
            </a:r>
            <a:br>
              <a:rPr sz="3800"/>
            </a:br>
            <a:r>
              <a:rPr b="0" lang="es-CL" sz="3800" spc="-1" strike="noStrike">
                <a:solidFill>
                  <a:srgbClr val="000000"/>
                </a:solidFill>
                <a:latin typeface="Verdana"/>
              </a:rPr>
              <a:t>en Procesos de Negoci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2724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Proceso de Negocios </a:t>
            </a:r>
            <a:r>
              <a:rPr b="0" lang="es-CL" sz="3000" spc="-1" strike="noStrike">
                <a:solidFill>
                  <a:srgbClr val="0000ff"/>
                </a:solidFill>
                <a:latin typeface="Verdana"/>
              </a:rPr>
              <a:t>Inmadur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300" spc="-1" strike="noStrike">
                <a:solidFill>
                  <a:srgbClr val="000000"/>
                </a:solidFill>
                <a:latin typeface="Verdana"/>
              </a:rPr>
              <a:t>Los costos y tiempos de entrega son impredecibles, la calidad es marginal y la tecnología es utilizada inefectivament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Proceso de Negocios </a:t>
            </a:r>
            <a:r>
              <a:rPr b="0" lang="es-CL" sz="3000" spc="-1" strike="noStrike">
                <a:solidFill>
                  <a:srgbClr val="0000ff"/>
                </a:solidFill>
                <a:latin typeface="Verdana"/>
              </a:rPr>
              <a:t>Madur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300" spc="-1" strike="noStrike">
                <a:solidFill>
                  <a:srgbClr val="000000"/>
                </a:solidFill>
                <a:latin typeface="Verdana"/>
              </a:rPr>
              <a:t>Las personas, los recursos, las metodologías y las tecnologías están eficaz y eficientemente acopladas para producir consistentemente productos o servicios de calidad dentro de las restricciones de costo y tiempo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Verdana"/>
              </a:rPr>
              <a:t>Niveles en la</a:t>
            </a:r>
            <a:br>
              <a:rPr sz="3800"/>
            </a:br>
            <a:r>
              <a:rPr b="0" lang="es-CL" sz="3800" spc="-1" strike="noStrike">
                <a:solidFill>
                  <a:srgbClr val="000000"/>
                </a:solidFill>
                <a:latin typeface="Verdana"/>
              </a:rPr>
              <a:t>Evolución de la Madurez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72820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Inicial</a:t>
            </a: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 (impredecible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Repetible</a:t>
            </a: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 (se repiten tareas previamente realizadas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Definido</a:t>
            </a: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 (proceso bien caracterizado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Administrado</a:t>
            </a: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 (proceso medido y controlado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Optimizado</a:t>
            </a: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 (foco en el mejoramiento del proceso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"/>
          <p:cNvSpPr/>
          <p:nvPr/>
        </p:nvSpPr>
        <p:spPr>
          <a:xfrm>
            <a:off x="7543800" y="1752480"/>
            <a:ext cx="1371600" cy="2057400"/>
          </a:xfrm>
          <a:prstGeom prst="downArrowCallout">
            <a:avLst>
              <a:gd name="adj1" fmla="val 25002"/>
              <a:gd name="adj2" fmla="val 25000"/>
              <a:gd name="adj3" fmla="val 25000"/>
              <a:gd name="adj4" fmla="val 66667"/>
            </a:avLst>
          </a:prstGeom>
          <a:solidFill>
            <a:srgbClr val="a3b2c1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ff"/>
                </a:solidFill>
                <a:latin typeface="Arial"/>
              </a:rPr>
              <a:t>Evolu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ff"/>
                </a:solidFill>
                <a:latin typeface="Arial"/>
              </a:rPr>
              <a:t>(Incremen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ff"/>
                </a:solidFill>
                <a:latin typeface="Arial"/>
              </a:rPr>
              <a:t>en l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ff"/>
                </a:solidFill>
                <a:latin typeface="Arial"/>
              </a:rPr>
              <a:t>Madurez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Orige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64760" indent="-464760">
              <a:lnSpc>
                <a:spcPct val="85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orresponde a identificar donde se origina la necesidad de rediseñ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lnSpc>
                <a:spcPct val="85000"/>
              </a:lnSpc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hay quiebr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lnSpc>
                <a:spcPct val="85000"/>
              </a:lnSpc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hay desperdicios (ineficiencias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lnSpc>
                <a:spcPct val="85000"/>
              </a:lnSpc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hay malas prácticas que cambia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lnSpc>
                <a:spcPct val="85000"/>
              </a:lnSpc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productos nuevo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lnSpc>
                <a:spcPct val="85000"/>
              </a:lnSpc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fusiones o adquisicion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lnSpc>
                <a:spcPct val="85000"/>
              </a:lnSpc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etc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85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Nace de Problemas, Oportunidades (como condiciones de mercado, benchmarking, tendencias) o Directrices (dueños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Verdana"/>
              </a:rPr>
              <a:t>Nivel 1: Inicial</a:t>
            </a:r>
            <a:r>
              <a:rPr b="0" lang="es-CL" sz="3400" spc="-1" strike="noStrike">
                <a:solidFill>
                  <a:srgbClr val="000000"/>
                </a:solidFill>
                <a:latin typeface="Verdana"/>
              </a:rPr>
              <a:t> (Ad - hoc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No hay procedimientos formales</a:t>
            </a:r>
            <a:r>
              <a:rPr b="0" lang="es-CL" sz="2200" spc="-1" strike="noStrike">
                <a:solidFill>
                  <a:srgbClr val="000000"/>
                </a:solidFill>
                <a:latin typeface="Verdana"/>
              </a:rPr>
              <a:t> (estimación de costos, planificación de procesos, control de cambios, integración de herramientas)</a:t>
            </a: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, ni mecanismos para asegurarl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300" spc="-1" strike="noStrike">
                <a:solidFill>
                  <a:srgbClr val="000000"/>
                </a:solidFill>
                <a:latin typeface="Verdana"/>
              </a:rPr>
              <a:t>La administración superior no entiende los puntos clave del proceso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Desafíos del Nivel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300" spc="-1" strike="noStrike">
                <a:solidFill>
                  <a:srgbClr val="0000ff"/>
                </a:solidFill>
                <a:latin typeface="Verdana"/>
              </a:rPr>
              <a:t>Planificación y Administración de proyecto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300" spc="-1" strike="noStrike">
                <a:solidFill>
                  <a:srgbClr val="0000ff"/>
                </a:solidFill>
                <a:latin typeface="Verdana"/>
              </a:rPr>
              <a:t>Aseguramiento de la calidad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Verdana"/>
              </a:rPr>
              <a:t>Nivel 2: Repetible</a:t>
            </a:r>
            <a:r>
              <a:rPr b="0" lang="es-CL" sz="3400" spc="-1" strike="noStrike">
                <a:solidFill>
                  <a:srgbClr val="000000"/>
                </a:solidFill>
                <a:latin typeface="Verdana"/>
              </a:rPr>
              <a:t> (Intuitivo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4250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Los procesos dependen de las persona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Se busca hacer el trabajo en forma similar</a:t>
            </a:r>
            <a:r>
              <a:rPr b="0" lang="es-CL" sz="2200" spc="-1" strike="noStrike">
                <a:solidFill>
                  <a:srgbClr val="000000"/>
                </a:solidFill>
                <a:latin typeface="Verdana"/>
              </a:rPr>
              <a:t> (proyectos básicos anteriores)</a:t>
            </a: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, pero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300" spc="-1" strike="noStrike">
                <a:solidFill>
                  <a:srgbClr val="000000"/>
                </a:solidFill>
                <a:latin typeface="Verdana"/>
              </a:rPr>
              <a:t>Hay riesgos cuando se enfrentan nuevos desafios</a:t>
            </a:r>
            <a:r>
              <a:rPr b="0" lang="es-CL" sz="2200" spc="-1" strike="noStrike">
                <a:solidFill>
                  <a:srgbClr val="000000"/>
                </a:solidFill>
                <a:latin typeface="Verdana"/>
              </a:rPr>
              <a:t> (falta un marco para enfrentar esto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Desafíos del Ni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300" spc="-1" strike="noStrike">
                <a:solidFill>
                  <a:srgbClr val="0000ff"/>
                </a:solidFill>
                <a:latin typeface="Verdana"/>
              </a:rPr>
              <a:t>Capacitación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300" spc="-1" strike="noStrike">
                <a:solidFill>
                  <a:srgbClr val="0000ff"/>
                </a:solidFill>
                <a:latin typeface="Verdana"/>
              </a:rPr>
              <a:t>Prácticas técnicas</a:t>
            </a:r>
            <a:r>
              <a:rPr b="0" lang="es-CL" sz="2200" spc="-1" strike="noStrike">
                <a:solidFill>
                  <a:srgbClr val="0000ff"/>
                </a:solidFill>
                <a:latin typeface="Verdana"/>
              </a:rPr>
              <a:t> (revisiones, pruebas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300" spc="-1" strike="noStrike">
                <a:solidFill>
                  <a:srgbClr val="0000ff"/>
                </a:solidFill>
                <a:latin typeface="Verdana"/>
              </a:rPr>
              <a:t>Focalización en procesos</a:t>
            </a:r>
            <a:r>
              <a:rPr b="0" lang="es-CL" sz="2200" spc="-1" strike="noStrike">
                <a:solidFill>
                  <a:srgbClr val="0000ff"/>
                </a:solidFill>
                <a:latin typeface="Verdana"/>
              </a:rPr>
              <a:t> (estándares, grupos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Verdana"/>
              </a:rPr>
              <a:t>Nivel 3: Definido</a:t>
            </a:r>
            <a:r>
              <a:rPr b="0" lang="es-CL" sz="3400" spc="-1" strike="noStrike">
                <a:solidFill>
                  <a:srgbClr val="000000"/>
                </a:solidFill>
                <a:latin typeface="Verdana"/>
              </a:rPr>
              <a:t> (Cualitativo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Proceso definido e institucionalizad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Se ha establecido el </a:t>
            </a:r>
            <a:r>
              <a:rPr b="0" i="1" lang="es-CL" sz="3000" spc="-1" strike="noStrike">
                <a:solidFill>
                  <a:srgbClr val="000000"/>
                </a:solidFill>
                <a:latin typeface="Verdana"/>
              </a:rPr>
              <a:t>Grupo de Procesos</a:t>
            </a: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, para liderar la mejora de ésto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Desafíos del Ni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300" spc="-1" strike="noStrike">
                <a:solidFill>
                  <a:srgbClr val="0000ff"/>
                </a:solidFill>
                <a:latin typeface="Verdana"/>
              </a:rPr>
              <a:t>Medición</a:t>
            </a:r>
            <a:r>
              <a:rPr b="0" lang="es-CL" sz="2200" spc="-1" strike="noStrike">
                <a:solidFill>
                  <a:srgbClr val="0000ff"/>
                </a:solidFill>
                <a:latin typeface="Verdana"/>
              </a:rPr>
              <a:t> (métrica de los procesos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300" spc="-1" strike="noStrike">
                <a:solidFill>
                  <a:srgbClr val="0000ff"/>
                </a:solidFill>
                <a:latin typeface="Verdana"/>
              </a:rPr>
              <a:t>Análisis de los proceso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300" spc="-1" strike="noStrike">
                <a:solidFill>
                  <a:srgbClr val="0000ff"/>
                </a:solidFill>
                <a:latin typeface="Verdana"/>
              </a:rPr>
              <a:t>Planes cuantitativos de calidad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41716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Verdana"/>
              </a:rPr>
              <a:t>Nivel 4: Administrado</a:t>
            </a:r>
            <a:r>
              <a:rPr b="0" lang="es-CL" sz="3100" spc="-1" strike="noStrike">
                <a:solidFill>
                  <a:srgbClr val="000000"/>
                </a:solidFill>
                <a:latin typeface="Verdana"/>
              </a:rPr>
              <a:t> (Cuantitativo)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55400" indent="-45540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Se ha establecido un conjunto de indicadores de calidad y productividad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Se miden los proceso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En base a datos, se han identificado procesos para su análisis y rediseñ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Desafíos del Ni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880560" indent="-42300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300" spc="-1" strike="noStrike">
                <a:solidFill>
                  <a:srgbClr val="0000ff"/>
                </a:solidFill>
                <a:latin typeface="Verdana"/>
              </a:rPr>
              <a:t>Cambio de las tecnología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880560" indent="-42300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300" spc="-1" strike="noStrike">
                <a:solidFill>
                  <a:srgbClr val="0000ff"/>
                </a:solidFill>
                <a:latin typeface="Verdana"/>
              </a:rPr>
              <a:t>Análisis de los problema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880560" indent="-42300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300" spc="-1" strike="noStrike">
                <a:solidFill>
                  <a:srgbClr val="0000ff"/>
                </a:solidFill>
                <a:latin typeface="Verdana"/>
              </a:rPr>
              <a:t>Prevención de los problema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Verdana"/>
              </a:rPr>
              <a:t>Nivel 5: Optimizant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4250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441360" indent="-44136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Los procesos se retroalimentan con los resultados del rediseñ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853200" indent="-41004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300" spc="-1" strike="noStrike">
                <a:solidFill>
                  <a:srgbClr val="000000"/>
                </a:solidFill>
                <a:latin typeface="Verdana"/>
              </a:rPr>
              <a:t>La evidencia numérica es usada para: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226520" indent="-371520">
              <a:spcBef>
                <a:spcPts val="575"/>
              </a:spcBef>
              <a:buClr>
                <a:srgbClr val="cc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300" spc="-1" strike="noStrike">
                <a:solidFill>
                  <a:srgbClr val="000000"/>
                </a:solidFill>
                <a:latin typeface="Verdana"/>
              </a:rPr>
              <a:t>Identificar puntos débiles,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226520" indent="-371520">
              <a:spcBef>
                <a:spcPts val="575"/>
              </a:spcBef>
              <a:buClr>
                <a:srgbClr val="cc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300" spc="-1" strike="noStrike">
                <a:solidFill>
                  <a:srgbClr val="000000"/>
                </a:solidFill>
                <a:latin typeface="Verdana"/>
              </a:rPr>
              <a:t>Justificar la aplicación de tecnologías y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226520" indent="-371520">
              <a:spcBef>
                <a:spcPts val="451"/>
              </a:spcBef>
              <a:buClr>
                <a:srgbClr val="cc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300" spc="-1" strike="noStrike">
                <a:solidFill>
                  <a:srgbClr val="000000"/>
                </a:solidFill>
                <a:latin typeface="Verdana"/>
              </a:rPr>
              <a:t>Hacer rigurosos análisis</a:t>
            </a: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 (causa/efecto y prevención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41360" indent="-44136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Desafíos del Ni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853200" indent="-41004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300" spc="-1" strike="noStrike">
                <a:solidFill>
                  <a:srgbClr val="0000ff"/>
                </a:solidFill>
                <a:latin typeface="Verdana"/>
              </a:rPr>
              <a:t>Automatización del proceso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226520" indent="-371520">
              <a:spcBef>
                <a:spcPts val="575"/>
              </a:spcBef>
              <a:buClr>
                <a:srgbClr val="cc0000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300" spc="-1" strike="noStrike">
                <a:solidFill>
                  <a:srgbClr val="0000ff"/>
                </a:solidFill>
                <a:latin typeface="Verdana"/>
              </a:rPr>
              <a:t>Todavía es un proceso intensivo en RRHH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853200" indent="-41004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300" spc="-1" strike="noStrike">
                <a:solidFill>
                  <a:srgbClr val="0000ff"/>
                </a:solidFill>
                <a:latin typeface="Verdana"/>
              </a:rPr>
              <a:t>Mantener a la organización a nivel optimizant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000000"/>
                </a:solidFill>
                <a:latin typeface="Verdana"/>
              </a:rPr>
              <a:t>Agenda</a:t>
            </a:r>
            <a:br>
              <a:rPr sz="3400"/>
            </a:br>
            <a:r>
              <a:rPr b="0" lang="es-ES_tradnl" sz="3400" spc="-1" strike="noStrike">
                <a:solidFill>
                  <a:srgbClr val="000000"/>
                </a:solidFill>
                <a:latin typeface="Verdana"/>
              </a:rPr>
              <a:t> Administración del Cambio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Necesidad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Concepto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Resistencia al cambi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Métodos y Herramienta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Enfoque evolutivo (BPMM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Necesidad del Cambi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Siempre será necesari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Cada vez es más exigente y dinámic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Lo hacen las persona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Por lo tanto, son ellas las que tienen que cambia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El cambio organizacional lo induce, en gran medida, el cambio tecnológic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Necesidad del Cambio (2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4250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La organización puede alcanzar mejor sus objetivos a través de la introducción de nueva tecnología en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Sistemas de producción 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Sistemas administrativo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La organización debe readecuar sus sistemas de producción y administrativos por los cambios que produce y/o aconseja la nueva tecnologí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Concept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80520" y="1905120"/>
            <a:ext cx="8534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60080" indent="-46008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Establecer criterios generales para la dirección de cambio que sean factibles económica, técnica y operacionalmen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0080" indent="-46008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Posibles lín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89560" indent="-427320"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Innovar en forma de realizar decisiones y acciones y como coordinarlas -&gt; Ej. Rediseñar procesos de negocio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89560" indent="-427320"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Innovar en la ubicación de las decision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89560" indent="-427320"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Definir unidades de negocio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89560" indent="-427320"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Incorporar tecnología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Métodos y Herramienta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Metodologías general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Matriz del Cambi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Establecer una dirección de</a:t>
            </a: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 cambi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Verdana"/>
              </a:rPr>
              <a:t>Corresponde a identificar cual(es) será(n) la(s) línea(s) de cambio, puede ser la  que aporte más a los objetivos del rediseño, las que pueden ser cuatro: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Innovar (cambiar paradigmas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Mejorar coordinació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Introducir o cambiar tecnología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Reestructurar (cambiar relaciones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Mejorar programación y contro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Verdana"/>
              </a:rPr>
              <a:t>en uno o mas de los elementos involucrados en el proceso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Modelo de Intervenció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57" name=""/>
          <p:cNvGrpSpPr/>
          <p:nvPr/>
        </p:nvGrpSpPr>
        <p:grpSpPr>
          <a:xfrm>
            <a:off x="1828800" y="2362320"/>
            <a:ext cx="6184800" cy="2422440"/>
            <a:chOff x="1828800" y="2362320"/>
            <a:chExt cx="6184800" cy="2422440"/>
          </a:xfrm>
        </p:grpSpPr>
        <p:sp>
          <p:nvSpPr>
            <p:cNvPr id="358" name=""/>
            <p:cNvSpPr/>
            <p:nvPr/>
          </p:nvSpPr>
          <p:spPr>
            <a:xfrm>
              <a:off x="6076800" y="2514960"/>
              <a:ext cx="1917720" cy="1199880"/>
            </a:xfrm>
            <a:custGeom>
              <a:avLst/>
              <a:gdLst/>
              <a:ahLst/>
              <a:rect l="l" t="t" r="r" b="b"/>
              <a:pathLst>
                <a:path w="1208" h="756">
                  <a:moveTo>
                    <a:pt x="0" y="0"/>
                  </a:moveTo>
                  <a:lnTo>
                    <a:pt x="880" y="0"/>
                  </a:lnTo>
                  <a:lnTo>
                    <a:pt x="1207" y="348"/>
                  </a:lnTo>
                  <a:lnTo>
                    <a:pt x="893" y="755"/>
                  </a:lnTo>
                  <a:lnTo>
                    <a:pt x="0" y="755"/>
                  </a:lnTo>
                  <a:lnTo>
                    <a:pt x="0" y="0"/>
                  </a:lnTo>
                </a:path>
              </a:pathLst>
            </a:custGeom>
            <a:solidFill>
              <a:srgbClr val="e00000"/>
            </a:solidFill>
            <a:ln cap="rnd" w="12600">
              <a:solidFill>
                <a:srgbClr val="e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4660920" y="2514960"/>
              <a:ext cx="1895400" cy="1199880"/>
            </a:xfrm>
            <a:custGeom>
              <a:avLst/>
              <a:gdLst/>
              <a:ahLst/>
              <a:rect l="l" t="t" r="r" b="b"/>
              <a:pathLst>
                <a:path w="1194" h="756">
                  <a:moveTo>
                    <a:pt x="0" y="0"/>
                  </a:moveTo>
                  <a:lnTo>
                    <a:pt x="866" y="0"/>
                  </a:lnTo>
                  <a:lnTo>
                    <a:pt x="1193" y="348"/>
                  </a:lnTo>
                  <a:lnTo>
                    <a:pt x="892" y="755"/>
                  </a:lnTo>
                  <a:lnTo>
                    <a:pt x="0" y="755"/>
                  </a:lnTo>
                  <a:lnTo>
                    <a:pt x="0" y="0"/>
                  </a:lnTo>
                </a:path>
              </a:pathLst>
            </a:custGeom>
            <a:solidFill>
              <a:srgbClr val="e00000"/>
            </a:solidFill>
            <a:ln cap="rnd" w="12600">
              <a:solidFill>
                <a:srgbClr val="e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263760" y="2514960"/>
              <a:ext cx="1917720" cy="1199880"/>
            </a:xfrm>
            <a:custGeom>
              <a:avLst/>
              <a:gdLst/>
              <a:ahLst/>
              <a:rect l="l" t="t" r="r" b="b"/>
              <a:pathLst>
                <a:path w="1208" h="756">
                  <a:moveTo>
                    <a:pt x="0" y="0"/>
                  </a:moveTo>
                  <a:lnTo>
                    <a:pt x="880" y="0"/>
                  </a:lnTo>
                  <a:lnTo>
                    <a:pt x="1207" y="348"/>
                  </a:lnTo>
                  <a:lnTo>
                    <a:pt x="893" y="755"/>
                  </a:lnTo>
                  <a:lnTo>
                    <a:pt x="0" y="755"/>
                  </a:lnTo>
                  <a:lnTo>
                    <a:pt x="0" y="0"/>
                  </a:lnTo>
                </a:path>
              </a:pathLst>
            </a:custGeom>
            <a:solidFill>
              <a:srgbClr val="e00000"/>
            </a:solidFill>
            <a:ln cap="rnd" w="12600">
              <a:solidFill>
                <a:srgbClr val="e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908000" y="2514960"/>
              <a:ext cx="1897200" cy="1199880"/>
            </a:xfrm>
            <a:custGeom>
              <a:avLst/>
              <a:gdLst/>
              <a:ahLst/>
              <a:rect l="l" t="t" r="r" b="b"/>
              <a:pathLst>
                <a:path w="1195" h="756">
                  <a:moveTo>
                    <a:pt x="0" y="0"/>
                  </a:moveTo>
                  <a:lnTo>
                    <a:pt x="867" y="0"/>
                  </a:lnTo>
                  <a:lnTo>
                    <a:pt x="1194" y="348"/>
                  </a:lnTo>
                  <a:lnTo>
                    <a:pt x="892" y="755"/>
                  </a:lnTo>
                  <a:lnTo>
                    <a:pt x="0" y="755"/>
                  </a:lnTo>
                  <a:lnTo>
                    <a:pt x="201" y="348"/>
                  </a:lnTo>
                  <a:lnTo>
                    <a:pt x="0" y="0"/>
                  </a:lnTo>
                </a:path>
              </a:pathLst>
            </a:custGeom>
            <a:solidFill>
              <a:srgbClr val="e00000"/>
            </a:solidFill>
            <a:ln cap="rnd" w="12600">
              <a:solidFill>
                <a:srgbClr val="e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4740120" y="2392560"/>
              <a:ext cx="1917720" cy="1290600"/>
            </a:xfrm>
            <a:custGeom>
              <a:avLst/>
              <a:gdLst/>
              <a:ahLst/>
              <a:rect l="l" t="t" r="r" b="b"/>
              <a:pathLst>
                <a:path w="1208" h="813">
                  <a:moveTo>
                    <a:pt x="0" y="0"/>
                  </a:moveTo>
                  <a:lnTo>
                    <a:pt x="880" y="0"/>
                  </a:lnTo>
                  <a:lnTo>
                    <a:pt x="1207" y="387"/>
                  </a:lnTo>
                  <a:lnTo>
                    <a:pt x="905" y="812"/>
                  </a:lnTo>
                  <a:lnTo>
                    <a:pt x="0" y="812"/>
                  </a:lnTo>
                  <a:lnTo>
                    <a:pt x="0" y="0"/>
                  </a:lnTo>
                </a:path>
              </a:pathLst>
            </a:custGeom>
            <a:solidFill>
              <a:srgbClr val="e00000"/>
            </a:solidFill>
            <a:ln cap="rnd" w="12600">
              <a:solidFill>
                <a:srgbClr val="e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44760" y="2392560"/>
              <a:ext cx="1935000" cy="1290600"/>
            </a:xfrm>
            <a:custGeom>
              <a:avLst/>
              <a:gdLst/>
              <a:ahLst/>
              <a:rect l="l" t="t" r="r" b="b"/>
              <a:pathLst>
                <a:path w="1219" h="813">
                  <a:moveTo>
                    <a:pt x="0" y="0"/>
                  </a:moveTo>
                  <a:lnTo>
                    <a:pt x="879" y="0"/>
                  </a:lnTo>
                  <a:lnTo>
                    <a:pt x="1218" y="387"/>
                  </a:lnTo>
                  <a:lnTo>
                    <a:pt x="904" y="812"/>
                  </a:lnTo>
                  <a:lnTo>
                    <a:pt x="0" y="812"/>
                  </a:lnTo>
                  <a:lnTo>
                    <a:pt x="0" y="0"/>
                  </a:lnTo>
                </a:path>
              </a:pathLst>
            </a:custGeom>
            <a:solidFill>
              <a:srgbClr val="e00000"/>
            </a:solidFill>
            <a:ln cap="rnd" w="12600">
              <a:solidFill>
                <a:srgbClr val="e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987560" y="2392560"/>
              <a:ext cx="1917720" cy="1290600"/>
            </a:xfrm>
            <a:custGeom>
              <a:avLst/>
              <a:gdLst/>
              <a:ahLst/>
              <a:rect l="l" t="t" r="r" b="b"/>
              <a:pathLst>
                <a:path w="1208" h="813">
                  <a:moveTo>
                    <a:pt x="0" y="0"/>
                  </a:moveTo>
                  <a:lnTo>
                    <a:pt x="868" y="0"/>
                  </a:lnTo>
                  <a:lnTo>
                    <a:pt x="1207" y="387"/>
                  </a:lnTo>
                  <a:lnTo>
                    <a:pt x="893" y="812"/>
                  </a:lnTo>
                  <a:lnTo>
                    <a:pt x="0" y="812"/>
                  </a:lnTo>
                  <a:lnTo>
                    <a:pt x="189" y="367"/>
                  </a:lnTo>
                  <a:lnTo>
                    <a:pt x="0" y="0"/>
                  </a:lnTo>
                </a:path>
              </a:pathLst>
            </a:custGeom>
            <a:solidFill>
              <a:srgbClr val="e00000"/>
            </a:solidFill>
            <a:ln cap="rnd" w="12600">
              <a:solidFill>
                <a:srgbClr val="e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997600" y="2362320"/>
              <a:ext cx="1895400" cy="1198800"/>
            </a:xfrm>
            <a:custGeom>
              <a:avLst/>
              <a:gdLst/>
              <a:ahLst/>
              <a:rect l="l" t="t" r="r" b="b"/>
              <a:pathLst>
                <a:path w="1194" h="755">
                  <a:moveTo>
                    <a:pt x="0" y="0"/>
                  </a:moveTo>
                  <a:lnTo>
                    <a:pt x="866" y="0"/>
                  </a:lnTo>
                  <a:lnTo>
                    <a:pt x="1193" y="367"/>
                  </a:lnTo>
                  <a:lnTo>
                    <a:pt x="892" y="754"/>
                  </a:lnTo>
                  <a:lnTo>
                    <a:pt x="0" y="754"/>
                  </a:lnTo>
                  <a:lnTo>
                    <a:pt x="0" y="0"/>
                  </a:lnTo>
                </a:path>
              </a:pathLst>
            </a:custGeom>
            <a:solidFill>
              <a:srgbClr val="fafd00"/>
            </a:solidFill>
            <a:ln cap="rnd" w="12600">
              <a:solidFill>
                <a:srgbClr val="e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581360" y="2362320"/>
              <a:ext cx="1897200" cy="1198800"/>
            </a:xfrm>
            <a:custGeom>
              <a:avLst/>
              <a:gdLst/>
              <a:ahLst/>
              <a:rect l="l" t="t" r="r" b="b"/>
              <a:pathLst>
                <a:path w="1195" h="755">
                  <a:moveTo>
                    <a:pt x="0" y="0"/>
                  </a:moveTo>
                  <a:lnTo>
                    <a:pt x="867" y="0"/>
                  </a:lnTo>
                  <a:lnTo>
                    <a:pt x="1194" y="367"/>
                  </a:lnTo>
                  <a:lnTo>
                    <a:pt x="880" y="754"/>
                  </a:lnTo>
                  <a:lnTo>
                    <a:pt x="0" y="754"/>
                  </a:lnTo>
                  <a:lnTo>
                    <a:pt x="0" y="0"/>
                  </a:lnTo>
                </a:path>
              </a:pathLst>
            </a:custGeom>
            <a:solidFill>
              <a:srgbClr val="fafd00"/>
            </a:solidFill>
            <a:ln cap="rnd" w="12600">
              <a:solidFill>
                <a:srgbClr val="e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3184560" y="2362320"/>
              <a:ext cx="1917360" cy="1198800"/>
            </a:xfrm>
            <a:custGeom>
              <a:avLst/>
              <a:gdLst/>
              <a:ahLst/>
              <a:rect l="l" t="t" r="r" b="b"/>
              <a:pathLst>
                <a:path w="1208" h="755">
                  <a:moveTo>
                    <a:pt x="0" y="0"/>
                  </a:moveTo>
                  <a:lnTo>
                    <a:pt x="880" y="0"/>
                  </a:lnTo>
                  <a:lnTo>
                    <a:pt x="1207" y="367"/>
                  </a:lnTo>
                  <a:lnTo>
                    <a:pt x="893" y="754"/>
                  </a:lnTo>
                  <a:lnTo>
                    <a:pt x="0" y="754"/>
                  </a:lnTo>
                  <a:lnTo>
                    <a:pt x="0" y="0"/>
                  </a:lnTo>
                </a:path>
              </a:pathLst>
            </a:custGeom>
            <a:solidFill>
              <a:srgbClr val="fafd00"/>
            </a:solidFill>
            <a:ln cap="rnd" w="12600">
              <a:solidFill>
                <a:srgbClr val="e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1828800" y="2362320"/>
              <a:ext cx="1896840" cy="1198800"/>
            </a:xfrm>
            <a:custGeom>
              <a:avLst/>
              <a:gdLst/>
              <a:ahLst/>
              <a:rect l="l" t="t" r="r" b="b"/>
              <a:pathLst>
                <a:path w="1195" h="755">
                  <a:moveTo>
                    <a:pt x="0" y="0"/>
                  </a:moveTo>
                  <a:lnTo>
                    <a:pt x="867" y="0"/>
                  </a:lnTo>
                  <a:lnTo>
                    <a:pt x="1194" y="367"/>
                  </a:lnTo>
                  <a:lnTo>
                    <a:pt x="880" y="754"/>
                  </a:lnTo>
                  <a:lnTo>
                    <a:pt x="0" y="754"/>
                  </a:lnTo>
                  <a:lnTo>
                    <a:pt x="189" y="348"/>
                  </a:lnTo>
                  <a:lnTo>
                    <a:pt x="0" y="0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e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3708720" y="2508480"/>
              <a:ext cx="1189440" cy="80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19200"/>
                  <a:tab algn="l" pos="1238400"/>
                  <a:tab algn="l" pos="1857240"/>
                  <a:tab algn="l" pos="2476440"/>
                  <a:tab algn="l" pos="3095640"/>
                  <a:tab algn="l" pos="3714840"/>
                  <a:tab algn="l" pos="4334040"/>
                  <a:tab algn="l" pos="4952880"/>
                  <a:tab algn="l" pos="5572080"/>
                  <a:tab algn="l" pos="6191280"/>
                  <a:tab algn="l" pos="6810480"/>
                  <a:tab algn="l" pos="7429680"/>
                  <a:tab algn="l" pos="8048520"/>
                  <a:tab algn="l" pos="8667720"/>
                  <a:tab algn="l" pos="9286920"/>
                  <a:tab algn="l" pos="9906120"/>
                  <a:tab algn="l" pos="10524960"/>
                </a:tabLst>
              </a:pPr>
              <a:r>
                <a:rPr b="1" lang="es-ES_tradnl" sz="1600" spc="-1" strike="noStrike">
                  <a:solidFill>
                    <a:srgbClr val="000080"/>
                  </a:solidFill>
                  <a:latin typeface="Times New Roman"/>
                </a:rPr>
                <a:t>Rediseño d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619200"/>
                  <a:tab algn="l" pos="1238400"/>
                  <a:tab algn="l" pos="1857240"/>
                  <a:tab algn="l" pos="2476440"/>
                  <a:tab algn="l" pos="3095640"/>
                  <a:tab algn="l" pos="3714840"/>
                  <a:tab algn="l" pos="4334040"/>
                  <a:tab algn="l" pos="4952880"/>
                  <a:tab algn="l" pos="5572080"/>
                  <a:tab algn="l" pos="6191280"/>
                  <a:tab algn="l" pos="6810480"/>
                  <a:tab algn="l" pos="7429680"/>
                  <a:tab algn="l" pos="8048520"/>
                  <a:tab algn="l" pos="8667720"/>
                  <a:tab algn="l" pos="9286920"/>
                  <a:tab algn="l" pos="9906120"/>
                  <a:tab algn="l" pos="10524960"/>
                </a:tabLst>
              </a:pPr>
              <a:r>
                <a:rPr b="1" lang="es-ES_tradnl" sz="1600" spc="-1" strike="noStrike">
                  <a:solidFill>
                    <a:srgbClr val="000080"/>
                  </a:solidFill>
                  <a:latin typeface="Times New Roman"/>
                </a:rPr>
                <a:t>Procesos 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619200"/>
                  <a:tab algn="l" pos="1238400"/>
                  <a:tab algn="l" pos="1857240"/>
                  <a:tab algn="l" pos="2476440"/>
                  <a:tab algn="l" pos="3095640"/>
                  <a:tab algn="l" pos="3714840"/>
                  <a:tab algn="l" pos="4334040"/>
                  <a:tab algn="l" pos="4952880"/>
                  <a:tab algn="l" pos="5572080"/>
                  <a:tab algn="l" pos="6191280"/>
                  <a:tab algn="l" pos="6810480"/>
                  <a:tab algn="l" pos="7429680"/>
                  <a:tab algn="l" pos="8048520"/>
                  <a:tab algn="l" pos="8667720"/>
                  <a:tab algn="l" pos="9286920"/>
                  <a:tab algn="l" pos="9906120"/>
                  <a:tab algn="l" pos="10524960"/>
                </a:tabLst>
              </a:pPr>
              <a:r>
                <a:rPr b="1" lang="es-ES_tradnl" sz="1600" spc="-1" strike="noStrike">
                  <a:solidFill>
                    <a:srgbClr val="000080"/>
                  </a:solidFill>
                  <a:latin typeface="Times New Roman"/>
                </a:rPr>
                <a:t>Organiz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6479280" y="2691000"/>
              <a:ext cx="1309680" cy="55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19200"/>
                  <a:tab algn="l" pos="1238400"/>
                  <a:tab algn="l" pos="1857240"/>
                  <a:tab algn="l" pos="2476440"/>
                  <a:tab algn="l" pos="3095640"/>
                  <a:tab algn="l" pos="3714840"/>
                  <a:tab algn="l" pos="4334040"/>
                  <a:tab algn="l" pos="4952880"/>
                  <a:tab algn="l" pos="5572080"/>
                  <a:tab algn="l" pos="6191280"/>
                  <a:tab algn="l" pos="6810480"/>
                  <a:tab algn="l" pos="7429680"/>
                  <a:tab algn="l" pos="8048520"/>
                  <a:tab algn="l" pos="8667720"/>
                  <a:tab algn="l" pos="9286920"/>
                  <a:tab algn="l" pos="9906120"/>
                  <a:tab algn="l" pos="10524960"/>
                </a:tabLst>
              </a:pPr>
              <a:r>
                <a:rPr b="1" lang="es-ES_tradnl" sz="1600" spc="-1" strike="noStrike">
                  <a:solidFill>
                    <a:srgbClr val="000080"/>
                  </a:solidFill>
                  <a:latin typeface="Times New Roman"/>
                </a:rPr>
                <a:t>Pos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619200"/>
                  <a:tab algn="l" pos="1238400"/>
                  <a:tab algn="l" pos="1857240"/>
                  <a:tab algn="l" pos="2476440"/>
                  <a:tab algn="l" pos="3095640"/>
                  <a:tab algn="l" pos="3714840"/>
                  <a:tab algn="l" pos="4334040"/>
                  <a:tab algn="l" pos="4952880"/>
                  <a:tab algn="l" pos="5572080"/>
                  <a:tab algn="l" pos="6191280"/>
                  <a:tab algn="l" pos="6810480"/>
                  <a:tab algn="l" pos="7429680"/>
                  <a:tab algn="l" pos="8048520"/>
                  <a:tab algn="l" pos="8667720"/>
                  <a:tab algn="l" pos="9286920"/>
                  <a:tab algn="l" pos="9906120"/>
                  <a:tab algn="l" pos="10524960"/>
                </a:tabLst>
              </a:pPr>
              <a:r>
                <a:rPr b="1" lang="es-ES_tradnl" sz="1600" spc="-1" strike="noStrike">
                  <a:solidFill>
                    <a:srgbClr val="000080"/>
                  </a:solidFill>
                  <a:latin typeface="Times New Roman"/>
                </a:rPr>
                <a:t>Implantació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075640" y="2776680"/>
              <a:ext cx="1309680" cy="31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19200"/>
                  <a:tab algn="l" pos="1238400"/>
                  <a:tab algn="l" pos="1857240"/>
                  <a:tab algn="l" pos="2476440"/>
                  <a:tab algn="l" pos="3095640"/>
                  <a:tab algn="l" pos="3714840"/>
                  <a:tab algn="l" pos="4334040"/>
                  <a:tab algn="l" pos="4952880"/>
                  <a:tab algn="l" pos="5572080"/>
                  <a:tab algn="l" pos="6191280"/>
                  <a:tab algn="l" pos="6810480"/>
                  <a:tab algn="l" pos="7429680"/>
                  <a:tab algn="l" pos="8048520"/>
                  <a:tab algn="l" pos="8667720"/>
                  <a:tab algn="l" pos="9286920"/>
                  <a:tab algn="l" pos="9906120"/>
                  <a:tab algn="l" pos="10524960"/>
                </a:tabLst>
              </a:pPr>
              <a:r>
                <a:rPr b="1" lang="es-ES_tradnl" sz="1600" spc="-1" strike="noStrike">
                  <a:solidFill>
                    <a:srgbClr val="000080"/>
                  </a:solidFill>
                  <a:latin typeface="Times New Roman"/>
                </a:rPr>
                <a:t>Implantació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2091960" y="2630520"/>
              <a:ext cx="1297440" cy="80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19200"/>
                  <a:tab algn="l" pos="1238400"/>
                  <a:tab algn="l" pos="1857240"/>
                  <a:tab algn="l" pos="2476440"/>
                  <a:tab algn="l" pos="3095640"/>
                  <a:tab algn="l" pos="3714840"/>
                  <a:tab algn="l" pos="4334040"/>
                  <a:tab algn="l" pos="4952880"/>
                  <a:tab algn="l" pos="5572080"/>
                  <a:tab algn="l" pos="6191280"/>
                  <a:tab algn="l" pos="6810480"/>
                  <a:tab algn="l" pos="7429680"/>
                  <a:tab algn="l" pos="8048520"/>
                  <a:tab algn="l" pos="8667720"/>
                  <a:tab algn="l" pos="9286920"/>
                  <a:tab algn="l" pos="9906120"/>
                  <a:tab algn="l" pos="10524960"/>
                </a:tabLst>
              </a:pPr>
              <a:r>
                <a:rPr b="1" lang="es-ES_tradnl" sz="1600" spc="-1" strike="noStrike">
                  <a:solidFill>
                    <a:srgbClr val="000080"/>
                  </a:solidFill>
                  <a:latin typeface="Times New Roman"/>
                </a:rPr>
                <a:t>Análisis de l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619200"/>
                  <a:tab algn="l" pos="1238400"/>
                  <a:tab algn="l" pos="1857240"/>
                  <a:tab algn="l" pos="2476440"/>
                  <a:tab algn="l" pos="3095640"/>
                  <a:tab algn="l" pos="3714840"/>
                  <a:tab algn="l" pos="4334040"/>
                  <a:tab algn="l" pos="4952880"/>
                  <a:tab algn="l" pos="5572080"/>
                  <a:tab algn="l" pos="6191280"/>
                  <a:tab algn="l" pos="6810480"/>
                  <a:tab algn="l" pos="7429680"/>
                  <a:tab algn="l" pos="8048520"/>
                  <a:tab algn="l" pos="8667720"/>
                  <a:tab algn="l" pos="9286920"/>
                  <a:tab algn="l" pos="9906120"/>
                  <a:tab algn="l" pos="10524960"/>
                </a:tabLst>
              </a:pPr>
              <a:r>
                <a:rPr b="1" lang="es-ES_tradnl" sz="1600" spc="-1" strike="noStrike">
                  <a:solidFill>
                    <a:srgbClr val="000080"/>
                  </a:solidFill>
                  <a:latin typeface="Times New Roman"/>
                </a:rPr>
                <a:t>Situació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619200"/>
                  <a:tab algn="l" pos="1238400"/>
                  <a:tab algn="l" pos="1857240"/>
                  <a:tab algn="l" pos="2476440"/>
                  <a:tab algn="l" pos="3095640"/>
                  <a:tab algn="l" pos="3714840"/>
                  <a:tab algn="l" pos="4334040"/>
                  <a:tab algn="l" pos="4952880"/>
                  <a:tab algn="l" pos="5572080"/>
                  <a:tab algn="l" pos="6191280"/>
                  <a:tab algn="l" pos="6810480"/>
                  <a:tab algn="l" pos="7429680"/>
                  <a:tab algn="l" pos="8048520"/>
                  <a:tab algn="l" pos="8667720"/>
                  <a:tab algn="l" pos="9286920"/>
                  <a:tab algn="l" pos="9906120"/>
                  <a:tab algn="l" pos="10524960"/>
                </a:tabLst>
              </a:pPr>
              <a:r>
                <a:rPr b="1" lang="es-ES_tradnl" sz="1600" spc="-1" strike="noStrike">
                  <a:solidFill>
                    <a:srgbClr val="000080"/>
                  </a:solidFill>
                  <a:latin typeface="Times New Roman"/>
                </a:rPr>
                <a:t>Actu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1908000" y="4140360"/>
              <a:ext cx="6105600" cy="644400"/>
            </a:xfrm>
            <a:custGeom>
              <a:avLst/>
              <a:gdLst/>
              <a:ahLst/>
              <a:rect l="l" t="t" r="r" b="b"/>
              <a:pathLst>
                <a:path w="3846" h="406">
                  <a:moveTo>
                    <a:pt x="0" y="0"/>
                  </a:moveTo>
                  <a:lnTo>
                    <a:pt x="3518" y="0"/>
                  </a:lnTo>
                  <a:lnTo>
                    <a:pt x="3845" y="193"/>
                  </a:lnTo>
                  <a:lnTo>
                    <a:pt x="3531" y="405"/>
                  </a:lnTo>
                  <a:lnTo>
                    <a:pt x="0" y="405"/>
                  </a:lnTo>
                  <a:lnTo>
                    <a:pt x="0" y="0"/>
                  </a:lnTo>
                </a:path>
              </a:pathLst>
            </a:custGeom>
            <a:solidFill>
              <a:srgbClr val="e00000"/>
            </a:solidFill>
            <a:ln cap="rnd" w="12600">
              <a:solidFill>
                <a:srgbClr val="e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828800" y="3986280"/>
              <a:ext cx="6105240" cy="675000"/>
            </a:xfrm>
            <a:custGeom>
              <a:avLst/>
              <a:gdLst/>
              <a:ahLst/>
              <a:rect l="l" t="t" r="r" b="b"/>
              <a:pathLst>
                <a:path w="3846" h="425">
                  <a:moveTo>
                    <a:pt x="0" y="0"/>
                  </a:moveTo>
                  <a:lnTo>
                    <a:pt x="3506" y="0"/>
                  </a:lnTo>
                  <a:lnTo>
                    <a:pt x="3845" y="193"/>
                  </a:lnTo>
                  <a:lnTo>
                    <a:pt x="3531" y="405"/>
                  </a:lnTo>
                  <a:lnTo>
                    <a:pt x="0" y="424"/>
                  </a:lnTo>
                  <a:lnTo>
                    <a:pt x="0" y="0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e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647520" y="4129200"/>
              <a:ext cx="2548800" cy="31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19200"/>
                  <a:tab algn="l" pos="1238400"/>
                  <a:tab algn="l" pos="1857240"/>
                  <a:tab algn="l" pos="2476440"/>
                  <a:tab algn="l" pos="3095640"/>
                  <a:tab algn="l" pos="3714840"/>
                  <a:tab algn="l" pos="4334040"/>
                  <a:tab algn="l" pos="4952880"/>
                  <a:tab algn="l" pos="5572080"/>
                  <a:tab algn="l" pos="6191280"/>
                  <a:tab algn="l" pos="6810480"/>
                  <a:tab algn="l" pos="7429680"/>
                  <a:tab algn="l" pos="8048520"/>
                  <a:tab algn="l" pos="8667720"/>
                  <a:tab algn="l" pos="9286920"/>
                  <a:tab algn="l" pos="9906120"/>
                  <a:tab algn="l" pos="10524960"/>
                </a:tabLst>
              </a:pPr>
              <a:r>
                <a:rPr b="1" lang="es-ES_tradnl" sz="1600" spc="-1" strike="noStrike">
                  <a:solidFill>
                    <a:srgbClr val="000080"/>
                  </a:solidFill>
                  <a:latin typeface="Times New Roman"/>
                </a:rPr>
                <a:t>Administración del Cambi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0000"/>
                </a:solidFill>
                <a:latin typeface="Verdana"/>
              </a:rPr>
              <a:t>Etapas en el cambio organizaciona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76312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446040" indent="-446040">
              <a:spcBef>
                <a:spcPts val="476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100" spc="-1" strike="noStrike">
                <a:solidFill>
                  <a:srgbClr val="000000"/>
                </a:solidFill>
                <a:latin typeface="Verdana"/>
              </a:rPr>
              <a:t>Racionalización</a:t>
            </a:r>
            <a:r>
              <a:rPr b="0" lang="es-ES_tradnl" sz="1900" spc="-1" strike="noStrike">
                <a:solidFill>
                  <a:srgbClr val="000000"/>
                </a:solidFill>
                <a:latin typeface="Verdana"/>
              </a:rPr>
              <a:t> (70 -&gt; 84)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862200" indent="-414360"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Verdana"/>
              </a:rPr>
              <a:t>Coincide con la aparición de los Sistemas de Información Administrativo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862200" indent="-414360"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Verdana"/>
              </a:rPr>
              <a:t>Antes sólo hubo desarrollo de aplicaciones de procesamiento de dato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46040" indent="-446040">
              <a:spcBef>
                <a:spcPts val="476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100" spc="-1" strike="noStrike">
                <a:solidFill>
                  <a:srgbClr val="000000"/>
                </a:solidFill>
                <a:latin typeface="Verdana"/>
              </a:rPr>
              <a:t>Rediseño organizacional </a:t>
            </a:r>
            <a:r>
              <a:rPr b="0" lang="es-ES_tradnl" sz="1900" spc="-1" strike="noStrike">
                <a:solidFill>
                  <a:srgbClr val="000000"/>
                </a:solidFill>
                <a:latin typeface="Verdana"/>
              </a:rPr>
              <a:t>(84 -&gt; 90)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862200" indent="-414360"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Verdana"/>
              </a:rPr>
              <a:t>Coincide con la necesidad de incorporar mayor cambio en la estructura asociada al recurso humano y la´introducción del PC en la empresa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46040" indent="-446040">
              <a:spcBef>
                <a:spcPts val="476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100" spc="-1" strike="noStrike">
                <a:solidFill>
                  <a:srgbClr val="000000"/>
                </a:solidFill>
                <a:latin typeface="Verdana"/>
              </a:rPr>
              <a:t>Reingeniería </a:t>
            </a:r>
            <a:r>
              <a:rPr b="0" lang="es-ES_tradnl" sz="1900" spc="-1" strike="noStrike">
                <a:solidFill>
                  <a:srgbClr val="000000"/>
                </a:solidFill>
                <a:latin typeface="Verdana"/>
              </a:rPr>
              <a:t>(90 -&gt; ..)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862200" indent="-414360"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Verdana"/>
              </a:rPr>
              <a:t>Coincide con el desarrollo de las redes locales. Cambio profundo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460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Evolución en el uso de las TIC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4582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69800" indent="-469800"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Procesamiento de Datos </a:t>
            </a:r>
            <a:r>
              <a:rPr b="0" lang="es-ES_tradnl" sz="2100" spc="-1" strike="noStrike">
                <a:solidFill>
                  <a:srgbClr val="000000"/>
                </a:solidFill>
                <a:latin typeface="Verdana"/>
              </a:rPr>
              <a:t>(50’s y 60’s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Verdana"/>
              </a:rPr>
              <a:t>sistemas de procesamiento de datos (SPD’s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Verdana"/>
              </a:rPr>
              <a:t>beneficios: mayor productividad, menos gente</a:t>
            </a: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Procesamiento de la Información </a:t>
            </a:r>
            <a:r>
              <a:rPr b="0" lang="es-ES_tradnl" sz="2100" spc="-1" strike="noStrike">
                <a:solidFill>
                  <a:srgbClr val="000000"/>
                </a:solidFill>
                <a:latin typeface="Verdana"/>
              </a:rPr>
              <a:t>(70’s y 80’s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Verdana"/>
              </a:rPr>
              <a:t>sistemas de información para la gestión (SIA’s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Verdana"/>
              </a:rPr>
              <a:t>beneficios: ventajas competitiva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Procesamiento del Conocimiento </a:t>
            </a:r>
            <a:r>
              <a:rPr b="0" lang="es-ES_tradnl" sz="2100" spc="-1" strike="noStrike">
                <a:solidFill>
                  <a:srgbClr val="000000"/>
                </a:solidFill>
                <a:latin typeface="Verdana"/>
              </a:rPr>
              <a:t>(90’s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Verdana"/>
              </a:rPr>
              <a:t>sistemas basados en el conocimiento o sistemas experto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Verdana"/>
              </a:rPr>
              <a:t>beneficios: ventaja estratégica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0" name=""/>
          <p:cNvGrpSpPr/>
          <p:nvPr/>
        </p:nvGrpSpPr>
        <p:grpSpPr>
          <a:xfrm>
            <a:off x="1143000" y="1752480"/>
            <a:ext cx="7176600" cy="4968000"/>
            <a:chOff x="1143000" y="1752480"/>
            <a:chExt cx="7176600" cy="4968000"/>
          </a:xfrm>
        </p:grpSpPr>
        <p:sp>
          <p:nvSpPr>
            <p:cNvPr id="381" name=""/>
            <p:cNvSpPr/>
            <p:nvPr/>
          </p:nvSpPr>
          <p:spPr>
            <a:xfrm>
              <a:off x="1245960" y="1752480"/>
              <a:ext cx="6575040" cy="4113000"/>
            </a:xfrm>
            <a:prstGeom prst="rect">
              <a:avLst/>
            </a:prstGeom>
            <a:solidFill>
              <a:srgbClr val="ddddd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 flipV="1">
              <a:off x="2043000" y="2570040"/>
              <a:ext cx="0" cy="269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1515960" y="2334960"/>
              <a:ext cx="577440" cy="68256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1280" rIns="71280" tIns="36360" bIns="3636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560520"/>
                  <a:tab algn="l" pos="1120680"/>
                  <a:tab algn="l" pos="1681200"/>
                  <a:tab algn="l" pos="2241720"/>
                  <a:tab algn="l" pos="2801880"/>
                  <a:tab algn="l" pos="3362400"/>
                  <a:tab algn="l" pos="3922560"/>
                  <a:tab algn="l" pos="4483080"/>
                  <a:tab algn="l" pos="5043600"/>
                  <a:tab algn="l" pos="5603760"/>
                  <a:tab algn="l" pos="6164280"/>
                  <a:tab algn="l" pos="6724800"/>
                  <a:tab algn="l" pos="7284960"/>
                  <a:tab algn="l" pos="7845480"/>
                  <a:tab algn="l" pos="8405640"/>
                  <a:tab algn="l" pos="8966160"/>
                  <a:tab algn="l" pos="9526680"/>
                  <a:tab algn="l" pos="10086840"/>
                  <a:tab algn="l" pos="10647360"/>
                </a:tabLst>
              </a:pPr>
              <a:r>
                <a:rPr b="0" lang="es-ES_tradnl" sz="40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514160" y="4700160"/>
              <a:ext cx="577440" cy="68256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1280" rIns="71280" tIns="36360" bIns="3636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560520"/>
                  <a:tab algn="l" pos="1120680"/>
                  <a:tab algn="l" pos="1681200"/>
                  <a:tab algn="l" pos="2241720"/>
                  <a:tab algn="l" pos="2801880"/>
                  <a:tab algn="l" pos="3362400"/>
                  <a:tab algn="l" pos="3922560"/>
                  <a:tab algn="l" pos="4483080"/>
                  <a:tab algn="l" pos="5043600"/>
                  <a:tab algn="l" pos="5603760"/>
                  <a:tab algn="l" pos="6164280"/>
                  <a:tab algn="l" pos="6724800"/>
                  <a:tab algn="l" pos="7284960"/>
                  <a:tab algn="l" pos="7845480"/>
                  <a:tab algn="l" pos="8405640"/>
                  <a:tab algn="l" pos="8966160"/>
                  <a:tab algn="l" pos="9526680"/>
                  <a:tab algn="l" pos="10086840"/>
                  <a:tab algn="l" pos="10647360"/>
                </a:tabLst>
              </a:pPr>
              <a:r>
                <a:rPr b="0" lang="es-ES_tradnl" sz="4000" spc="-1" strike="noStrike">
                  <a:solidFill>
                    <a:srgbClr val="000000"/>
                  </a:solidFill>
                  <a:latin typeface="Times New Roman"/>
                </a:rPr>
                <a:t>–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1143000" y="3620880"/>
              <a:ext cx="939600" cy="80316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1280" rIns="71280" tIns="36360" bIns="3636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560520"/>
                  <a:tab algn="l" pos="1120680"/>
                  <a:tab algn="l" pos="1681200"/>
                  <a:tab algn="l" pos="2241720"/>
                  <a:tab algn="l" pos="2801880"/>
                  <a:tab algn="l" pos="3362400"/>
                  <a:tab algn="l" pos="3922560"/>
                  <a:tab algn="l" pos="4483080"/>
                  <a:tab algn="l" pos="5043600"/>
                  <a:tab algn="l" pos="5603760"/>
                  <a:tab algn="l" pos="6164280"/>
                  <a:tab algn="l" pos="6724800"/>
                  <a:tab algn="l" pos="7284960"/>
                  <a:tab algn="l" pos="7845480"/>
                  <a:tab algn="l" pos="8405640"/>
                  <a:tab algn="l" pos="8966160"/>
                  <a:tab algn="l" pos="9526680"/>
                  <a:tab algn="l" pos="10086840"/>
                  <a:tab algn="l" pos="1064736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Percepción de los grupos afectado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031840" y="5262120"/>
              <a:ext cx="1132920" cy="43812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1280" rIns="71280" tIns="36360" bIns="3636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560520"/>
                  <a:tab algn="l" pos="1120680"/>
                  <a:tab algn="l" pos="1681200"/>
                  <a:tab algn="l" pos="2241720"/>
                  <a:tab algn="l" pos="2801880"/>
                  <a:tab algn="l" pos="3362400"/>
                  <a:tab algn="l" pos="3922560"/>
                  <a:tab algn="l" pos="4483080"/>
                  <a:tab algn="l" pos="5043600"/>
                  <a:tab algn="l" pos="5603760"/>
                  <a:tab algn="l" pos="6164280"/>
                  <a:tab algn="l" pos="6724800"/>
                  <a:tab algn="l" pos="7284960"/>
                  <a:tab algn="l" pos="7845480"/>
                  <a:tab algn="l" pos="8405640"/>
                  <a:tab algn="l" pos="8966160"/>
                  <a:tab algn="l" pos="9526680"/>
                  <a:tab algn="l" pos="10086840"/>
                  <a:tab algn="l" pos="1064736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Inicio del proyec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668480" y="5260680"/>
              <a:ext cx="1493640" cy="43812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1280" rIns="71280" tIns="36360" bIns="3636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560520"/>
                  <a:tab algn="l" pos="1120680"/>
                  <a:tab algn="l" pos="1681200"/>
                  <a:tab algn="l" pos="2241720"/>
                  <a:tab algn="l" pos="2801880"/>
                  <a:tab algn="l" pos="3362400"/>
                  <a:tab algn="l" pos="3922560"/>
                  <a:tab algn="l" pos="4483080"/>
                  <a:tab algn="l" pos="5043600"/>
                  <a:tab algn="l" pos="5603760"/>
                  <a:tab algn="l" pos="6164280"/>
                  <a:tab algn="l" pos="6724800"/>
                  <a:tab algn="l" pos="7284960"/>
                  <a:tab algn="l" pos="7845480"/>
                  <a:tab algn="l" pos="8405640"/>
                  <a:tab algn="l" pos="8966160"/>
                  <a:tab algn="l" pos="9526680"/>
                  <a:tab algn="l" pos="10086840"/>
                  <a:tab algn="l" pos="1064736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Implantación del proyec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049120" y="3887640"/>
              <a:ext cx="500832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2050920" y="3153960"/>
              <a:ext cx="1690920" cy="152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9355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93550"/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882440" y="3152520"/>
              <a:ext cx="1977840" cy="3567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83" y="0"/>
                  </a:moveTo>
                  <a:arcTo wR="10800" hR="10800" stAng="-5405511" swAng="300134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83" y="0"/>
                  </a:moveTo>
                  <a:arcTo wR="10800" hR="10800" stAng="-5405511" swAng="3001341"/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3940200" y="3434760"/>
              <a:ext cx="1795320" cy="1508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3725609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3725609"/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766320" y="2798280"/>
              <a:ext cx="2096280" cy="2143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672" y="15180"/>
                  </a:moveTo>
                  <a:arcTo wR="10800" hR="10800" stAng="1435540" swAng="3964460"/>
                  <a:lnTo>
                    <a:pt x="10800" y="10800"/>
                  </a:lnTo>
                  <a:close/>
                </a:path>
                <a:path fill="none" w="21600" h="21600">
                  <a:moveTo>
                    <a:pt x="20672" y="15180"/>
                  </a:moveTo>
                  <a:arcTo wR="10800" hR="10800" stAng="1435540" swAng="3964460"/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3627360" y="3766680"/>
              <a:ext cx="405720" cy="776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5781600" y="3307680"/>
              <a:ext cx="310680" cy="1017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966280" y="2249640"/>
              <a:ext cx="2353320" cy="4034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63" y="5731"/>
                  </a:moveTo>
                  <a:arcTo wR="10800" hR="10800" stAng="-9120573" swAng="31768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263" y="5731"/>
                  </a:moveTo>
                  <a:arcTo wR="10800" hR="10800" stAng="-9120573" swAng="3176825"/>
                </a:path>
              </a:pathLst>
            </a:custGeom>
            <a:solidFill>
              <a:srgbClr val="dddddd"/>
            </a:solidFill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2074680" y="3503880"/>
              <a:ext cx="1627560" cy="697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1"/>
                  </a:moveTo>
                  <a:arcTo wR="10800" hR="10800" stAng="-10784354" swAng="511054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1"/>
                  </a:moveTo>
                  <a:arcTo wR="10800" hR="10800" stAng="-10784354" swAng="5110540"/>
                </a:path>
              </a:pathLst>
            </a:custGeom>
            <a:solidFill>
              <a:srgbClr val="dddddd"/>
            </a:solidFill>
            <a:ln cap="rnd" w="50760">
              <a:solidFill>
                <a:srgbClr val="000000"/>
              </a:solidFill>
              <a:custDash>
                <a:ds d="499000" sp="20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964520" y="3508200"/>
              <a:ext cx="1851840" cy="1698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82" y="0"/>
                  </a:moveTo>
                  <a:arcTo wR="10800" hR="10800" stAng="-5405886" swAng="299510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82" y="0"/>
                  </a:moveTo>
                  <a:arcTo wR="10800" hR="10800" stAng="-5405886" swAng="2995107"/>
                </a:path>
              </a:pathLst>
            </a:custGeom>
            <a:solidFill>
              <a:srgbClr val="dddddd"/>
            </a:solidFill>
            <a:ln cap="rnd" w="50760">
              <a:solidFill>
                <a:srgbClr val="000000"/>
              </a:solidFill>
              <a:custDash>
                <a:ds d="499000" sp="20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833640" y="3244680"/>
              <a:ext cx="1437120" cy="1015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28827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2882776"/>
                </a:path>
              </a:pathLst>
            </a:custGeom>
            <a:solidFill>
              <a:srgbClr val="dddddd"/>
            </a:solidFill>
            <a:ln cap="rnd" w="50760">
              <a:solidFill>
                <a:srgbClr val="000000"/>
              </a:solidFill>
              <a:custDash>
                <a:ds d="499000" sp="20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786480" y="2043000"/>
              <a:ext cx="1513800" cy="221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668" y="15189"/>
                  </a:moveTo>
                  <a:arcTo wR="10800" hR="10800" stAng="1438592" swAng="3968612"/>
                  <a:lnTo>
                    <a:pt x="10800" y="10800"/>
                  </a:lnTo>
                  <a:close/>
                </a:path>
                <a:path fill="none" w="21600" h="21600">
                  <a:moveTo>
                    <a:pt x="20668" y="15189"/>
                  </a:moveTo>
                  <a:arcTo wR="10800" hR="10800" stAng="1438592" swAng="3968612"/>
                </a:path>
              </a:pathLst>
            </a:custGeom>
            <a:solidFill>
              <a:srgbClr val="dddddd"/>
            </a:solidFill>
            <a:ln cap="rnd" w="50760">
              <a:solidFill>
                <a:srgbClr val="000000"/>
              </a:solidFill>
              <a:custDash>
                <a:ds d="499000" sp="20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 flipV="1">
              <a:off x="5319360" y="3164760"/>
              <a:ext cx="23400" cy="297000"/>
            </a:xfrm>
            <a:prstGeom prst="line">
              <a:avLst/>
            </a:prstGeom>
            <a:ln w="507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5271120" y="2147040"/>
              <a:ext cx="1671120" cy="3956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64" y="5730"/>
                  </a:moveTo>
                  <a:arcTo wR="10800" hR="10800" stAng="-9120146" swAng="3176912"/>
                  <a:lnTo>
                    <a:pt x="10800" y="10800"/>
                  </a:lnTo>
                  <a:close/>
                </a:path>
                <a:path fill="none" w="21600" h="21600">
                  <a:moveTo>
                    <a:pt x="1264" y="5730"/>
                  </a:moveTo>
                  <a:arcTo wR="10800" hR="10800" stAng="-9120146" swAng="3176912"/>
                </a:path>
              </a:pathLst>
            </a:custGeom>
            <a:solidFill>
              <a:srgbClr val="dddddd"/>
            </a:solidFill>
            <a:ln cap="rnd" w="50760">
              <a:solidFill>
                <a:srgbClr val="000000"/>
              </a:solidFill>
              <a:custDash>
                <a:ds d="499000" sp="20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307960" y="2669760"/>
              <a:ext cx="1009440" cy="43812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1280" rIns="71280" tIns="36360" bIns="3636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560520"/>
                  <a:tab algn="l" pos="1120680"/>
                  <a:tab algn="l" pos="1681200"/>
                  <a:tab algn="l" pos="2241720"/>
                  <a:tab algn="l" pos="2801880"/>
                  <a:tab algn="l" pos="3362400"/>
                  <a:tab algn="l" pos="3922560"/>
                  <a:tab algn="l" pos="4483080"/>
                  <a:tab algn="l" pos="5043600"/>
                  <a:tab algn="l" pos="5603760"/>
                  <a:tab algn="l" pos="6164280"/>
                  <a:tab algn="l" pos="6724800"/>
                  <a:tab algn="l" pos="7284960"/>
                  <a:tab algn="l" pos="7845480"/>
                  <a:tab algn="l" pos="8405640"/>
                  <a:tab algn="l" pos="8966160"/>
                  <a:tab algn="l" pos="9526680"/>
                  <a:tab algn="l" pos="10086840"/>
                  <a:tab algn="l" pos="1064736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Altas expectativa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4290840" y="4598640"/>
              <a:ext cx="1174320" cy="2556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1280" rIns="71280" tIns="36360" bIns="3636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560520"/>
                  <a:tab algn="l" pos="1120680"/>
                  <a:tab algn="l" pos="1681200"/>
                  <a:tab algn="l" pos="2241720"/>
                  <a:tab algn="l" pos="2801880"/>
                  <a:tab algn="l" pos="3362400"/>
                  <a:tab algn="l" pos="3922560"/>
                  <a:tab algn="l" pos="4483080"/>
                  <a:tab algn="l" pos="5043600"/>
                  <a:tab algn="l" pos="5603760"/>
                  <a:tab algn="l" pos="6164280"/>
                  <a:tab algn="l" pos="6724800"/>
                  <a:tab algn="l" pos="7284960"/>
                  <a:tab algn="l" pos="7845480"/>
                  <a:tab algn="l" pos="8405640"/>
                  <a:tab algn="l" pos="8966160"/>
                  <a:tab algn="l" pos="9526680"/>
                  <a:tab algn="l" pos="10086840"/>
                  <a:tab algn="l" pos="1064736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Desesperació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6283080" y="2023920"/>
              <a:ext cx="1225080" cy="2556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1280" rIns="71280" tIns="36360" bIns="3636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560520"/>
                  <a:tab algn="l" pos="1120680"/>
                  <a:tab algn="l" pos="1681200"/>
                  <a:tab algn="l" pos="2241720"/>
                  <a:tab algn="l" pos="2801880"/>
                  <a:tab algn="l" pos="3362400"/>
                  <a:tab algn="l" pos="3922560"/>
                  <a:tab algn="l" pos="4483080"/>
                  <a:tab algn="l" pos="5043600"/>
                  <a:tab algn="l" pos="5603760"/>
                  <a:tab algn="l" pos="6164280"/>
                  <a:tab algn="l" pos="6724800"/>
                  <a:tab algn="l" pos="7284960"/>
                  <a:tab algn="l" pos="7845480"/>
                  <a:tab algn="l" pos="8405640"/>
                  <a:tab algn="l" pos="8966160"/>
                  <a:tab algn="l" pos="9526680"/>
                  <a:tab algn="l" pos="10086840"/>
                  <a:tab algn="l" pos="1064736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Mejor que ant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3614400" y="3024000"/>
              <a:ext cx="1039680" cy="57996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1280" rIns="71280" tIns="36360" bIns="36360" anchor="t">
              <a:spAutoFit/>
            </a:bodyPr>
            <a:p>
              <a:pPr algn="ctr">
                <a:lnSpc>
                  <a:spcPts val="998"/>
                </a:lnSpc>
                <a:tabLst>
                  <a:tab algn="l" pos="0"/>
                  <a:tab algn="l" pos="560520"/>
                  <a:tab algn="l" pos="1120680"/>
                  <a:tab algn="l" pos="1681200"/>
                  <a:tab algn="l" pos="2241720"/>
                  <a:tab algn="l" pos="2801880"/>
                  <a:tab algn="l" pos="3362400"/>
                  <a:tab algn="l" pos="3922560"/>
                  <a:tab algn="l" pos="4483080"/>
                  <a:tab algn="l" pos="5043600"/>
                  <a:tab algn="l" pos="5603760"/>
                  <a:tab algn="l" pos="6164280"/>
                  <a:tab algn="l" pos="6724800"/>
                  <a:tab algn="l" pos="7284960"/>
                  <a:tab algn="l" pos="7845480"/>
                  <a:tab algn="l" pos="8405640"/>
                  <a:tab algn="l" pos="8966160"/>
                  <a:tab algn="l" pos="9526680"/>
                  <a:tab algn="l" pos="10086840"/>
                  <a:tab algn="l" pos="1064736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Toma de conciencia del esfuerzo y la complejida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262480" y="3400200"/>
              <a:ext cx="721800" cy="45324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1280" rIns="71280" tIns="36360" bIns="36360" anchor="t">
              <a:spAutoFit/>
            </a:bodyPr>
            <a:p>
              <a:pPr algn="ctr">
                <a:lnSpc>
                  <a:spcPts val="998"/>
                </a:lnSpc>
                <a:tabLst>
                  <a:tab algn="l" pos="0"/>
                  <a:tab algn="l" pos="560520"/>
                  <a:tab algn="l" pos="1120680"/>
                  <a:tab algn="l" pos="1681200"/>
                  <a:tab algn="l" pos="2241720"/>
                  <a:tab algn="l" pos="2801880"/>
                  <a:tab algn="l" pos="3362400"/>
                  <a:tab algn="l" pos="3922560"/>
                  <a:tab algn="l" pos="4483080"/>
                  <a:tab algn="l" pos="5043600"/>
                  <a:tab algn="l" pos="5603760"/>
                  <a:tab algn="l" pos="6164280"/>
                  <a:tab algn="l" pos="6724800"/>
                  <a:tab algn="l" pos="7284960"/>
                  <a:tab algn="l" pos="7845480"/>
                  <a:tab algn="l" pos="8405640"/>
                  <a:tab algn="l" pos="8966160"/>
                  <a:tab algn="l" pos="9526680"/>
                  <a:tab algn="l" pos="10086840"/>
                  <a:tab algn="l" pos="1064736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Luz al final del túne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470120" y="2593800"/>
              <a:ext cx="898200" cy="420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3395520" y="2158560"/>
              <a:ext cx="1480680" cy="32652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1280" rIns="71280" tIns="36360" bIns="36360" anchor="t">
              <a:spAutoFit/>
            </a:bodyPr>
            <a:p>
              <a:pPr algn="ctr">
                <a:lnSpc>
                  <a:spcPts val="998"/>
                </a:lnSpc>
                <a:tabLst>
                  <a:tab algn="l" pos="0"/>
                  <a:tab algn="l" pos="560520"/>
                  <a:tab algn="l" pos="1120680"/>
                  <a:tab algn="l" pos="1681200"/>
                  <a:tab algn="l" pos="2241720"/>
                  <a:tab algn="l" pos="2801880"/>
                  <a:tab algn="l" pos="3362400"/>
                  <a:tab algn="l" pos="3922560"/>
                  <a:tab algn="l" pos="4483080"/>
                  <a:tab algn="l" pos="5043600"/>
                  <a:tab algn="l" pos="5603760"/>
                  <a:tab algn="l" pos="6164280"/>
                  <a:tab algn="l" pos="6724800"/>
                  <a:tab algn="l" pos="7284960"/>
                  <a:tab algn="l" pos="7845480"/>
                  <a:tab algn="l" pos="8405640"/>
                  <a:tab algn="l" pos="8966160"/>
                  <a:tab algn="l" pos="9526680"/>
                  <a:tab algn="l" pos="10086840"/>
                  <a:tab algn="l" pos="10647360"/>
                </a:tabLst>
              </a:pPr>
              <a:r>
                <a:rPr b="0" i="1" lang="es-ES_tradnl" sz="1200" spc="-1" strike="noStrike">
                  <a:solidFill>
                    <a:srgbClr val="000000"/>
                  </a:solidFill>
                  <a:latin typeface="Times New Roman"/>
                </a:rPr>
                <a:t>Con  Administración del Cambi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3762000" y="3947760"/>
              <a:ext cx="276120" cy="157320"/>
            </a:xfrm>
            <a:prstGeom prst="line">
              <a:avLst/>
            </a:prstGeom>
            <a:ln w="507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2063520" y="3904920"/>
              <a:ext cx="4873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 flipH="1">
              <a:off x="2036520" y="2679480"/>
              <a:ext cx="18720" cy="2566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6989400" y="3749400"/>
              <a:ext cx="1012680" cy="2556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1280" rIns="71280" tIns="36360" bIns="3636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560520"/>
                  <a:tab algn="l" pos="1120680"/>
                  <a:tab algn="l" pos="1681200"/>
                  <a:tab algn="l" pos="2241720"/>
                  <a:tab algn="l" pos="2801880"/>
                  <a:tab algn="l" pos="3362400"/>
                  <a:tab algn="l" pos="3922560"/>
                  <a:tab algn="l" pos="4483080"/>
                  <a:tab algn="l" pos="5043600"/>
                  <a:tab algn="l" pos="5603760"/>
                  <a:tab algn="l" pos="6164280"/>
                  <a:tab algn="l" pos="6724800"/>
                  <a:tab algn="l" pos="7284960"/>
                  <a:tab algn="l" pos="7845480"/>
                  <a:tab algn="l" pos="8405640"/>
                  <a:tab algn="l" pos="8966160"/>
                  <a:tab algn="l" pos="9526680"/>
                  <a:tab algn="l" pos="10086840"/>
                  <a:tab algn="l" pos="1064736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Tiemp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3" name=""/>
          <p:cNvSpPr/>
          <p:nvPr/>
        </p:nvSpPr>
        <p:spPr>
          <a:xfrm>
            <a:off x="0" y="152280"/>
            <a:ext cx="9131400" cy="4572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102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0" y="152280"/>
            <a:ext cx="90676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ROYECTO DE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AMBIO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RGANIZACI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228600" y="914400"/>
            <a:ext cx="832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cambio organizacional, estados de ánimo y expectati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76320" y="1562040"/>
            <a:ext cx="2647800" cy="14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Un proyecto tecnológico 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un proyecto de cambio organizaci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7" name=""/>
          <p:cNvGrpSpPr/>
          <p:nvPr/>
        </p:nvGrpSpPr>
        <p:grpSpPr>
          <a:xfrm>
            <a:off x="2463480" y="1238400"/>
            <a:ext cx="6415560" cy="4973400"/>
            <a:chOff x="2463480" y="1238400"/>
            <a:chExt cx="6415560" cy="4973400"/>
          </a:xfrm>
        </p:grpSpPr>
        <p:grpSp>
          <p:nvGrpSpPr>
            <p:cNvPr id="418" name=""/>
            <p:cNvGrpSpPr/>
            <p:nvPr/>
          </p:nvGrpSpPr>
          <p:grpSpPr>
            <a:xfrm>
              <a:off x="4568760" y="3122640"/>
              <a:ext cx="2122560" cy="1297080"/>
              <a:chOff x="4568760" y="3122640"/>
              <a:chExt cx="2122560" cy="1297080"/>
            </a:xfrm>
          </p:grpSpPr>
          <p:grpSp>
            <p:nvGrpSpPr>
              <p:cNvPr id="419" name=""/>
              <p:cNvGrpSpPr/>
              <p:nvPr/>
            </p:nvGrpSpPr>
            <p:grpSpPr>
              <a:xfrm>
                <a:off x="4973760" y="3122640"/>
                <a:ext cx="1328760" cy="1297080"/>
                <a:chOff x="4973760" y="3122640"/>
                <a:chExt cx="1328760" cy="1297080"/>
              </a:xfrm>
            </p:grpSpPr>
            <p:sp>
              <p:nvSpPr>
                <p:cNvPr id="420" name=""/>
                <p:cNvSpPr/>
                <p:nvPr/>
              </p:nvSpPr>
              <p:spPr>
                <a:xfrm>
                  <a:off x="4973760" y="3122640"/>
                  <a:ext cx="1328760" cy="1297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100000">
                      <a:srgbClr val="2c004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aphicFrame>
              <p:nvGraphicFramePr>
                <p:cNvPr id="421" name=""/>
                <p:cNvGraphicFramePr/>
                <p:nvPr/>
              </p:nvGraphicFramePr>
              <p:xfrm>
                <a:off x="5195880" y="3765600"/>
                <a:ext cx="897120" cy="552240"/>
              </p:xfrm>
              <a:graphic>
                <a:graphicData uri="http://schemas.openxmlformats.org/presentationml/2006/ole">
                  <p:oleObj r:id="rId2" spid="">
                    <p:embed/>
                    <p:pic>
                      <p:nvPicPr>
                        <p:cNvPr id="422" name="" descr=""/>
                        <p:cNvPicPr/>
                        <p:nvPr/>
                      </p:nvPicPr>
                      <p:blipFill>
                        <a:blip r:embed="rId3"/>
                        <a:stretch/>
                      </p:blipFill>
                      <p:spPr>
                        <a:xfrm>
                          <a:off x="5195880" y="3765600"/>
                          <a:ext cx="897120" cy="55224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  <p:sp>
            <p:nvSpPr>
              <p:cNvPr id="423" name=""/>
              <p:cNvSpPr/>
              <p:nvPr/>
            </p:nvSpPr>
            <p:spPr>
              <a:xfrm>
                <a:off x="4568760" y="3268800"/>
                <a:ext cx="2122560" cy="72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algn="ctr">
                  <a:tabLst>
                    <a:tab algn="l" pos="0"/>
                    <a:tab algn="l" pos="968400"/>
                    <a:tab algn="l" pos="1936800"/>
                    <a:tab algn="l" pos="2905200"/>
                    <a:tab algn="l" pos="3873600"/>
                    <a:tab algn="l" pos="4842000"/>
                    <a:tab algn="l" pos="5810400"/>
                    <a:tab algn="l" pos="6778800"/>
                    <a:tab algn="l" pos="7746840"/>
                    <a:tab algn="l" pos="8715240"/>
                    <a:tab algn="l" pos="9683640"/>
                    <a:tab algn="l" pos="10652040"/>
                  </a:tabLst>
                </a:pPr>
                <a:r>
                  <a:rPr b="1" lang="es-ES_tradnl" sz="1400" spc="-1" strike="noStrike">
                    <a:solidFill>
                      <a:srgbClr val="fafd00"/>
                    </a:solidFill>
                    <a:latin typeface="Arial"/>
                  </a:rPr>
                  <a:t>Proyecto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68400"/>
                    <a:tab algn="l" pos="1936800"/>
                    <a:tab algn="l" pos="2905200"/>
                    <a:tab algn="l" pos="3873600"/>
                    <a:tab algn="l" pos="4842000"/>
                    <a:tab algn="l" pos="5810400"/>
                    <a:tab algn="l" pos="6778800"/>
                    <a:tab algn="l" pos="7746840"/>
                    <a:tab algn="l" pos="8715240"/>
                    <a:tab algn="l" pos="9683640"/>
                    <a:tab algn="l" pos="10652040"/>
                  </a:tabLst>
                </a:pPr>
                <a:r>
                  <a:rPr b="1" lang="es-ES_tradnl" sz="1400" spc="-1" strike="noStrike">
                    <a:solidFill>
                      <a:srgbClr val="fafd00"/>
                    </a:solidFill>
                    <a:latin typeface="Arial"/>
                  </a:rPr>
                  <a:t>Tecnológico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68400"/>
                    <a:tab algn="l" pos="1936800"/>
                    <a:tab algn="l" pos="2905200"/>
                    <a:tab algn="l" pos="3873600"/>
                    <a:tab algn="l" pos="4842000"/>
                    <a:tab algn="l" pos="5810400"/>
                    <a:tab algn="l" pos="6778800"/>
                    <a:tab algn="l" pos="7746840"/>
                    <a:tab algn="l" pos="8715240"/>
                    <a:tab algn="l" pos="9683640"/>
                    <a:tab algn="l" pos="1065204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4" name=""/>
            <p:cNvSpPr/>
            <p:nvPr/>
          </p:nvSpPr>
          <p:spPr>
            <a:xfrm>
              <a:off x="4792680" y="5084640"/>
              <a:ext cx="1425600" cy="1127160"/>
            </a:xfrm>
            <a:custGeom>
              <a:avLst/>
              <a:gdLst/>
              <a:ahLst/>
              <a:rect l="l" t="t" r="r" b="b"/>
              <a:pathLst>
                <a:path w="898" h="710">
                  <a:moveTo>
                    <a:pt x="0" y="0"/>
                  </a:moveTo>
                  <a:lnTo>
                    <a:pt x="897" y="0"/>
                  </a:lnTo>
                  <a:lnTo>
                    <a:pt x="897" y="709"/>
                  </a:lnTo>
                  <a:lnTo>
                    <a:pt x="0" y="709"/>
                  </a:lnTo>
                  <a:lnTo>
                    <a:pt x="0" y="0"/>
                  </a:lnTo>
                </a:path>
              </a:pathLst>
            </a:custGeom>
            <a:solidFill>
              <a:srgbClr val="b500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792680" y="4878360"/>
              <a:ext cx="1825560" cy="187200"/>
            </a:xfrm>
            <a:custGeom>
              <a:avLst/>
              <a:gdLst/>
              <a:ahLst/>
              <a:rect l="l" t="t" r="r" b="b"/>
              <a:pathLst>
                <a:path w="1150" h="118">
                  <a:moveTo>
                    <a:pt x="0" y="117"/>
                  </a:moveTo>
                  <a:lnTo>
                    <a:pt x="900" y="117"/>
                  </a:lnTo>
                  <a:lnTo>
                    <a:pt x="1149" y="0"/>
                  </a:lnTo>
                  <a:lnTo>
                    <a:pt x="245" y="0"/>
                  </a:lnTo>
                  <a:lnTo>
                    <a:pt x="0" y="117"/>
                  </a:lnTo>
                </a:path>
              </a:pathLst>
            </a:custGeom>
            <a:solidFill>
              <a:srgbClr val="c06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248520" y="4878360"/>
              <a:ext cx="369720" cy="1333440"/>
            </a:xfrm>
            <a:custGeom>
              <a:avLst/>
              <a:gdLst/>
              <a:ahLst/>
              <a:rect l="l" t="t" r="r" b="b"/>
              <a:pathLst>
                <a:path w="233" h="840">
                  <a:moveTo>
                    <a:pt x="232" y="0"/>
                  </a:moveTo>
                  <a:lnTo>
                    <a:pt x="0" y="129"/>
                  </a:lnTo>
                  <a:lnTo>
                    <a:pt x="0" y="839"/>
                  </a:lnTo>
                  <a:lnTo>
                    <a:pt x="232" y="644"/>
                  </a:lnTo>
                  <a:lnTo>
                    <a:pt x="232" y="0"/>
                  </a:lnTo>
                </a:path>
              </a:pathLst>
            </a:custGeom>
            <a:solidFill>
              <a:srgbClr val="800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68520" y="4276800"/>
              <a:ext cx="1408320" cy="1157040"/>
            </a:xfrm>
            <a:custGeom>
              <a:avLst/>
              <a:gdLst/>
              <a:ahLst/>
              <a:rect l="l" t="t" r="r" b="b"/>
              <a:pathLst>
                <a:path w="887" h="729">
                  <a:moveTo>
                    <a:pt x="848" y="721"/>
                  </a:moveTo>
                  <a:lnTo>
                    <a:pt x="804" y="713"/>
                  </a:lnTo>
                  <a:lnTo>
                    <a:pt x="758" y="704"/>
                  </a:lnTo>
                  <a:lnTo>
                    <a:pt x="714" y="692"/>
                  </a:lnTo>
                  <a:lnTo>
                    <a:pt x="674" y="683"/>
                  </a:lnTo>
                  <a:lnTo>
                    <a:pt x="640" y="673"/>
                  </a:lnTo>
                  <a:lnTo>
                    <a:pt x="601" y="661"/>
                  </a:lnTo>
                  <a:lnTo>
                    <a:pt x="563" y="647"/>
                  </a:lnTo>
                  <a:lnTo>
                    <a:pt x="519" y="628"/>
                  </a:lnTo>
                  <a:lnTo>
                    <a:pt x="475" y="610"/>
                  </a:lnTo>
                  <a:lnTo>
                    <a:pt x="437" y="589"/>
                  </a:lnTo>
                  <a:lnTo>
                    <a:pt x="395" y="565"/>
                  </a:lnTo>
                  <a:lnTo>
                    <a:pt x="353" y="541"/>
                  </a:lnTo>
                  <a:lnTo>
                    <a:pt x="317" y="517"/>
                  </a:lnTo>
                  <a:lnTo>
                    <a:pt x="281" y="490"/>
                  </a:lnTo>
                  <a:lnTo>
                    <a:pt x="239" y="454"/>
                  </a:lnTo>
                  <a:lnTo>
                    <a:pt x="197" y="420"/>
                  </a:lnTo>
                  <a:lnTo>
                    <a:pt x="164" y="386"/>
                  </a:lnTo>
                  <a:lnTo>
                    <a:pt x="130" y="350"/>
                  </a:lnTo>
                  <a:lnTo>
                    <a:pt x="88" y="300"/>
                  </a:lnTo>
                  <a:lnTo>
                    <a:pt x="55" y="245"/>
                  </a:lnTo>
                  <a:lnTo>
                    <a:pt x="31" y="203"/>
                  </a:lnTo>
                  <a:lnTo>
                    <a:pt x="11" y="164"/>
                  </a:lnTo>
                  <a:lnTo>
                    <a:pt x="0" y="132"/>
                  </a:lnTo>
                  <a:lnTo>
                    <a:pt x="170" y="0"/>
                  </a:lnTo>
                  <a:lnTo>
                    <a:pt x="200" y="75"/>
                  </a:lnTo>
                  <a:lnTo>
                    <a:pt x="227" y="121"/>
                  </a:lnTo>
                  <a:lnTo>
                    <a:pt x="256" y="167"/>
                  </a:lnTo>
                  <a:lnTo>
                    <a:pt x="294" y="217"/>
                  </a:lnTo>
                  <a:lnTo>
                    <a:pt x="334" y="260"/>
                  </a:lnTo>
                  <a:lnTo>
                    <a:pt x="369" y="291"/>
                  </a:lnTo>
                  <a:lnTo>
                    <a:pt x="412" y="327"/>
                  </a:lnTo>
                  <a:lnTo>
                    <a:pt x="460" y="368"/>
                  </a:lnTo>
                  <a:lnTo>
                    <a:pt x="502" y="396"/>
                  </a:lnTo>
                  <a:lnTo>
                    <a:pt x="563" y="435"/>
                  </a:lnTo>
                  <a:lnTo>
                    <a:pt x="626" y="469"/>
                  </a:lnTo>
                  <a:lnTo>
                    <a:pt x="689" y="498"/>
                  </a:lnTo>
                  <a:lnTo>
                    <a:pt x="754" y="523"/>
                  </a:lnTo>
                  <a:lnTo>
                    <a:pt x="815" y="546"/>
                  </a:lnTo>
                  <a:lnTo>
                    <a:pt x="886" y="564"/>
                  </a:lnTo>
                  <a:lnTo>
                    <a:pt x="886" y="728"/>
                  </a:lnTo>
                  <a:lnTo>
                    <a:pt x="848" y="721"/>
                  </a:lnTo>
                </a:path>
              </a:pathLst>
            </a:custGeom>
            <a:solidFill>
              <a:srgbClr val="c06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3003480" y="4357800"/>
              <a:ext cx="1773360" cy="1417680"/>
            </a:xfrm>
            <a:custGeom>
              <a:avLst/>
              <a:gdLst/>
              <a:ahLst/>
              <a:rect l="l" t="t" r="r" b="b"/>
              <a:pathLst>
                <a:path w="1117" h="893">
                  <a:moveTo>
                    <a:pt x="957" y="880"/>
                  </a:moveTo>
                  <a:lnTo>
                    <a:pt x="917" y="874"/>
                  </a:lnTo>
                  <a:lnTo>
                    <a:pt x="869" y="863"/>
                  </a:lnTo>
                  <a:lnTo>
                    <a:pt x="829" y="853"/>
                  </a:lnTo>
                  <a:lnTo>
                    <a:pt x="789" y="844"/>
                  </a:lnTo>
                  <a:lnTo>
                    <a:pt x="750" y="833"/>
                  </a:lnTo>
                  <a:lnTo>
                    <a:pt x="714" y="821"/>
                  </a:lnTo>
                  <a:lnTo>
                    <a:pt x="676" y="808"/>
                  </a:lnTo>
                  <a:lnTo>
                    <a:pt x="632" y="788"/>
                  </a:lnTo>
                  <a:lnTo>
                    <a:pt x="590" y="769"/>
                  </a:lnTo>
                  <a:lnTo>
                    <a:pt x="549" y="749"/>
                  </a:lnTo>
                  <a:lnTo>
                    <a:pt x="505" y="725"/>
                  </a:lnTo>
                  <a:lnTo>
                    <a:pt x="465" y="700"/>
                  </a:lnTo>
                  <a:lnTo>
                    <a:pt x="429" y="674"/>
                  </a:lnTo>
                  <a:lnTo>
                    <a:pt x="392" y="649"/>
                  </a:lnTo>
                  <a:lnTo>
                    <a:pt x="348" y="614"/>
                  </a:lnTo>
                  <a:lnTo>
                    <a:pt x="306" y="578"/>
                  </a:lnTo>
                  <a:lnTo>
                    <a:pt x="276" y="544"/>
                  </a:lnTo>
                  <a:lnTo>
                    <a:pt x="241" y="508"/>
                  </a:lnTo>
                  <a:lnTo>
                    <a:pt x="199" y="457"/>
                  </a:lnTo>
                  <a:lnTo>
                    <a:pt x="176" y="420"/>
                  </a:lnTo>
                  <a:lnTo>
                    <a:pt x="155" y="386"/>
                  </a:lnTo>
                  <a:lnTo>
                    <a:pt x="140" y="359"/>
                  </a:lnTo>
                  <a:lnTo>
                    <a:pt x="124" y="320"/>
                  </a:lnTo>
                  <a:lnTo>
                    <a:pt x="113" y="288"/>
                  </a:lnTo>
                  <a:lnTo>
                    <a:pt x="0" y="288"/>
                  </a:lnTo>
                  <a:lnTo>
                    <a:pt x="243" y="0"/>
                  </a:lnTo>
                  <a:lnTo>
                    <a:pt x="530" y="285"/>
                  </a:lnTo>
                  <a:lnTo>
                    <a:pt x="412" y="285"/>
                  </a:lnTo>
                  <a:lnTo>
                    <a:pt x="425" y="327"/>
                  </a:lnTo>
                  <a:lnTo>
                    <a:pt x="444" y="359"/>
                  </a:lnTo>
                  <a:lnTo>
                    <a:pt x="467" y="383"/>
                  </a:lnTo>
                  <a:lnTo>
                    <a:pt x="488" y="404"/>
                  </a:lnTo>
                  <a:lnTo>
                    <a:pt x="519" y="432"/>
                  </a:lnTo>
                  <a:lnTo>
                    <a:pt x="549" y="461"/>
                  </a:lnTo>
                  <a:lnTo>
                    <a:pt x="578" y="482"/>
                  </a:lnTo>
                  <a:lnTo>
                    <a:pt x="613" y="508"/>
                  </a:lnTo>
                  <a:lnTo>
                    <a:pt x="651" y="532"/>
                  </a:lnTo>
                  <a:lnTo>
                    <a:pt x="695" y="556"/>
                  </a:lnTo>
                  <a:lnTo>
                    <a:pt x="739" y="575"/>
                  </a:lnTo>
                  <a:lnTo>
                    <a:pt x="789" y="592"/>
                  </a:lnTo>
                  <a:lnTo>
                    <a:pt x="837" y="607"/>
                  </a:lnTo>
                  <a:lnTo>
                    <a:pt x="892" y="626"/>
                  </a:lnTo>
                  <a:lnTo>
                    <a:pt x="930" y="635"/>
                  </a:lnTo>
                  <a:lnTo>
                    <a:pt x="959" y="643"/>
                  </a:lnTo>
                  <a:lnTo>
                    <a:pt x="995" y="649"/>
                  </a:lnTo>
                  <a:lnTo>
                    <a:pt x="1034" y="656"/>
                  </a:lnTo>
                  <a:lnTo>
                    <a:pt x="1072" y="661"/>
                  </a:lnTo>
                  <a:lnTo>
                    <a:pt x="1116" y="668"/>
                  </a:lnTo>
                  <a:lnTo>
                    <a:pt x="1116" y="892"/>
                  </a:lnTo>
                  <a:lnTo>
                    <a:pt x="1070" y="892"/>
                  </a:lnTo>
                  <a:lnTo>
                    <a:pt x="1030" y="890"/>
                  </a:lnTo>
                  <a:lnTo>
                    <a:pt x="997" y="886"/>
                  </a:lnTo>
                  <a:lnTo>
                    <a:pt x="957" y="880"/>
                  </a:lnTo>
                </a:path>
              </a:pathLst>
            </a:custGeom>
            <a:solidFill>
              <a:srgbClr val="b500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3394080" y="4164120"/>
              <a:ext cx="695160" cy="620640"/>
            </a:xfrm>
            <a:custGeom>
              <a:avLst/>
              <a:gdLst/>
              <a:ahLst/>
              <a:rect l="l" t="t" r="r" b="b"/>
              <a:pathLst>
                <a:path w="438" h="391">
                  <a:moveTo>
                    <a:pt x="437" y="265"/>
                  </a:moveTo>
                  <a:lnTo>
                    <a:pt x="152" y="0"/>
                  </a:lnTo>
                  <a:lnTo>
                    <a:pt x="0" y="119"/>
                  </a:lnTo>
                  <a:lnTo>
                    <a:pt x="278" y="390"/>
                  </a:lnTo>
                  <a:lnTo>
                    <a:pt x="437" y="265"/>
                  </a:lnTo>
                </a:path>
              </a:pathLst>
            </a:custGeom>
            <a:solidFill>
              <a:srgbClr val="800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0" name=""/>
            <p:cNvGrpSpPr/>
            <p:nvPr/>
          </p:nvGrpSpPr>
          <p:grpSpPr>
            <a:xfrm>
              <a:off x="6361200" y="3008160"/>
              <a:ext cx="2517840" cy="2914920"/>
              <a:chOff x="6361200" y="3008160"/>
              <a:chExt cx="2517840" cy="2914920"/>
            </a:xfrm>
          </p:grpSpPr>
          <p:grpSp>
            <p:nvGrpSpPr>
              <p:cNvPr id="431" name=""/>
              <p:cNvGrpSpPr/>
              <p:nvPr/>
            </p:nvGrpSpPr>
            <p:grpSpPr>
              <a:xfrm>
                <a:off x="7045200" y="3008160"/>
                <a:ext cx="1833840" cy="1327320"/>
                <a:chOff x="7045200" y="3008160"/>
                <a:chExt cx="1833840" cy="1327320"/>
              </a:xfrm>
            </p:grpSpPr>
            <p:sp>
              <p:nvSpPr>
                <p:cNvPr id="432" name=""/>
                <p:cNvSpPr/>
                <p:nvPr/>
              </p:nvSpPr>
              <p:spPr>
                <a:xfrm>
                  <a:off x="7045200" y="3214800"/>
                  <a:ext cx="1432080" cy="1120680"/>
                </a:xfrm>
                <a:custGeom>
                  <a:avLst/>
                  <a:gdLst/>
                  <a:ahLst/>
                  <a:rect l="l" t="t" r="r" b="b"/>
                  <a:pathLst>
                    <a:path w="902" h="706">
                      <a:moveTo>
                        <a:pt x="0" y="0"/>
                      </a:moveTo>
                      <a:lnTo>
                        <a:pt x="901" y="0"/>
                      </a:lnTo>
                      <a:lnTo>
                        <a:pt x="901" y="705"/>
                      </a:lnTo>
                      <a:lnTo>
                        <a:pt x="0" y="70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3" name=""/>
                <p:cNvSpPr/>
                <p:nvPr/>
              </p:nvSpPr>
              <p:spPr>
                <a:xfrm>
                  <a:off x="7045200" y="3008160"/>
                  <a:ext cx="1833840" cy="187560"/>
                </a:xfrm>
                <a:custGeom>
                  <a:avLst/>
                  <a:gdLst/>
                  <a:ahLst/>
                  <a:rect l="l" t="t" r="r" b="b"/>
                  <a:pathLst>
                    <a:path w="1155" h="118">
                      <a:moveTo>
                        <a:pt x="0" y="117"/>
                      </a:moveTo>
                      <a:lnTo>
                        <a:pt x="905" y="117"/>
                      </a:lnTo>
                      <a:lnTo>
                        <a:pt x="1154" y="0"/>
                      </a:lnTo>
                      <a:lnTo>
                        <a:pt x="247" y="0"/>
                      </a:lnTo>
                      <a:lnTo>
                        <a:pt x="0" y="117"/>
                      </a:lnTo>
                    </a:path>
                  </a:pathLst>
                </a:custGeom>
                <a:solidFill>
                  <a:srgbClr val="ffa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>
                  <a:off x="8507520" y="3008160"/>
                  <a:ext cx="371520" cy="1327320"/>
                </a:xfrm>
                <a:custGeom>
                  <a:avLst/>
                  <a:gdLst/>
                  <a:ahLst/>
                  <a:rect l="l" t="t" r="r" b="b"/>
                  <a:pathLst>
                    <a:path w="234" h="836">
                      <a:moveTo>
                        <a:pt x="233" y="0"/>
                      </a:moveTo>
                      <a:lnTo>
                        <a:pt x="0" y="129"/>
                      </a:lnTo>
                      <a:lnTo>
                        <a:pt x="0" y="835"/>
                      </a:lnTo>
                      <a:lnTo>
                        <a:pt x="233" y="642"/>
                      </a:lnTo>
                      <a:lnTo>
                        <a:pt x="233" y="0"/>
                      </a:lnTo>
                    </a:path>
                  </a:pathLst>
                </a:custGeom>
                <a:solidFill>
                  <a:srgbClr val="800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35" name=""/>
              <p:cNvGrpSpPr/>
              <p:nvPr/>
            </p:nvGrpSpPr>
            <p:grpSpPr>
              <a:xfrm>
                <a:off x="6361200" y="4343400"/>
                <a:ext cx="1968480" cy="1579680"/>
                <a:chOff x="6361200" y="4343400"/>
                <a:chExt cx="1968480" cy="1579680"/>
              </a:xfrm>
            </p:grpSpPr>
            <p:sp>
              <p:nvSpPr>
                <p:cNvPr id="436" name=""/>
                <p:cNvSpPr/>
                <p:nvPr/>
              </p:nvSpPr>
              <p:spPr>
                <a:xfrm>
                  <a:off x="6762600" y="5010120"/>
                  <a:ext cx="1159200" cy="501840"/>
                </a:xfrm>
                <a:custGeom>
                  <a:avLst/>
                  <a:gdLst/>
                  <a:ahLst/>
                  <a:rect l="l" t="t" r="r" b="b"/>
                  <a:pathLst>
                    <a:path w="730" h="316">
                      <a:moveTo>
                        <a:pt x="729" y="0"/>
                      </a:moveTo>
                      <a:lnTo>
                        <a:pt x="695" y="37"/>
                      </a:lnTo>
                      <a:lnTo>
                        <a:pt x="657" y="73"/>
                      </a:lnTo>
                      <a:lnTo>
                        <a:pt x="622" y="100"/>
                      </a:lnTo>
                      <a:lnTo>
                        <a:pt x="577" y="132"/>
                      </a:lnTo>
                      <a:lnTo>
                        <a:pt x="533" y="166"/>
                      </a:lnTo>
                      <a:lnTo>
                        <a:pt x="491" y="190"/>
                      </a:lnTo>
                      <a:lnTo>
                        <a:pt x="443" y="217"/>
                      </a:lnTo>
                      <a:lnTo>
                        <a:pt x="381" y="246"/>
                      </a:lnTo>
                      <a:lnTo>
                        <a:pt x="312" y="273"/>
                      </a:lnTo>
                      <a:lnTo>
                        <a:pt x="259" y="292"/>
                      </a:lnTo>
                      <a:lnTo>
                        <a:pt x="207" y="306"/>
                      </a:lnTo>
                      <a:lnTo>
                        <a:pt x="167" y="315"/>
                      </a:lnTo>
                      <a:lnTo>
                        <a:pt x="0" y="186"/>
                      </a:lnTo>
                      <a:lnTo>
                        <a:pt x="97" y="163"/>
                      </a:lnTo>
                      <a:lnTo>
                        <a:pt x="154" y="141"/>
                      </a:lnTo>
                      <a:lnTo>
                        <a:pt x="213" y="119"/>
                      </a:lnTo>
                      <a:lnTo>
                        <a:pt x="276" y="88"/>
                      </a:lnTo>
                      <a:lnTo>
                        <a:pt x="329" y="60"/>
                      </a:lnTo>
                      <a:lnTo>
                        <a:pt x="371" y="34"/>
                      </a:lnTo>
                      <a:lnTo>
                        <a:pt x="417" y="0"/>
                      </a:lnTo>
                      <a:lnTo>
                        <a:pt x="729" y="0"/>
                      </a:lnTo>
                    </a:path>
                  </a:pathLst>
                </a:custGeom>
                <a:solidFill>
                  <a:srgbClr val="ffa0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7" name=""/>
                <p:cNvSpPr/>
                <p:nvPr/>
              </p:nvSpPr>
              <p:spPr>
                <a:xfrm>
                  <a:off x="6894360" y="5506920"/>
                  <a:ext cx="222480" cy="412920"/>
                </a:xfrm>
                <a:custGeom>
                  <a:avLst/>
                  <a:gdLst/>
                  <a:ahLst/>
                  <a:rect l="l" t="t" r="r" b="b"/>
                  <a:pathLst>
                    <a:path w="140" h="260">
                      <a:moveTo>
                        <a:pt x="0" y="136"/>
                      </a:moveTo>
                      <a:lnTo>
                        <a:pt x="0" y="259"/>
                      </a:lnTo>
                      <a:lnTo>
                        <a:pt x="139" y="123"/>
                      </a:lnTo>
                      <a:lnTo>
                        <a:pt x="139" y="0"/>
                      </a:lnTo>
                      <a:lnTo>
                        <a:pt x="0" y="136"/>
                      </a:lnTo>
                    </a:path>
                  </a:pathLst>
                </a:custGeom>
                <a:solidFill>
                  <a:srgbClr val="800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8" name=""/>
                <p:cNvSpPr/>
                <p:nvPr/>
              </p:nvSpPr>
              <p:spPr>
                <a:xfrm>
                  <a:off x="6894360" y="4981680"/>
                  <a:ext cx="222480" cy="414360"/>
                </a:xfrm>
                <a:custGeom>
                  <a:avLst/>
                  <a:gdLst/>
                  <a:ahLst/>
                  <a:rect l="l" t="t" r="r" b="b"/>
                  <a:pathLst>
                    <a:path w="140" h="261">
                      <a:moveTo>
                        <a:pt x="0" y="135"/>
                      </a:moveTo>
                      <a:lnTo>
                        <a:pt x="0" y="260"/>
                      </a:lnTo>
                      <a:lnTo>
                        <a:pt x="139" y="125"/>
                      </a:lnTo>
                      <a:lnTo>
                        <a:pt x="139" y="0"/>
                      </a:lnTo>
                      <a:lnTo>
                        <a:pt x="0" y="135"/>
                      </a:lnTo>
                    </a:path>
                  </a:pathLst>
                </a:custGeom>
                <a:solidFill>
                  <a:srgbClr val="800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9" name=""/>
                <p:cNvSpPr/>
                <p:nvPr/>
              </p:nvSpPr>
              <p:spPr>
                <a:xfrm>
                  <a:off x="6892920" y="4343400"/>
                  <a:ext cx="1436760" cy="1268280"/>
                </a:xfrm>
                <a:custGeom>
                  <a:avLst/>
                  <a:gdLst/>
                  <a:ahLst/>
                  <a:rect l="l" t="t" r="r" b="b"/>
                  <a:pathLst>
                    <a:path w="905" h="799">
                      <a:moveTo>
                        <a:pt x="894" y="195"/>
                      </a:moveTo>
                      <a:lnTo>
                        <a:pt x="881" y="235"/>
                      </a:lnTo>
                      <a:lnTo>
                        <a:pt x="870" y="266"/>
                      </a:lnTo>
                      <a:lnTo>
                        <a:pt x="856" y="296"/>
                      </a:lnTo>
                      <a:lnTo>
                        <a:pt x="841" y="326"/>
                      </a:lnTo>
                      <a:lnTo>
                        <a:pt x="824" y="355"/>
                      </a:lnTo>
                      <a:lnTo>
                        <a:pt x="799" y="391"/>
                      </a:lnTo>
                      <a:lnTo>
                        <a:pt x="775" y="422"/>
                      </a:lnTo>
                      <a:lnTo>
                        <a:pt x="750" y="454"/>
                      </a:lnTo>
                      <a:lnTo>
                        <a:pt x="719" y="488"/>
                      </a:lnTo>
                      <a:lnTo>
                        <a:pt x="687" y="520"/>
                      </a:lnTo>
                      <a:lnTo>
                        <a:pt x="657" y="548"/>
                      </a:lnTo>
                      <a:lnTo>
                        <a:pt x="622" y="576"/>
                      </a:lnTo>
                      <a:lnTo>
                        <a:pt x="579" y="609"/>
                      </a:lnTo>
                      <a:lnTo>
                        <a:pt x="533" y="642"/>
                      </a:lnTo>
                      <a:lnTo>
                        <a:pt x="489" y="668"/>
                      </a:lnTo>
                      <a:lnTo>
                        <a:pt x="443" y="695"/>
                      </a:lnTo>
                      <a:lnTo>
                        <a:pt x="379" y="728"/>
                      </a:lnTo>
                      <a:lnTo>
                        <a:pt x="310" y="753"/>
                      </a:lnTo>
                      <a:lnTo>
                        <a:pt x="257" y="774"/>
                      </a:lnTo>
                      <a:lnTo>
                        <a:pt x="209" y="788"/>
                      </a:lnTo>
                      <a:lnTo>
                        <a:pt x="167" y="798"/>
                      </a:lnTo>
                      <a:lnTo>
                        <a:pt x="0" y="665"/>
                      </a:lnTo>
                      <a:lnTo>
                        <a:pt x="95" y="639"/>
                      </a:lnTo>
                      <a:lnTo>
                        <a:pt x="154" y="617"/>
                      </a:lnTo>
                      <a:lnTo>
                        <a:pt x="213" y="597"/>
                      </a:lnTo>
                      <a:lnTo>
                        <a:pt x="274" y="566"/>
                      </a:lnTo>
                      <a:lnTo>
                        <a:pt x="327" y="534"/>
                      </a:lnTo>
                      <a:lnTo>
                        <a:pt x="369" y="508"/>
                      </a:lnTo>
                      <a:lnTo>
                        <a:pt x="415" y="475"/>
                      </a:lnTo>
                      <a:lnTo>
                        <a:pt x="466" y="436"/>
                      </a:lnTo>
                      <a:lnTo>
                        <a:pt x="501" y="401"/>
                      </a:lnTo>
                      <a:lnTo>
                        <a:pt x="552" y="355"/>
                      </a:lnTo>
                      <a:lnTo>
                        <a:pt x="598" y="305"/>
                      </a:lnTo>
                      <a:lnTo>
                        <a:pt x="634" y="256"/>
                      </a:lnTo>
                      <a:lnTo>
                        <a:pt x="647" y="199"/>
                      </a:lnTo>
                      <a:lnTo>
                        <a:pt x="649" y="124"/>
                      </a:lnTo>
                      <a:lnTo>
                        <a:pt x="639" y="70"/>
                      </a:lnTo>
                      <a:lnTo>
                        <a:pt x="626" y="1"/>
                      </a:lnTo>
                      <a:lnTo>
                        <a:pt x="894" y="0"/>
                      </a:lnTo>
                      <a:lnTo>
                        <a:pt x="896" y="37"/>
                      </a:lnTo>
                      <a:lnTo>
                        <a:pt x="904" y="75"/>
                      </a:lnTo>
                      <a:lnTo>
                        <a:pt x="904" y="109"/>
                      </a:lnTo>
                      <a:lnTo>
                        <a:pt x="902" y="144"/>
                      </a:lnTo>
                      <a:lnTo>
                        <a:pt x="898" y="168"/>
                      </a:lnTo>
                      <a:lnTo>
                        <a:pt x="894" y="195"/>
                      </a:lnTo>
                    </a:path>
                  </a:pathLst>
                </a:custGeom>
                <a:solidFill>
                  <a:srgbClr val="800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0" name=""/>
                <p:cNvSpPr/>
                <p:nvPr/>
              </p:nvSpPr>
              <p:spPr>
                <a:xfrm>
                  <a:off x="6361200" y="4343400"/>
                  <a:ext cx="1744560" cy="1579680"/>
                </a:xfrm>
                <a:custGeom>
                  <a:avLst/>
                  <a:gdLst/>
                  <a:ahLst/>
                  <a:rect l="l" t="t" r="r" b="b"/>
                  <a:pathLst>
                    <a:path w="1099" h="995">
                      <a:moveTo>
                        <a:pt x="1088" y="200"/>
                      </a:moveTo>
                      <a:lnTo>
                        <a:pt x="1087" y="238"/>
                      </a:lnTo>
                      <a:lnTo>
                        <a:pt x="1075" y="280"/>
                      </a:lnTo>
                      <a:lnTo>
                        <a:pt x="1062" y="311"/>
                      </a:lnTo>
                      <a:lnTo>
                        <a:pt x="1048" y="344"/>
                      </a:lnTo>
                      <a:lnTo>
                        <a:pt x="1035" y="367"/>
                      </a:lnTo>
                      <a:lnTo>
                        <a:pt x="1014" y="397"/>
                      </a:lnTo>
                      <a:lnTo>
                        <a:pt x="995" y="429"/>
                      </a:lnTo>
                      <a:lnTo>
                        <a:pt x="972" y="462"/>
                      </a:lnTo>
                      <a:lnTo>
                        <a:pt x="945" y="493"/>
                      </a:lnTo>
                      <a:lnTo>
                        <a:pt x="918" y="525"/>
                      </a:lnTo>
                      <a:lnTo>
                        <a:pt x="888" y="559"/>
                      </a:lnTo>
                      <a:lnTo>
                        <a:pt x="855" y="591"/>
                      </a:lnTo>
                      <a:lnTo>
                        <a:pt x="824" y="620"/>
                      </a:lnTo>
                      <a:lnTo>
                        <a:pt x="792" y="648"/>
                      </a:lnTo>
                      <a:lnTo>
                        <a:pt x="746" y="683"/>
                      </a:lnTo>
                      <a:lnTo>
                        <a:pt x="700" y="716"/>
                      </a:lnTo>
                      <a:lnTo>
                        <a:pt x="658" y="741"/>
                      </a:lnTo>
                      <a:lnTo>
                        <a:pt x="610" y="767"/>
                      </a:lnTo>
                      <a:lnTo>
                        <a:pt x="549" y="800"/>
                      </a:lnTo>
                      <a:lnTo>
                        <a:pt x="503" y="818"/>
                      </a:lnTo>
                      <a:lnTo>
                        <a:pt x="457" y="835"/>
                      </a:lnTo>
                      <a:lnTo>
                        <a:pt x="421" y="847"/>
                      </a:lnTo>
                      <a:lnTo>
                        <a:pt x="373" y="860"/>
                      </a:lnTo>
                      <a:lnTo>
                        <a:pt x="331" y="868"/>
                      </a:lnTo>
                      <a:lnTo>
                        <a:pt x="331" y="994"/>
                      </a:lnTo>
                      <a:lnTo>
                        <a:pt x="0" y="799"/>
                      </a:lnTo>
                      <a:lnTo>
                        <a:pt x="329" y="540"/>
                      </a:lnTo>
                      <a:lnTo>
                        <a:pt x="329" y="633"/>
                      </a:lnTo>
                      <a:lnTo>
                        <a:pt x="381" y="623"/>
                      </a:lnTo>
                      <a:lnTo>
                        <a:pt x="421" y="608"/>
                      </a:lnTo>
                      <a:lnTo>
                        <a:pt x="451" y="589"/>
                      </a:lnTo>
                      <a:lnTo>
                        <a:pt x="482" y="574"/>
                      </a:lnTo>
                      <a:lnTo>
                        <a:pt x="518" y="549"/>
                      </a:lnTo>
                      <a:lnTo>
                        <a:pt x="555" y="525"/>
                      </a:lnTo>
                      <a:lnTo>
                        <a:pt x="580" y="502"/>
                      </a:lnTo>
                      <a:lnTo>
                        <a:pt x="610" y="475"/>
                      </a:lnTo>
                      <a:lnTo>
                        <a:pt x="643" y="445"/>
                      </a:lnTo>
                      <a:lnTo>
                        <a:pt x="675" y="409"/>
                      </a:lnTo>
                      <a:lnTo>
                        <a:pt x="700" y="376"/>
                      </a:lnTo>
                      <a:lnTo>
                        <a:pt x="719" y="338"/>
                      </a:lnTo>
                      <a:lnTo>
                        <a:pt x="740" y="299"/>
                      </a:lnTo>
                      <a:lnTo>
                        <a:pt x="761" y="254"/>
                      </a:lnTo>
                      <a:lnTo>
                        <a:pt x="775" y="226"/>
                      </a:lnTo>
                      <a:lnTo>
                        <a:pt x="780" y="198"/>
                      </a:lnTo>
                      <a:lnTo>
                        <a:pt x="796" y="156"/>
                      </a:lnTo>
                      <a:lnTo>
                        <a:pt x="800" y="108"/>
                      </a:lnTo>
                      <a:lnTo>
                        <a:pt x="800" y="66"/>
                      </a:lnTo>
                      <a:lnTo>
                        <a:pt x="792" y="0"/>
                      </a:lnTo>
                      <a:lnTo>
                        <a:pt x="1088" y="2"/>
                      </a:lnTo>
                      <a:lnTo>
                        <a:pt x="1092" y="59"/>
                      </a:lnTo>
                      <a:lnTo>
                        <a:pt x="1098" y="104"/>
                      </a:lnTo>
                      <a:lnTo>
                        <a:pt x="1096" y="146"/>
                      </a:lnTo>
                      <a:lnTo>
                        <a:pt x="1088" y="200"/>
                      </a:lnTo>
                    </a:path>
                  </a:pathLst>
                </a:custGeom>
                <a:solidFill>
                  <a:srgbClr val="ff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41" name=""/>
            <p:cNvGrpSpPr/>
            <p:nvPr/>
          </p:nvGrpSpPr>
          <p:grpSpPr>
            <a:xfrm>
              <a:off x="2479680" y="1523880"/>
              <a:ext cx="2654280" cy="2811600"/>
              <a:chOff x="2479680" y="1523880"/>
              <a:chExt cx="2654280" cy="2811600"/>
            </a:xfrm>
          </p:grpSpPr>
          <p:grpSp>
            <p:nvGrpSpPr>
              <p:cNvPr id="442" name=""/>
              <p:cNvGrpSpPr/>
              <p:nvPr/>
            </p:nvGrpSpPr>
            <p:grpSpPr>
              <a:xfrm>
                <a:off x="2479680" y="3008160"/>
                <a:ext cx="1827360" cy="1327320"/>
                <a:chOff x="2479680" y="3008160"/>
                <a:chExt cx="1827360" cy="1327320"/>
              </a:xfrm>
            </p:grpSpPr>
            <p:sp>
              <p:nvSpPr>
                <p:cNvPr id="443" name=""/>
                <p:cNvSpPr/>
                <p:nvPr/>
              </p:nvSpPr>
              <p:spPr>
                <a:xfrm>
                  <a:off x="2479680" y="3214800"/>
                  <a:ext cx="1432080" cy="1120680"/>
                </a:xfrm>
                <a:custGeom>
                  <a:avLst/>
                  <a:gdLst/>
                  <a:ahLst/>
                  <a:rect l="l" t="t" r="r" b="b"/>
                  <a:pathLst>
                    <a:path w="902" h="706">
                      <a:moveTo>
                        <a:pt x="0" y="0"/>
                      </a:moveTo>
                      <a:lnTo>
                        <a:pt x="901" y="0"/>
                      </a:lnTo>
                      <a:lnTo>
                        <a:pt x="901" y="705"/>
                      </a:lnTo>
                      <a:lnTo>
                        <a:pt x="0" y="70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4" name=""/>
                <p:cNvSpPr/>
                <p:nvPr/>
              </p:nvSpPr>
              <p:spPr>
                <a:xfrm>
                  <a:off x="2479680" y="3008160"/>
                  <a:ext cx="1827360" cy="187560"/>
                </a:xfrm>
                <a:custGeom>
                  <a:avLst/>
                  <a:gdLst/>
                  <a:ahLst/>
                  <a:rect l="l" t="t" r="r" b="b"/>
                  <a:pathLst>
                    <a:path w="1151" h="118">
                      <a:moveTo>
                        <a:pt x="0" y="117"/>
                      </a:moveTo>
                      <a:lnTo>
                        <a:pt x="903" y="117"/>
                      </a:lnTo>
                      <a:lnTo>
                        <a:pt x="1150" y="0"/>
                      </a:lnTo>
                      <a:lnTo>
                        <a:pt x="247" y="0"/>
                      </a:lnTo>
                      <a:lnTo>
                        <a:pt x="0" y="117"/>
                      </a:lnTo>
                    </a:path>
                  </a:pathLst>
                </a:custGeom>
                <a:solidFill>
                  <a:srgbClr val="00e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5" name=""/>
                <p:cNvSpPr/>
                <p:nvPr/>
              </p:nvSpPr>
              <p:spPr>
                <a:xfrm>
                  <a:off x="3940200" y="3008160"/>
                  <a:ext cx="366840" cy="1327320"/>
                </a:xfrm>
                <a:custGeom>
                  <a:avLst/>
                  <a:gdLst/>
                  <a:ahLst/>
                  <a:rect l="l" t="t" r="r" b="b"/>
                  <a:pathLst>
                    <a:path w="231" h="836">
                      <a:moveTo>
                        <a:pt x="230" y="0"/>
                      </a:moveTo>
                      <a:lnTo>
                        <a:pt x="0" y="129"/>
                      </a:lnTo>
                      <a:lnTo>
                        <a:pt x="0" y="835"/>
                      </a:lnTo>
                      <a:lnTo>
                        <a:pt x="230" y="642"/>
                      </a:lnTo>
                      <a:lnTo>
                        <a:pt x="230" y="0"/>
                      </a:lnTo>
                    </a:path>
                  </a:pathLst>
                </a:custGeom>
                <a:solidFill>
                  <a:srgbClr val="0060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6" name=""/>
              <p:cNvGrpSpPr/>
              <p:nvPr/>
            </p:nvGrpSpPr>
            <p:grpSpPr>
              <a:xfrm>
                <a:off x="3009960" y="1523880"/>
                <a:ext cx="2124000" cy="1670040"/>
                <a:chOff x="3009960" y="1523880"/>
                <a:chExt cx="2124000" cy="1670040"/>
              </a:xfrm>
            </p:grpSpPr>
            <p:sp>
              <p:nvSpPr>
                <p:cNvPr id="447" name=""/>
                <p:cNvSpPr/>
                <p:nvPr/>
              </p:nvSpPr>
              <p:spPr>
                <a:xfrm>
                  <a:off x="3660840" y="1814400"/>
                  <a:ext cx="841320" cy="546120"/>
                </a:xfrm>
                <a:custGeom>
                  <a:avLst/>
                  <a:gdLst/>
                  <a:ahLst/>
                  <a:rect l="l" t="t" r="r" b="b"/>
                  <a:pathLst>
                    <a:path w="530" h="344">
                      <a:moveTo>
                        <a:pt x="0" y="229"/>
                      </a:moveTo>
                      <a:lnTo>
                        <a:pt x="30" y="201"/>
                      </a:lnTo>
                      <a:lnTo>
                        <a:pt x="64" y="173"/>
                      </a:lnTo>
                      <a:lnTo>
                        <a:pt x="110" y="141"/>
                      </a:lnTo>
                      <a:lnTo>
                        <a:pt x="153" y="107"/>
                      </a:lnTo>
                      <a:lnTo>
                        <a:pt x="196" y="84"/>
                      </a:lnTo>
                      <a:lnTo>
                        <a:pt x="242" y="57"/>
                      </a:lnTo>
                      <a:lnTo>
                        <a:pt x="302" y="25"/>
                      </a:lnTo>
                      <a:lnTo>
                        <a:pt x="372" y="0"/>
                      </a:lnTo>
                      <a:lnTo>
                        <a:pt x="529" y="132"/>
                      </a:lnTo>
                      <a:lnTo>
                        <a:pt x="470" y="154"/>
                      </a:lnTo>
                      <a:lnTo>
                        <a:pt x="406" y="183"/>
                      </a:lnTo>
                      <a:lnTo>
                        <a:pt x="353" y="214"/>
                      </a:lnTo>
                      <a:lnTo>
                        <a:pt x="314" y="240"/>
                      </a:lnTo>
                      <a:lnTo>
                        <a:pt x="266" y="273"/>
                      </a:lnTo>
                      <a:lnTo>
                        <a:pt x="219" y="311"/>
                      </a:lnTo>
                      <a:lnTo>
                        <a:pt x="183" y="343"/>
                      </a:lnTo>
                      <a:lnTo>
                        <a:pt x="0" y="229"/>
                      </a:lnTo>
                    </a:path>
                  </a:pathLst>
                </a:custGeom>
                <a:solidFill>
                  <a:srgbClr val="00e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8" name=""/>
                <p:cNvSpPr/>
                <p:nvPr/>
              </p:nvSpPr>
              <p:spPr>
                <a:xfrm>
                  <a:off x="3470400" y="2252520"/>
                  <a:ext cx="695160" cy="941400"/>
                </a:xfrm>
                <a:custGeom>
                  <a:avLst/>
                  <a:gdLst/>
                  <a:ahLst/>
                  <a:rect l="l" t="t" r="r" b="b"/>
                  <a:pathLst>
                    <a:path w="438" h="593">
                      <a:moveTo>
                        <a:pt x="7" y="274"/>
                      </a:moveTo>
                      <a:lnTo>
                        <a:pt x="19" y="237"/>
                      </a:lnTo>
                      <a:lnTo>
                        <a:pt x="28" y="201"/>
                      </a:lnTo>
                      <a:lnTo>
                        <a:pt x="41" y="167"/>
                      </a:lnTo>
                      <a:lnTo>
                        <a:pt x="50" y="139"/>
                      </a:lnTo>
                      <a:lnTo>
                        <a:pt x="65" y="109"/>
                      </a:lnTo>
                      <a:lnTo>
                        <a:pt x="78" y="79"/>
                      </a:lnTo>
                      <a:lnTo>
                        <a:pt x="95" y="49"/>
                      </a:lnTo>
                      <a:lnTo>
                        <a:pt x="114" y="15"/>
                      </a:lnTo>
                      <a:lnTo>
                        <a:pt x="437" y="0"/>
                      </a:lnTo>
                      <a:lnTo>
                        <a:pt x="409" y="30"/>
                      </a:lnTo>
                      <a:lnTo>
                        <a:pt x="381" y="66"/>
                      </a:lnTo>
                      <a:lnTo>
                        <a:pt x="359" y="97"/>
                      </a:lnTo>
                      <a:lnTo>
                        <a:pt x="340" y="137"/>
                      </a:lnTo>
                      <a:lnTo>
                        <a:pt x="321" y="171"/>
                      </a:lnTo>
                      <a:lnTo>
                        <a:pt x="303" y="213"/>
                      </a:lnTo>
                      <a:lnTo>
                        <a:pt x="288" y="249"/>
                      </a:lnTo>
                      <a:lnTo>
                        <a:pt x="280" y="279"/>
                      </a:lnTo>
                      <a:lnTo>
                        <a:pt x="273" y="318"/>
                      </a:lnTo>
                      <a:lnTo>
                        <a:pt x="263" y="362"/>
                      </a:lnTo>
                      <a:lnTo>
                        <a:pt x="260" y="407"/>
                      </a:lnTo>
                      <a:lnTo>
                        <a:pt x="265" y="441"/>
                      </a:lnTo>
                      <a:lnTo>
                        <a:pt x="276" y="473"/>
                      </a:lnTo>
                      <a:lnTo>
                        <a:pt x="17" y="592"/>
                      </a:lnTo>
                      <a:lnTo>
                        <a:pt x="2" y="415"/>
                      </a:lnTo>
                      <a:lnTo>
                        <a:pt x="0" y="370"/>
                      </a:lnTo>
                      <a:lnTo>
                        <a:pt x="0" y="328"/>
                      </a:lnTo>
                      <a:lnTo>
                        <a:pt x="7" y="274"/>
                      </a:lnTo>
                    </a:path>
                  </a:pathLst>
                </a:custGeom>
                <a:solidFill>
                  <a:srgbClr val="0060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9" name=""/>
                <p:cNvSpPr/>
                <p:nvPr/>
              </p:nvSpPr>
              <p:spPr>
                <a:xfrm>
                  <a:off x="3009960" y="1730520"/>
                  <a:ext cx="1762200" cy="1463400"/>
                </a:xfrm>
                <a:custGeom>
                  <a:avLst/>
                  <a:gdLst/>
                  <a:ahLst/>
                  <a:rect l="l" t="t" r="r" b="b"/>
                  <a:pathLst>
                    <a:path w="1110" h="922">
                      <a:moveTo>
                        <a:pt x="21" y="796"/>
                      </a:moveTo>
                      <a:lnTo>
                        <a:pt x="33" y="758"/>
                      </a:lnTo>
                      <a:lnTo>
                        <a:pt x="44" y="722"/>
                      </a:lnTo>
                      <a:lnTo>
                        <a:pt x="57" y="689"/>
                      </a:lnTo>
                      <a:lnTo>
                        <a:pt x="69" y="659"/>
                      </a:lnTo>
                      <a:lnTo>
                        <a:pt x="84" y="629"/>
                      </a:lnTo>
                      <a:lnTo>
                        <a:pt x="99" y="599"/>
                      </a:lnTo>
                      <a:lnTo>
                        <a:pt x="117" y="569"/>
                      </a:lnTo>
                      <a:lnTo>
                        <a:pt x="140" y="534"/>
                      </a:lnTo>
                      <a:lnTo>
                        <a:pt x="164" y="500"/>
                      </a:lnTo>
                      <a:lnTo>
                        <a:pt x="191" y="468"/>
                      </a:lnTo>
                      <a:lnTo>
                        <a:pt x="222" y="436"/>
                      </a:lnTo>
                      <a:lnTo>
                        <a:pt x="254" y="403"/>
                      </a:lnTo>
                      <a:lnTo>
                        <a:pt x="283" y="375"/>
                      </a:lnTo>
                      <a:lnTo>
                        <a:pt x="317" y="348"/>
                      </a:lnTo>
                      <a:lnTo>
                        <a:pt x="363" y="313"/>
                      </a:lnTo>
                      <a:lnTo>
                        <a:pt x="409" y="278"/>
                      </a:lnTo>
                      <a:lnTo>
                        <a:pt x="451" y="253"/>
                      </a:lnTo>
                      <a:lnTo>
                        <a:pt x="499" y="227"/>
                      </a:lnTo>
                      <a:lnTo>
                        <a:pt x="562" y="196"/>
                      </a:lnTo>
                      <a:lnTo>
                        <a:pt x="608" y="178"/>
                      </a:lnTo>
                      <a:lnTo>
                        <a:pt x="654" y="160"/>
                      </a:lnTo>
                      <a:lnTo>
                        <a:pt x="688" y="147"/>
                      </a:lnTo>
                      <a:lnTo>
                        <a:pt x="736" y="135"/>
                      </a:lnTo>
                      <a:lnTo>
                        <a:pt x="778" y="128"/>
                      </a:lnTo>
                      <a:lnTo>
                        <a:pt x="778" y="0"/>
                      </a:lnTo>
                      <a:lnTo>
                        <a:pt x="1109" y="197"/>
                      </a:lnTo>
                      <a:lnTo>
                        <a:pt x="780" y="456"/>
                      </a:lnTo>
                      <a:lnTo>
                        <a:pt x="780" y="361"/>
                      </a:lnTo>
                      <a:lnTo>
                        <a:pt x="727" y="373"/>
                      </a:lnTo>
                      <a:lnTo>
                        <a:pt x="688" y="388"/>
                      </a:lnTo>
                      <a:lnTo>
                        <a:pt x="658" y="405"/>
                      </a:lnTo>
                      <a:lnTo>
                        <a:pt x="629" y="421"/>
                      </a:lnTo>
                      <a:lnTo>
                        <a:pt x="593" y="445"/>
                      </a:lnTo>
                      <a:lnTo>
                        <a:pt x="556" y="468"/>
                      </a:lnTo>
                      <a:lnTo>
                        <a:pt x="530" y="492"/>
                      </a:lnTo>
                      <a:lnTo>
                        <a:pt x="499" y="519"/>
                      </a:lnTo>
                      <a:lnTo>
                        <a:pt x="467" y="549"/>
                      </a:lnTo>
                      <a:lnTo>
                        <a:pt x="436" y="585"/>
                      </a:lnTo>
                      <a:lnTo>
                        <a:pt x="413" y="620"/>
                      </a:lnTo>
                      <a:lnTo>
                        <a:pt x="392" y="659"/>
                      </a:lnTo>
                      <a:lnTo>
                        <a:pt x="371" y="695"/>
                      </a:lnTo>
                      <a:lnTo>
                        <a:pt x="346" y="740"/>
                      </a:lnTo>
                      <a:lnTo>
                        <a:pt x="335" y="769"/>
                      </a:lnTo>
                      <a:lnTo>
                        <a:pt x="327" y="796"/>
                      </a:lnTo>
                      <a:lnTo>
                        <a:pt x="314" y="838"/>
                      </a:lnTo>
                      <a:lnTo>
                        <a:pt x="310" y="888"/>
                      </a:lnTo>
                      <a:lnTo>
                        <a:pt x="310" y="921"/>
                      </a:lnTo>
                      <a:lnTo>
                        <a:pt x="0" y="919"/>
                      </a:lnTo>
                      <a:lnTo>
                        <a:pt x="13" y="850"/>
                      </a:lnTo>
                      <a:lnTo>
                        <a:pt x="21" y="796"/>
                      </a:lnTo>
                    </a:path>
                  </a:pathLst>
                </a:custGeom>
                <a:solidFill>
                  <a:srgbClr val="0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0" name=""/>
                <p:cNvSpPr/>
                <p:nvPr/>
              </p:nvSpPr>
              <p:spPr>
                <a:xfrm>
                  <a:off x="4265640" y="1523880"/>
                  <a:ext cx="868320" cy="501840"/>
                </a:xfrm>
                <a:custGeom>
                  <a:avLst/>
                  <a:gdLst/>
                  <a:ahLst/>
                  <a:rect l="l" t="t" r="r" b="b"/>
                  <a:pathLst>
                    <a:path w="547" h="316">
                      <a:moveTo>
                        <a:pt x="0" y="125"/>
                      </a:moveTo>
                      <a:lnTo>
                        <a:pt x="323" y="315"/>
                      </a:lnTo>
                      <a:lnTo>
                        <a:pt x="546" y="183"/>
                      </a:lnTo>
                      <a:lnTo>
                        <a:pt x="242" y="0"/>
                      </a:lnTo>
                      <a:lnTo>
                        <a:pt x="0" y="125"/>
                      </a:lnTo>
                    </a:path>
                  </a:pathLst>
                </a:custGeom>
                <a:solidFill>
                  <a:srgbClr val="80ff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51" name=""/>
            <p:cNvGrpSpPr/>
            <p:nvPr/>
          </p:nvGrpSpPr>
          <p:grpSpPr>
            <a:xfrm>
              <a:off x="4792680" y="1238400"/>
              <a:ext cx="1825560" cy="1330200"/>
              <a:chOff x="4792680" y="1238400"/>
              <a:chExt cx="1825560" cy="1330200"/>
            </a:xfrm>
          </p:grpSpPr>
          <p:sp>
            <p:nvSpPr>
              <p:cNvPr id="452" name=""/>
              <p:cNvSpPr/>
              <p:nvPr/>
            </p:nvSpPr>
            <p:spPr>
              <a:xfrm>
                <a:off x="6248520" y="1238400"/>
                <a:ext cx="369720" cy="1330200"/>
              </a:xfrm>
              <a:custGeom>
                <a:avLst/>
                <a:gdLst/>
                <a:ahLst/>
                <a:rect l="l" t="t" r="r" b="b"/>
                <a:pathLst>
                  <a:path w="233" h="838">
                    <a:moveTo>
                      <a:pt x="232" y="0"/>
                    </a:moveTo>
                    <a:lnTo>
                      <a:pt x="0" y="129"/>
                    </a:lnTo>
                    <a:lnTo>
                      <a:pt x="0" y="837"/>
                    </a:lnTo>
                    <a:lnTo>
                      <a:pt x="232" y="644"/>
                    </a:lnTo>
                    <a:lnTo>
                      <a:pt x="232" y="0"/>
                    </a:lnTo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4792680" y="1446120"/>
                <a:ext cx="1425600" cy="1122480"/>
              </a:xfrm>
              <a:custGeom>
                <a:avLst/>
                <a:gdLst/>
                <a:ahLst/>
                <a:rect l="l" t="t" r="r" b="b"/>
                <a:pathLst>
                  <a:path w="898" h="707">
                    <a:moveTo>
                      <a:pt x="0" y="0"/>
                    </a:moveTo>
                    <a:lnTo>
                      <a:pt x="897" y="0"/>
                    </a:lnTo>
                    <a:lnTo>
                      <a:pt x="897" y="706"/>
                    </a:lnTo>
                    <a:lnTo>
                      <a:pt x="0" y="70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0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4792680" y="1238400"/>
                <a:ext cx="1825560" cy="187200"/>
              </a:xfrm>
              <a:custGeom>
                <a:avLst/>
                <a:gdLst/>
                <a:ahLst/>
                <a:rect l="l" t="t" r="r" b="b"/>
                <a:pathLst>
                  <a:path w="1150" h="118">
                    <a:moveTo>
                      <a:pt x="0" y="117"/>
                    </a:moveTo>
                    <a:lnTo>
                      <a:pt x="900" y="117"/>
                    </a:lnTo>
                    <a:lnTo>
                      <a:pt x="1149" y="0"/>
                    </a:lnTo>
                    <a:lnTo>
                      <a:pt x="245" y="0"/>
                    </a:lnTo>
                    <a:lnTo>
                      <a:pt x="0" y="117"/>
                    </a:lnTo>
                  </a:path>
                </a:pathLst>
              </a:custGeom>
              <a:solidFill>
                <a:srgbClr val="ff2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5" name=""/>
            <p:cNvGrpSpPr/>
            <p:nvPr/>
          </p:nvGrpSpPr>
          <p:grpSpPr>
            <a:xfrm>
              <a:off x="6242040" y="1619280"/>
              <a:ext cx="2235240" cy="1576440"/>
              <a:chOff x="6242040" y="1619280"/>
              <a:chExt cx="2235240" cy="1576440"/>
            </a:xfrm>
          </p:grpSpPr>
          <p:sp>
            <p:nvSpPr>
              <p:cNvPr id="456" name=""/>
              <p:cNvSpPr/>
              <p:nvPr/>
            </p:nvSpPr>
            <p:spPr>
              <a:xfrm>
                <a:off x="7978680" y="2590920"/>
                <a:ext cx="498600" cy="183960"/>
              </a:xfrm>
              <a:custGeom>
                <a:avLst/>
                <a:gdLst/>
                <a:ahLst/>
                <a:rect l="l" t="t" r="r" b="b"/>
                <a:pathLst>
                  <a:path w="314" h="116">
                    <a:moveTo>
                      <a:pt x="0" y="115"/>
                    </a:moveTo>
                    <a:lnTo>
                      <a:pt x="157" y="115"/>
                    </a:lnTo>
                    <a:lnTo>
                      <a:pt x="313" y="0"/>
                    </a:lnTo>
                    <a:lnTo>
                      <a:pt x="157" y="0"/>
                    </a:lnTo>
                    <a:lnTo>
                      <a:pt x="0" y="115"/>
                    </a:lnTo>
                  </a:path>
                </a:pathLst>
              </a:custGeom>
              <a:solidFill>
                <a:srgbClr val="ffa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7840800" y="2590920"/>
                <a:ext cx="636480" cy="604800"/>
              </a:xfrm>
              <a:custGeom>
                <a:avLst/>
                <a:gdLst/>
                <a:ahLst/>
                <a:rect l="l" t="t" r="r" b="b"/>
                <a:pathLst>
                  <a:path w="401" h="381">
                    <a:moveTo>
                      <a:pt x="400" y="0"/>
                    </a:moveTo>
                    <a:lnTo>
                      <a:pt x="241" y="126"/>
                    </a:lnTo>
                    <a:lnTo>
                      <a:pt x="0" y="380"/>
                    </a:lnTo>
                    <a:lnTo>
                      <a:pt x="161" y="254"/>
                    </a:lnTo>
                    <a:lnTo>
                      <a:pt x="400" y="0"/>
                    </a:lnTo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7305840" y="2590920"/>
                <a:ext cx="504720" cy="183960"/>
              </a:xfrm>
              <a:custGeom>
                <a:avLst/>
                <a:gdLst/>
                <a:ahLst/>
                <a:rect l="l" t="t" r="r" b="b"/>
                <a:pathLst>
                  <a:path w="318" h="116">
                    <a:moveTo>
                      <a:pt x="0" y="115"/>
                    </a:moveTo>
                    <a:lnTo>
                      <a:pt x="158" y="115"/>
                    </a:lnTo>
                    <a:lnTo>
                      <a:pt x="317" y="0"/>
                    </a:lnTo>
                    <a:lnTo>
                      <a:pt x="158" y="0"/>
                    </a:lnTo>
                    <a:lnTo>
                      <a:pt x="0" y="115"/>
                    </a:lnTo>
                  </a:path>
                </a:pathLst>
              </a:custGeom>
              <a:solidFill>
                <a:srgbClr val="ffa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6242040" y="1619280"/>
                <a:ext cx="1976400" cy="1160280"/>
              </a:xfrm>
              <a:custGeom>
                <a:avLst/>
                <a:gdLst/>
                <a:ahLst/>
                <a:rect l="l" t="t" r="r" b="b"/>
                <a:pathLst>
                  <a:path w="1245" h="731">
                    <a:moveTo>
                      <a:pt x="391" y="7"/>
                    </a:moveTo>
                    <a:lnTo>
                      <a:pt x="435" y="16"/>
                    </a:lnTo>
                    <a:lnTo>
                      <a:pt x="481" y="24"/>
                    </a:lnTo>
                    <a:lnTo>
                      <a:pt x="523" y="34"/>
                    </a:lnTo>
                    <a:lnTo>
                      <a:pt x="564" y="45"/>
                    </a:lnTo>
                    <a:lnTo>
                      <a:pt x="602" y="55"/>
                    </a:lnTo>
                    <a:lnTo>
                      <a:pt x="640" y="67"/>
                    </a:lnTo>
                    <a:lnTo>
                      <a:pt x="677" y="81"/>
                    </a:lnTo>
                    <a:lnTo>
                      <a:pt x="721" y="100"/>
                    </a:lnTo>
                    <a:lnTo>
                      <a:pt x="765" y="118"/>
                    </a:lnTo>
                    <a:lnTo>
                      <a:pt x="803" y="139"/>
                    </a:lnTo>
                    <a:lnTo>
                      <a:pt x="847" y="163"/>
                    </a:lnTo>
                    <a:lnTo>
                      <a:pt x="889" y="187"/>
                    </a:lnTo>
                    <a:lnTo>
                      <a:pt x="924" y="211"/>
                    </a:lnTo>
                    <a:lnTo>
                      <a:pt x="958" y="238"/>
                    </a:lnTo>
                    <a:lnTo>
                      <a:pt x="1002" y="274"/>
                    </a:lnTo>
                    <a:lnTo>
                      <a:pt x="1045" y="310"/>
                    </a:lnTo>
                    <a:lnTo>
                      <a:pt x="1079" y="345"/>
                    </a:lnTo>
                    <a:lnTo>
                      <a:pt x="1114" y="381"/>
                    </a:lnTo>
                    <a:lnTo>
                      <a:pt x="1154" y="430"/>
                    </a:lnTo>
                    <a:lnTo>
                      <a:pt x="1186" y="486"/>
                    </a:lnTo>
                    <a:lnTo>
                      <a:pt x="1213" y="528"/>
                    </a:lnTo>
                    <a:lnTo>
                      <a:pt x="1232" y="565"/>
                    </a:lnTo>
                    <a:lnTo>
                      <a:pt x="1244" y="598"/>
                    </a:lnTo>
                    <a:lnTo>
                      <a:pt x="1073" y="730"/>
                    </a:lnTo>
                    <a:lnTo>
                      <a:pt x="1043" y="655"/>
                    </a:lnTo>
                    <a:lnTo>
                      <a:pt x="1012" y="609"/>
                    </a:lnTo>
                    <a:lnTo>
                      <a:pt x="985" y="562"/>
                    </a:lnTo>
                    <a:lnTo>
                      <a:pt x="945" y="514"/>
                    </a:lnTo>
                    <a:lnTo>
                      <a:pt x="907" y="471"/>
                    </a:lnTo>
                    <a:lnTo>
                      <a:pt x="872" y="439"/>
                    </a:lnTo>
                    <a:lnTo>
                      <a:pt x="830" y="402"/>
                    </a:lnTo>
                    <a:lnTo>
                      <a:pt x="780" y="363"/>
                    </a:lnTo>
                    <a:lnTo>
                      <a:pt x="736" y="334"/>
                    </a:lnTo>
                    <a:lnTo>
                      <a:pt x="677" y="294"/>
                    </a:lnTo>
                    <a:lnTo>
                      <a:pt x="613" y="259"/>
                    </a:lnTo>
                    <a:lnTo>
                      <a:pt x="550" y="231"/>
                    </a:lnTo>
                    <a:lnTo>
                      <a:pt x="485" y="205"/>
                    </a:lnTo>
                    <a:lnTo>
                      <a:pt x="429" y="186"/>
                    </a:lnTo>
                    <a:lnTo>
                      <a:pt x="360" y="169"/>
                    </a:lnTo>
                    <a:lnTo>
                      <a:pt x="299" y="156"/>
                    </a:lnTo>
                    <a:lnTo>
                      <a:pt x="0" y="177"/>
                    </a:lnTo>
                    <a:lnTo>
                      <a:pt x="230" y="1"/>
                    </a:lnTo>
                    <a:lnTo>
                      <a:pt x="278" y="0"/>
                    </a:lnTo>
                    <a:lnTo>
                      <a:pt x="326" y="4"/>
                    </a:lnTo>
                    <a:lnTo>
                      <a:pt x="391" y="7"/>
                    </a:lnTo>
                  </a:path>
                </a:pathLst>
              </a:custGeom>
              <a:solidFill>
                <a:srgbClr val="ff2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6242040" y="1836720"/>
                <a:ext cx="1974960" cy="1359000"/>
              </a:xfrm>
              <a:custGeom>
                <a:avLst/>
                <a:gdLst/>
                <a:ahLst/>
                <a:rect l="l" t="t" r="r" b="b"/>
                <a:pathLst>
                  <a:path w="1244" h="856">
                    <a:moveTo>
                      <a:pt x="0" y="293"/>
                    </a:moveTo>
                    <a:lnTo>
                      <a:pt x="2" y="45"/>
                    </a:lnTo>
                    <a:lnTo>
                      <a:pt x="73" y="24"/>
                    </a:lnTo>
                    <a:lnTo>
                      <a:pt x="142" y="9"/>
                    </a:lnTo>
                    <a:lnTo>
                      <a:pt x="209" y="0"/>
                    </a:lnTo>
                    <a:lnTo>
                      <a:pt x="270" y="9"/>
                    </a:lnTo>
                    <a:lnTo>
                      <a:pt x="320" y="20"/>
                    </a:lnTo>
                    <a:lnTo>
                      <a:pt x="364" y="30"/>
                    </a:lnTo>
                    <a:lnTo>
                      <a:pt x="403" y="39"/>
                    </a:lnTo>
                    <a:lnTo>
                      <a:pt x="441" y="51"/>
                    </a:lnTo>
                    <a:lnTo>
                      <a:pt x="480" y="63"/>
                    </a:lnTo>
                    <a:lnTo>
                      <a:pt x="518" y="77"/>
                    </a:lnTo>
                    <a:lnTo>
                      <a:pt x="562" y="95"/>
                    </a:lnTo>
                    <a:lnTo>
                      <a:pt x="606" y="114"/>
                    </a:lnTo>
                    <a:lnTo>
                      <a:pt x="646" y="134"/>
                    </a:lnTo>
                    <a:lnTo>
                      <a:pt x="687" y="159"/>
                    </a:lnTo>
                    <a:lnTo>
                      <a:pt x="729" y="185"/>
                    </a:lnTo>
                    <a:lnTo>
                      <a:pt x="765" y="209"/>
                    </a:lnTo>
                    <a:lnTo>
                      <a:pt x="802" y="234"/>
                    </a:lnTo>
                    <a:lnTo>
                      <a:pt x="844" y="269"/>
                    </a:lnTo>
                    <a:lnTo>
                      <a:pt x="888" y="306"/>
                    </a:lnTo>
                    <a:lnTo>
                      <a:pt x="921" y="339"/>
                    </a:lnTo>
                    <a:lnTo>
                      <a:pt x="953" y="377"/>
                    </a:lnTo>
                    <a:lnTo>
                      <a:pt x="994" y="425"/>
                    </a:lnTo>
                    <a:lnTo>
                      <a:pt x="1017" y="461"/>
                    </a:lnTo>
                    <a:lnTo>
                      <a:pt x="1040" y="497"/>
                    </a:lnTo>
                    <a:lnTo>
                      <a:pt x="1055" y="525"/>
                    </a:lnTo>
                    <a:lnTo>
                      <a:pt x="1070" y="563"/>
                    </a:lnTo>
                    <a:lnTo>
                      <a:pt x="1080" y="594"/>
                    </a:lnTo>
                    <a:lnTo>
                      <a:pt x="1243" y="594"/>
                    </a:lnTo>
                    <a:lnTo>
                      <a:pt x="992" y="855"/>
                    </a:lnTo>
                    <a:lnTo>
                      <a:pt x="662" y="597"/>
                    </a:lnTo>
                    <a:lnTo>
                      <a:pt x="783" y="597"/>
                    </a:lnTo>
                    <a:lnTo>
                      <a:pt x="767" y="555"/>
                    </a:lnTo>
                    <a:lnTo>
                      <a:pt x="750" y="525"/>
                    </a:lnTo>
                    <a:lnTo>
                      <a:pt x="727" y="500"/>
                    </a:lnTo>
                    <a:lnTo>
                      <a:pt x="706" y="477"/>
                    </a:lnTo>
                    <a:lnTo>
                      <a:pt x="675" y="449"/>
                    </a:lnTo>
                    <a:lnTo>
                      <a:pt x="646" y="420"/>
                    </a:lnTo>
                    <a:lnTo>
                      <a:pt x="616" y="401"/>
                    </a:lnTo>
                    <a:lnTo>
                      <a:pt x="581" y="377"/>
                    </a:lnTo>
                    <a:lnTo>
                      <a:pt x="543" y="351"/>
                    </a:lnTo>
                    <a:lnTo>
                      <a:pt x="497" y="327"/>
                    </a:lnTo>
                    <a:lnTo>
                      <a:pt x="455" y="309"/>
                    </a:lnTo>
                    <a:lnTo>
                      <a:pt x="403" y="293"/>
                    </a:lnTo>
                    <a:lnTo>
                      <a:pt x="355" y="276"/>
                    </a:lnTo>
                    <a:lnTo>
                      <a:pt x="299" y="257"/>
                    </a:lnTo>
                    <a:lnTo>
                      <a:pt x="263" y="248"/>
                    </a:lnTo>
                    <a:lnTo>
                      <a:pt x="223" y="237"/>
                    </a:lnTo>
                    <a:lnTo>
                      <a:pt x="161" y="239"/>
                    </a:lnTo>
                    <a:lnTo>
                      <a:pt x="94" y="251"/>
                    </a:lnTo>
                    <a:lnTo>
                      <a:pt x="48" y="267"/>
                    </a:lnTo>
                    <a:lnTo>
                      <a:pt x="0" y="293"/>
                    </a:lnTo>
                  </a:path>
                </a:pathLst>
              </a:custGeom>
              <a:solidFill>
                <a:srgbClr val="ff0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1" name=""/>
            <p:cNvSpPr/>
            <p:nvPr/>
          </p:nvSpPr>
          <p:spPr>
            <a:xfrm>
              <a:off x="2463480" y="3505320"/>
              <a:ext cx="10944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68400"/>
                  <a:tab algn="l" pos="1936800"/>
                  <a:tab algn="l" pos="2905200"/>
                  <a:tab algn="l" pos="3873600"/>
                  <a:tab algn="l" pos="4842000"/>
                  <a:tab algn="l" pos="5810400"/>
                  <a:tab algn="l" pos="6778800"/>
                  <a:tab algn="l" pos="7746840"/>
                  <a:tab algn="l" pos="8715240"/>
                  <a:tab algn="l" pos="9683640"/>
                  <a:tab algn="l" pos="1065204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Proceso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4726440" y="1695600"/>
              <a:ext cx="1633680" cy="81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68400"/>
                  <a:tab algn="l" pos="1936800"/>
                  <a:tab algn="l" pos="2905200"/>
                  <a:tab algn="l" pos="3873600"/>
                  <a:tab algn="l" pos="4842000"/>
                  <a:tab algn="l" pos="5810400"/>
                  <a:tab algn="l" pos="6778800"/>
                  <a:tab algn="l" pos="7746840"/>
                  <a:tab algn="l" pos="8715240"/>
                  <a:tab algn="l" pos="9683640"/>
                  <a:tab algn="l" pos="1065204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Estructur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68400"/>
                  <a:tab algn="l" pos="1936800"/>
                  <a:tab algn="l" pos="2905200"/>
                  <a:tab algn="l" pos="3873600"/>
                  <a:tab algn="l" pos="4842000"/>
                  <a:tab algn="l" pos="5810400"/>
                  <a:tab algn="l" pos="6778800"/>
                  <a:tab algn="l" pos="7746840"/>
                  <a:tab algn="l" pos="8715240"/>
                  <a:tab algn="l" pos="9683640"/>
                  <a:tab algn="l" pos="1065204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Organizacion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68400"/>
                  <a:tab algn="l" pos="1936800"/>
                  <a:tab algn="l" pos="2905200"/>
                  <a:tab algn="l" pos="3873600"/>
                  <a:tab algn="l" pos="4842000"/>
                  <a:tab algn="l" pos="5810400"/>
                  <a:tab algn="l" pos="6778800"/>
                  <a:tab algn="l" pos="7746840"/>
                  <a:tab algn="l" pos="8715240"/>
                  <a:tab algn="l" pos="9683640"/>
                  <a:tab algn="l" pos="1065204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y Físic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7159680" y="3467160"/>
              <a:ext cx="126360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68400"/>
                  <a:tab algn="l" pos="1936800"/>
                  <a:tab algn="l" pos="2905200"/>
                  <a:tab algn="l" pos="3873600"/>
                  <a:tab algn="l" pos="4842000"/>
                  <a:tab algn="l" pos="5810400"/>
                  <a:tab algn="l" pos="6778800"/>
                  <a:tab algn="l" pos="7746840"/>
                  <a:tab algn="l" pos="8715240"/>
                  <a:tab algn="l" pos="9683640"/>
                  <a:tab algn="l" pos="1065204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Personas 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68400"/>
                  <a:tab algn="l" pos="1936800"/>
                  <a:tab algn="l" pos="2905200"/>
                  <a:tab algn="l" pos="3873600"/>
                  <a:tab algn="l" pos="4842000"/>
                  <a:tab algn="l" pos="5810400"/>
                  <a:tab algn="l" pos="6778800"/>
                  <a:tab algn="l" pos="7746840"/>
                  <a:tab algn="l" pos="8715240"/>
                  <a:tab algn="l" pos="9683640"/>
                  <a:tab algn="l" pos="1065204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Cultur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4900320" y="5334120"/>
              <a:ext cx="124992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68400"/>
                  <a:tab algn="l" pos="1936800"/>
                  <a:tab algn="l" pos="2905200"/>
                  <a:tab algn="l" pos="3873600"/>
                  <a:tab algn="l" pos="4842000"/>
                  <a:tab algn="l" pos="5810400"/>
                  <a:tab algn="l" pos="6778800"/>
                  <a:tab algn="l" pos="7746840"/>
                  <a:tab algn="l" pos="8715240"/>
                  <a:tab algn="l" pos="9683640"/>
                  <a:tab algn="l" pos="1065204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Tecnologí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68400"/>
                  <a:tab algn="l" pos="1936800"/>
                  <a:tab algn="l" pos="2905200"/>
                  <a:tab algn="l" pos="3873600"/>
                  <a:tab algn="l" pos="4842000"/>
                  <a:tab algn="l" pos="5810400"/>
                  <a:tab algn="l" pos="6778800"/>
                  <a:tab algn="l" pos="7746840"/>
                  <a:tab algn="l" pos="8715240"/>
                  <a:tab algn="l" pos="9683640"/>
                  <a:tab algn="l" pos="1065204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y Sistema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 rot="16200000">
              <a:off x="5464080" y="2717280"/>
              <a:ext cx="330120" cy="444240"/>
            </a:xfrm>
            <a:prstGeom prst="rightArrow">
              <a:avLst>
                <a:gd name="adj1" fmla="val 50000"/>
                <a:gd name="adj2" fmla="val 50005"/>
              </a:avLst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6324480" y="3568680"/>
              <a:ext cx="425520" cy="387360"/>
            </a:xfrm>
            <a:prstGeom prst="rightArrow">
              <a:avLst>
                <a:gd name="adj1" fmla="val 50000"/>
                <a:gd name="adj2" fmla="val 54931"/>
              </a:avLst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 flipH="1" rot="16200000">
              <a:off x="5464080" y="4336920"/>
              <a:ext cx="330120" cy="520560"/>
            </a:xfrm>
            <a:prstGeom prst="rightArrow">
              <a:avLst>
                <a:gd name="adj1" fmla="val 50000"/>
                <a:gd name="adj2" fmla="val 50005"/>
              </a:avLst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 flipH="1">
              <a:off x="4508640" y="3568680"/>
              <a:ext cx="444240" cy="387360"/>
            </a:xfrm>
            <a:prstGeom prst="rightArrow">
              <a:avLst>
                <a:gd name="adj1" fmla="val 50000"/>
                <a:gd name="adj2" fmla="val 57347"/>
              </a:avLst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9" name=""/>
          <p:cNvSpPr/>
          <p:nvPr/>
        </p:nvSpPr>
        <p:spPr>
          <a:xfrm>
            <a:off x="228600" y="4762440"/>
            <a:ext cx="26478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Los nuevos sistemas crean un nuevo potencial y nuevos problem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0" y="152280"/>
            <a:ext cx="9131400" cy="4572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102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0" y="152280"/>
            <a:ext cx="90676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ROYECTO DE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AMBIO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RGANIZACI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000"/>
                            </p:stCondLst>
                            <p:childTnLst>
                              <p:par>
                                <p:cTn id="91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/>
          <p:cNvSpPr/>
          <p:nvPr/>
        </p:nvSpPr>
        <p:spPr>
          <a:xfrm>
            <a:off x="1317600" y="1279440"/>
            <a:ext cx="6781680" cy="4873680"/>
          </a:xfrm>
          <a:prstGeom prst="rect">
            <a:avLst/>
          </a:prstGeom>
          <a:gradFill rotWithShape="0">
            <a:gsLst>
              <a:gs pos="0">
                <a:srgbClr val="676767"/>
              </a:gs>
              <a:gs pos="50000">
                <a:srgbClr val="a3a3a3"/>
              </a:gs>
              <a:gs pos="100000">
                <a:srgbClr val="676767"/>
              </a:gs>
            </a:gsLst>
            <a:lin ang="8100000"/>
          </a:gradFill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3" name=""/>
          <p:cNvGrpSpPr/>
          <p:nvPr/>
        </p:nvGrpSpPr>
        <p:grpSpPr>
          <a:xfrm>
            <a:off x="1600200" y="2590920"/>
            <a:ext cx="6184800" cy="2422440"/>
            <a:chOff x="1600200" y="2590920"/>
            <a:chExt cx="6184800" cy="2422440"/>
          </a:xfrm>
        </p:grpSpPr>
        <p:sp>
          <p:nvSpPr>
            <p:cNvPr id="474" name=""/>
            <p:cNvSpPr/>
            <p:nvPr/>
          </p:nvSpPr>
          <p:spPr>
            <a:xfrm>
              <a:off x="5848200" y="2743560"/>
              <a:ext cx="1917720" cy="1199880"/>
            </a:xfrm>
            <a:custGeom>
              <a:avLst/>
              <a:gdLst/>
              <a:ahLst/>
              <a:rect l="l" t="t" r="r" b="b"/>
              <a:pathLst>
                <a:path w="1208" h="756">
                  <a:moveTo>
                    <a:pt x="0" y="0"/>
                  </a:moveTo>
                  <a:lnTo>
                    <a:pt x="880" y="0"/>
                  </a:lnTo>
                  <a:lnTo>
                    <a:pt x="1207" y="348"/>
                  </a:lnTo>
                  <a:lnTo>
                    <a:pt x="893" y="755"/>
                  </a:lnTo>
                  <a:lnTo>
                    <a:pt x="0" y="755"/>
                  </a:lnTo>
                  <a:lnTo>
                    <a:pt x="0" y="0"/>
                  </a:lnTo>
                </a:path>
              </a:pathLst>
            </a:custGeom>
            <a:solidFill>
              <a:srgbClr val="e00000"/>
            </a:solidFill>
            <a:ln cap="rnd" w="12600">
              <a:solidFill>
                <a:srgbClr val="e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432320" y="2743560"/>
              <a:ext cx="1895400" cy="1199880"/>
            </a:xfrm>
            <a:custGeom>
              <a:avLst/>
              <a:gdLst/>
              <a:ahLst/>
              <a:rect l="l" t="t" r="r" b="b"/>
              <a:pathLst>
                <a:path w="1194" h="756">
                  <a:moveTo>
                    <a:pt x="0" y="0"/>
                  </a:moveTo>
                  <a:lnTo>
                    <a:pt x="866" y="0"/>
                  </a:lnTo>
                  <a:lnTo>
                    <a:pt x="1193" y="348"/>
                  </a:lnTo>
                  <a:lnTo>
                    <a:pt x="892" y="755"/>
                  </a:lnTo>
                  <a:lnTo>
                    <a:pt x="0" y="755"/>
                  </a:lnTo>
                  <a:lnTo>
                    <a:pt x="0" y="0"/>
                  </a:lnTo>
                </a:path>
              </a:pathLst>
            </a:custGeom>
            <a:solidFill>
              <a:srgbClr val="e00000"/>
            </a:solidFill>
            <a:ln cap="rnd" w="12600">
              <a:solidFill>
                <a:srgbClr val="e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035160" y="2743560"/>
              <a:ext cx="1917720" cy="1199880"/>
            </a:xfrm>
            <a:custGeom>
              <a:avLst/>
              <a:gdLst/>
              <a:ahLst/>
              <a:rect l="l" t="t" r="r" b="b"/>
              <a:pathLst>
                <a:path w="1208" h="756">
                  <a:moveTo>
                    <a:pt x="0" y="0"/>
                  </a:moveTo>
                  <a:lnTo>
                    <a:pt x="880" y="0"/>
                  </a:lnTo>
                  <a:lnTo>
                    <a:pt x="1207" y="348"/>
                  </a:lnTo>
                  <a:lnTo>
                    <a:pt x="893" y="755"/>
                  </a:lnTo>
                  <a:lnTo>
                    <a:pt x="0" y="755"/>
                  </a:lnTo>
                  <a:lnTo>
                    <a:pt x="0" y="0"/>
                  </a:lnTo>
                </a:path>
              </a:pathLst>
            </a:custGeom>
            <a:solidFill>
              <a:srgbClr val="e00000"/>
            </a:solidFill>
            <a:ln cap="rnd" w="12600">
              <a:solidFill>
                <a:srgbClr val="e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1679400" y="2743560"/>
              <a:ext cx="1897200" cy="1199880"/>
            </a:xfrm>
            <a:custGeom>
              <a:avLst/>
              <a:gdLst/>
              <a:ahLst/>
              <a:rect l="l" t="t" r="r" b="b"/>
              <a:pathLst>
                <a:path w="1195" h="756">
                  <a:moveTo>
                    <a:pt x="0" y="0"/>
                  </a:moveTo>
                  <a:lnTo>
                    <a:pt x="867" y="0"/>
                  </a:lnTo>
                  <a:lnTo>
                    <a:pt x="1194" y="348"/>
                  </a:lnTo>
                  <a:lnTo>
                    <a:pt x="892" y="755"/>
                  </a:lnTo>
                  <a:lnTo>
                    <a:pt x="0" y="755"/>
                  </a:lnTo>
                  <a:lnTo>
                    <a:pt x="201" y="348"/>
                  </a:lnTo>
                  <a:lnTo>
                    <a:pt x="0" y="0"/>
                  </a:lnTo>
                </a:path>
              </a:pathLst>
            </a:custGeom>
            <a:solidFill>
              <a:srgbClr val="e00000"/>
            </a:solidFill>
            <a:ln cap="rnd" w="12600">
              <a:solidFill>
                <a:srgbClr val="e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4511520" y="2621160"/>
              <a:ext cx="1917720" cy="1290600"/>
            </a:xfrm>
            <a:custGeom>
              <a:avLst/>
              <a:gdLst/>
              <a:ahLst/>
              <a:rect l="l" t="t" r="r" b="b"/>
              <a:pathLst>
                <a:path w="1208" h="813">
                  <a:moveTo>
                    <a:pt x="0" y="0"/>
                  </a:moveTo>
                  <a:lnTo>
                    <a:pt x="880" y="0"/>
                  </a:lnTo>
                  <a:lnTo>
                    <a:pt x="1207" y="387"/>
                  </a:lnTo>
                  <a:lnTo>
                    <a:pt x="905" y="812"/>
                  </a:lnTo>
                  <a:lnTo>
                    <a:pt x="0" y="812"/>
                  </a:lnTo>
                  <a:lnTo>
                    <a:pt x="0" y="0"/>
                  </a:lnTo>
                </a:path>
              </a:pathLst>
            </a:custGeom>
            <a:solidFill>
              <a:srgbClr val="e00000"/>
            </a:solidFill>
            <a:ln cap="rnd" w="12600">
              <a:solidFill>
                <a:srgbClr val="e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3116160" y="2621160"/>
              <a:ext cx="1935000" cy="1290600"/>
            </a:xfrm>
            <a:custGeom>
              <a:avLst/>
              <a:gdLst/>
              <a:ahLst/>
              <a:rect l="l" t="t" r="r" b="b"/>
              <a:pathLst>
                <a:path w="1219" h="813">
                  <a:moveTo>
                    <a:pt x="0" y="0"/>
                  </a:moveTo>
                  <a:lnTo>
                    <a:pt x="879" y="0"/>
                  </a:lnTo>
                  <a:lnTo>
                    <a:pt x="1218" y="387"/>
                  </a:lnTo>
                  <a:lnTo>
                    <a:pt x="904" y="812"/>
                  </a:lnTo>
                  <a:lnTo>
                    <a:pt x="0" y="812"/>
                  </a:lnTo>
                  <a:lnTo>
                    <a:pt x="0" y="0"/>
                  </a:lnTo>
                </a:path>
              </a:pathLst>
            </a:custGeom>
            <a:solidFill>
              <a:srgbClr val="e00000"/>
            </a:solidFill>
            <a:ln cap="rnd" w="12600">
              <a:solidFill>
                <a:srgbClr val="e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1758960" y="2621160"/>
              <a:ext cx="1917720" cy="1290600"/>
            </a:xfrm>
            <a:custGeom>
              <a:avLst/>
              <a:gdLst/>
              <a:ahLst/>
              <a:rect l="l" t="t" r="r" b="b"/>
              <a:pathLst>
                <a:path w="1208" h="813">
                  <a:moveTo>
                    <a:pt x="0" y="0"/>
                  </a:moveTo>
                  <a:lnTo>
                    <a:pt x="868" y="0"/>
                  </a:lnTo>
                  <a:lnTo>
                    <a:pt x="1207" y="387"/>
                  </a:lnTo>
                  <a:lnTo>
                    <a:pt x="893" y="812"/>
                  </a:lnTo>
                  <a:lnTo>
                    <a:pt x="0" y="812"/>
                  </a:lnTo>
                  <a:lnTo>
                    <a:pt x="189" y="367"/>
                  </a:lnTo>
                  <a:lnTo>
                    <a:pt x="0" y="0"/>
                  </a:lnTo>
                </a:path>
              </a:pathLst>
            </a:custGeom>
            <a:solidFill>
              <a:srgbClr val="e00000"/>
            </a:solidFill>
            <a:ln cap="rnd" w="12600">
              <a:solidFill>
                <a:srgbClr val="e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5769000" y="2590920"/>
              <a:ext cx="1895400" cy="1198800"/>
            </a:xfrm>
            <a:custGeom>
              <a:avLst/>
              <a:gdLst/>
              <a:ahLst/>
              <a:rect l="l" t="t" r="r" b="b"/>
              <a:pathLst>
                <a:path w="1194" h="755">
                  <a:moveTo>
                    <a:pt x="0" y="0"/>
                  </a:moveTo>
                  <a:lnTo>
                    <a:pt x="866" y="0"/>
                  </a:lnTo>
                  <a:lnTo>
                    <a:pt x="1193" y="367"/>
                  </a:lnTo>
                  <a:lnTo>
                    <a:pt x="892" y="754"/>
                  </a:lnTo>
                  <a:lnTo>
                    <a:pt x="0" y="754"/>
                  </a:lnTo>
                  <a:lnTo>
                    <a:pt x="0" y="0"/>
                  </a:lnTo>
                </a:path>
              </a:pathLst>
            </a:custGeom>
            <a:solidFill>
              <a:srgbClr val="fafd00"/>
            </a:solidFill>
            <a:ln cap="rnd" w="12600">
              <a:solidFill>
                <a:srgbClr val="e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352760" y="2590920"/>
              <a:ext cx="1897200" cy="1198800"/>
            </a:xfrm>
            <a:custGeom>
              <a:avLst/>
              <a:gdLst/>
              <a:ahLst/>
              <a:rect l="l" t="t" r="r" b="b"/>
              <a:pathLst>
                <a:path w="1195" h="755">
                  <a:moveTo>
                    <a:pt x="0" y="0"/>
                  </a:moveTo>
                  <a:lnTo>
                    <a:pt x="867" y="0"/>
                  </a:lnTo>
                  <a:lnTo>
                    <a:pt x="1194" y="367"/>
                  </a:lnTo>
                  <a:lnTo>
                    <a:pt x="880" y="754"/>
                  </a:lnTo>
                  <a:lnTo>
                    <a:pt x="0" y="754"/>
                  </a:lnTo>
                  <a:lnTo>
                    <a:pt x="0" y="0"/>
                  </a:lnTo>
                </a:path>
              </a:pathLst>
            </a:custGeom>
            <a:solidFill>
              <a:srgbClr val="fafd00"/>
            </a:solidFill>
            <a:ln cap="rnd" w="12600">
              <a:solidFill>
                <a:srgbClr val="e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2955960" y="2590920"/>
              <a:ext cx="1917360" cy="1198800"/>
            </a:xfrm>
            <a:custGeom>
              <a:avLst/>
              <a:gdLst/>
              <a:ahLst/>
              <a:rect l="l" t="t" r="r" b="b"/>
              <a:pathLst>
                <a:path w="1208" h="755">
                  <a:moveTo>
                    <a:pt x="0" y="0"/>
                  </a:moveTo>
                  <a:lnTo>
                    <a:pt x="880" y="0"/>
                  </a:lnTo>
                  <a:lnTo>
                    <a:pt x="1207" y="367"/>
                  </a:lnTo>
                  <a:lnTo>
                    <a:pt x="893" y="754"/>
                  </a:lnTo>
                  <a:lnTo>
                    <a:pt x="0" y="754"/>
                  </a:lnTo>
                  <a:lnTo>
                    <a:pt x="0" y="0"/>
                  </a:lnTo>
                </a:path>
              </a:pathLst>
            </a:custGeom>
            <a:solidFill>
              <a:srgbClr val="fafd00"/>
            </a:solidFill>
            <a:ln cap="rnd" w="12600">
              <a:solidFill>
                <a:srgbClr val="e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1600200" y="2590920"/>
              <a:ext cx="1896840" cy="1198800"/>
            </a:xfrm>
            <a:custGeom>
              <a:avLst/>
              <a:gdLst/>
              <a:ahLst/>
              <a:rect l="l" t="t" r="r" b="b"/>
              <a:pathLst>
                <a:path w="1195" h="755">
                  <a:moveTo>
                    <a:pt x="0" y="0"/>
                  </a:moveTo>
                  <a:lnTo>
                    <a:pt x="867" y="0"/>
                  </a:lnTo>
                  <a:lnTo>
                    <a:pt x="1194" y="367"/>
                  </a:lnTo>
                  <a:lnTo>
                    <a:pt x="880" y="754"/>
                  </a:lnTo>
                  <a:lnTo>
                    <a:pt x="0" y="754"/>
                  </a:lnTo>
                  <a:lnTo>
                    <a:pt x="189" y="348"/>
                  </a:lnTo>
                  <a:lnTo>
                    <a:pt x="0" y="0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e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3480120" y="2737080"/>
              <a:ext cx="1189440" cy="80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19200"/>
                  <a:tab algn="l" pos="1238400"/>
                  <a:tab algn="l" pos="1857240"/>
                  <a:tab algn="l" pos="2476440"/>
                  <a:tab algn="l" pos="3095640"/>
                  <a:tab algn="l" pos="3714840"/>
                  <a:tab algn="l" pos="4334040"/>
                  <a:tab algn="l" pos="4952880"/>
                  <a:tab algn="l" pos="5572080"/>
                  <a:tab algn="l" pos="6191280"/>
                  <a:tab algn="l" pos="6810480"/>
                  <a:tab algn="l" pos="7429680"/>
                  <a:tab algn="l" pos="8048520"/>
                  <a:tab algn="l" pos="8667720"/>
                  <a:tab algn="l" pos="9286920"/>
                  <a:tab algn="l" pos="9906120"/>
                  <a:tab algn="l" pos="10524960"/>
                </a:tabLst>
              </a:pPr>
              <a:r>
                <a:rPr b="1" lang="es-ES_tradnl" sz="1600" spc="-1" strike="noStrike">
                  <a:solidFill>
                    <a:srgbClr val="000080"/>
                  </a:solidFill>
                  <a:latin typeface="Times New Roman"/>
                </a:rPr>
                <a:t>Rediseño d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619200"/>
                  <a:tab algn="l" pos="1238400"/>
                  <a:tab algn="l" pos="1857240"/>
                  <a:tab algn="l" pos="2476440"/>
                  <a:tab algn="l" pos="3095640"/>
                  <a:tab algn="l" pos="3714840"/>
                  <a:tab algn="l" pos="4334040"/>
                  <a:tab algn="l" pos="4952880"/>
                  <a:tab algn="l" pos="5572080"/>
                  <a:tab algn="l" pos="6191280"/>
                  <a:tab algn="l" pos="6810480"/>
                  <a:tab algn="l" pos="7429680"/>
                  <a:tab algn="l" pos="8048520"/>
                  <a:tab algn="l" pos="8667720"/>
                  <a:tab algn="l" pos="9286920"/>
                  <a:tab algn="l" pos="9906120"/>
                  <a:tab algn="l" pos="10524960"/>
                </a:tabLst>
              </a:pPr>
              <a:r>
                <a:rPr b="1" lang="es-ES_tradnl" sz="1600" spc="-1" strike="noStrike">
                  <a:solidFill>
                    <a:srgbClr val="000080"/>
                  </a:solidFill>
                  <a:latin typeface="Times New Roman"/>
                </a:rPr>
                <a:t>Procesos 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619200"/>
                  <a:tab algn="l" pos="1238400"/>
                  <a:tab algn="l" pos="1857240"/>
                  <a:tab algn="l" pos="2476440"/>
                  <a:tab algn="l" pos="3095640"/>
                  <a:tab algn="l" pos="3714840"/>
                  <a:tab algn="l" pos="4334040"/>
                  <a:tab algn="l" pos="4952880"/>
                  <a:tab algn="l" pos="5572080"/>
                  <a:tab algn="l" pos="6191280"/>
                  <a:tab algn="l" pos="6810480"/>
                  <a:tab algn="l" pos="7429680"/>
                  <a:tab algn="l" pos="8048520"/>
                  <a:tab algn="l" pos="8667720"/>
                  <a:tab algn="l" pos="9286920"/>
                  <a:tab algn="l" pos="9906120"/>
                  <a:tab algn="l" pos="10524960"/>
                </a:tabLst>
              </a:pPr>
              <a:r>
                <a:rPr b="1" lang="es-ES_tradnl" sz="1600" spc="-1" strike="noStrike">
                  <a:solidFill>
                    <a:srgbClr val="000080"/>
                  </a:solidFill>
                  <a:latin typeface="Times New Roman"/>
                </a:rPr>
                <a:t>Organiz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6250680" y="2919600"/>
              <a:ext cx="1309680" cy="55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19200"/>
                  <a:tab algn="l" pos="1238400"/>
                  <a:tab algn="l" pos="1857240"/>
                  <a:tab algn="l" pos="2476440"/>
                  <a:tab algn="l" pos="3095640"/>
                  <a:tab algn="l" pos="3714840"/>
                  <a:tab algn="l" pos="4334040"/>
                  <a:tab algn="l" pos="4952880"/>
                  <a:tab algn="l" pos="5572080"/>
                  <a:tab algn="l" pos="6191280"/>
                  <a:tab algn="l" pos="6810480"/>
                  <a:tab algn="l" pos="7429680"/>
                  <a:tab algn="l" pos="8048520"/>
                  <a:tab algn="l" pos="8667720"/>
                  <a:tab algn="l" pos="9286920"/>
                  <a:tab algn="l" pos="9906120"/>
                  <a:tab algn="l" pos="10524960"/>
                </a:tabLst>
              </a:pPr>
              <a:r>
                <a:rPr b="1" lang="es-ES_tradnl" sz="1600" spc="-1" strike="noStrike">
                  <a:solidFill>
                    <a:srgbClr val="000080"/>
                  </a:solidFill>
                  <a:latin typeface="Times New Roman"/>
                </a:rPr>
                <a:t>Pos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619200"/>
                  <a:tab algn="l" pos="1238400"/>
                  <a:tab algn="l" pos="1857240"/>
                  <a:tab algn="l" pos="2476440"/>
                  <a:tab algn="l" pos="3095640"/>
                  <a:tab algn="l" pos="3714840"/>
                  <a:tab algn="l" pos="4334040"/>
                  <a:tab algn="l" pos="4952880"/>
                  <a:tab algn="l" pos="5572080"/>
                  <a:tab algn="l" pos="6191280"/>
                  <a:tab algn="l" pos="6810480"/>
                  <a:tab algn="l" pos="7429680"/>
                  <a:tab algn="l" pos="8048520"/>
                  <a:tab algn="l" pos="8667720"/>
                  <a:tab algn="l" pos="9286920"/>
                  <a:tab algn="l" pos="9906120"/>
                  <a:tab algn="l" pos="10524960"/>
                </a:tabLst>
              </a:pPr>
              <a:r>
                <a:rPr b="1" lang="es-ES_tradnl" sz="1600" spc="-1" strike="noStrike">
                  <a:solidFill>
                    <a:srgbClr val="000080"/>
                  </a:solidFill>
                  <a:latin typeface="Times New Roman"/>
                </a:rPr>
                <a:t>Implantació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4847040" y="3005280"/>
              <a:ext cx="1309680" cy="31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19200"/>
                  <a:tab algn="l" pos="1238400"/>
                  <a:tab algn="l" pos="1857240"/>
                  <a:tab algn="l" pos="2476440"/>
                  <a:tab algn="l" pos="3095640"/>
                  <a:tab algn="l" pos="3714840"/>
                  <a:tab algn="l" pos="4334040"/>
                  <a:tab algn="l" pos="4952880"/>
                  <a:tab algn="l" pos="5572080"/>
                  <a:tab algn="l" pos="6191280"/>
                  <a:tab algn="l" pos="6810480"/>
                  <a:tab algn="l" pos="7429680"/>
                  <a:tab algn="l" pos="8048520"/>
                  <a:tab algn="l" pos="8667720"/>
                  <a:tab algn="l" pos="9286920"/>
                  <a:tab algn="l" pos="9906120"/>
                  <a:tab algn="l" pos="10524960"/>
                </a:tabLst>
              </a:pPr>
              <a:r>
                <a:rPr b="1" lang="es-ES_tradnl" sz="1600" spc="-1" strike="noStrike">
                  <a:solidFill>
                    <a:srgbClr val="000080"/>
                  </a:solidFill>
                  <a:latin typeface="Times New Roman"/>
                </a:rPr>
                <a:t>Implantació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1863360" y="2859120"/>
              <a:ext cx="1297440" cy="80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19200"/>
                  <a:tab algn="l" pos="1238400"/>
                  <a:tab algn="l" pos="1857240"/>
                  <a:tab algn="l" pos="2476440"/>
                  <a:tab algn="l" pos="3095640"/>
                  <a:tab algn="l" pos="3714840"/>
                  <a:tab algn="l" pos="4334040"/>
                  <a:tab algn="l" pos="4952880"/>
                  <a:tab algn="l" pos="5572080"/>
                  <a:tab algn="l" pos="6191280"/>
                  <a:tab algn="l" pos="6810480"/>
                  <a:tab algn="l" pos="7429680"/>
                  <a:tab algn="l" pos="8048520"/>
                  <a:tab algn="l" pos="8667720"/>
                  <a:tab algn="l" pos="9286920"/>
                  <a:tab algn="l" pos="9906120"/>
                  <a:tab algn="l" pos="10524960"/>
                </a:tabLst>
              </a:pPr>
              <a:r>
                <a:rPr b="1" lang="es-ES_tradnl" sz="1600" spc="-1" strike="noStrike">
                  <a:solidFill>
                    <a:srgbClr val="000080"/>
                  </a:solidFill>
                  <a:latin typeface="Times New Roman"/>
                </a:rPr>
                <a:t>Análisis de l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619200"/>
                  <a:tab algn="l" pos="1238400"/>
                  <a:tab algn="l" pos="1857240"/>
                  <a:tab algn="l" pos="2476440"/>
                  <a:tab algn="l" pos="3095640"/>
                  <a:tab algn="l" pos="3714840"/>
                  <a:tab algn="l" pos="4334040"/>
                  <a:tab algn="l" pos="4952880"/>
                  <a:tab algn="l" pos="5572080"/>
                  <a:tab algn="l" pos="6191280"/>
                  <a:tab algn="l" pos="6810480"/>
                  <a:tab algn="l" pos="7429680"/>
                  <a:tab algn="l" pos="8048520"/>
                  <a:tab algn="l" pos="8667720"/>
                  <a:tab algn="l" pos="9286920"/>
                  <a:tab algn="l" pos="9906120"/>
                  <a:tab algn="l" pos="10524960"/>
                </a:tabLst>
              </a:pPr>
              <a:r>
                <a:rPr b="1" lang="es-ES_tradnl" sz="1600" spc="-1" strike="noStrike">
                  <a:solidFill>
                    <a:srgbClr val="000080"/>
                  </a:solidFill>
                  <a:latin typeface="Times New Roman"/>
                </a:rPr>
                <a:t>Situació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619200"/>
                  <a:tab algn="l" pos="1238400"/>
                  <a:tab algn="l" pos="1857240"/>
                  <a:tab algn="l" pos="2476440"/>
                  <a:tab algn="l" pos="3095640"/>
                  <a:tab algn="l" pos="3714840"/>
                  <a:tab algn="l" pos="4334040"/>
                  <a:tab algn="l" pos="4952880"/>
                  <a:tab algn="l" pos="5572080"/>
                  <a:tab algn="l" pos="6191280"/>
                  <a:tab algn="l" pos="6810480"/>
                  <a:tab algn="l" pos="7429680"/>
                  <a:tab algn="l" pos="8048520"/>
                  <a:tab algn="l" pos="8667720"/>
                  <a:tab algn="l" pos="9286920"/>
                  <a:tab algn="l" pos="9906120"/>
                  <a:tab algn="l" pos="10524960"/>
                </a:tabLst>
              </a:pPr>
              <a:r>
                <a:rPr b="1" lang="es-ES_tradnl" sz="1600" spc="-1" strike="noStrike">
                  <a:solidFill>
                    <a:srgbClr val="000080"/>
                  </a:solidFill>
                  <a:latin typeface="Times New Roman"/>
                </a:rPr>
                <a:t>Actu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1679400" y="4368960"/>
              <a:ext cx="6105600" cy="644400"/>
            </a:xfrm>
            <a:custGeom>
              <a:avLst/>
              <a:gdLst/>
              <a:ahLst/>
              <a:rect l="l" t="t" r="r" b="b"/>
              <a:pathLst>
                <a:path w="3846" h="406">
                  <a:moveTo>
                    <a:pt x="0" y="0"/>
                  </a:moveTo>
                  <a:lnTo>
                    <a:pt x="3518" y="0"/>
                  </a:lnTo>
                  <a:lnTo>
                    <a:pt x="3845" y="193"/>
                  </a:lnTo>
                  <a:lnTo>
                    <a:pt x="3531" y="405"/>
                  </a:lnTo>
                  <a:lnTo>
                    <a:pt x="0" y="405"/>
                  </a:lnTo>
                  <a:lnTo>
                    <a:pt x="0" y="0"/>
                  </a:lnTo>
                </a:path>
              </a:pathLst>
            </a:custGeom>
            <a:solidFill>
              <a:srgbClr val="e00000"/>
            </a:solidFill>
            <a:ln cap="rnd" w="12600">
              <a:solidFill>
                <a:srgbClr val="e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1600200" y="4214880"/>
              <a:ext cx="6105240" cy="675000"/>
            </a:xfrm>
            <a:custGeom>
              <a:avLst/>
              <a:gdLst/>
              <a:ahLst/>
              <a:rect l="l" t="t" r="r" b="b"/>
              <a:pathLst>
                <a:path w="3846" h="425">
                  <a:moveTo>
                    <a:pt x="0" y="0"/>
                  </a:moveTo>
                  <a:lnTo>
                    <a:pt x="3506" y="0"/>
                  </a:lnTo>
                  <a:lnTo>
                    <a:pt x="3845" y="193"/>
                  </a:lnTo>
                  <a:lnTo>
                    <a:pt x="3531" y="405"/>
                  </a:lnTo>
                  <a:lnTo>
                    <a:pt x="0" y="424"/>
                  </a:lnTo>
                  <a:lnTo>
                    <a:pt x="0" y="0"/>
                  </a:lnTo>
                </a:path>
              </a:pathLst>
            </a:custGeom>
            <a:solidFill>
              <a:srgbClr val="ffff00"/>
            </a:solidFill>
            <a:ln cap="rnd" w="12600">
              <a:solidFill>
                <a:srgbClr val="e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3418920" y="4357800"/>
              <a:ext cx="2548800" cy="31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19200"/>
                  <a:tab algn="l" pos="1238400"/>
                  <a:tab algn="l" pos="1857240"/>
                  <a:tab algn="l" pos="2476440"/>
                  <a:tab algn="l" pos="3095640"/>
                  <a:tab algn="l" pos="3714840"/>
                  <a:tab algn="l" pos="4334040"/>
                  <a:tab algn="l" pos="4952880"/>
                  <a:tab algn="l" pos="5572080"/>
                  <a:tab algn="l" pos="6191280"/>
                  <a:tab algn="l" pos="6810480"/>
                  <a:tab algn="l" pos="7429680"/>
                  <a:tab algn="l" pos="8048520"/>
                  <a:tab algn="l" pos="8667720"/>
                  <a:tab algn="l" pos="9286920"/>
                  <a:tab algn="l" pos="9906120"/>
                  <a:tab algn="l" pos="10524960"/>
                </a:tabLst>
              </a:pPr>
              <a:r>
                <a:rPr b="1" lang="es-ES_tradnl" sz="1600" spc="-1" strike="noStrike">
                  <a:solidFill>
                    <a:srgbClr val="000080"/>
                  </a:solidFill>
                  <a:latin typeface="Times New Roman"/>
                </a:rPr>
                <a:t>Administración del Cambi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2" name=""/>
          <p:cNvSpPr/>
          <p:nvPr/>
        </p:nvSpPr>
        <p:spPr>
          <a:xfrm>
            <a:off x="0" y="189000"/>
            <a:ext cx="9131400" cy="4572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102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0" y="152280"/>
            <a:ext cx="90676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UENTES DE 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ESISTENCIA AL 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AMB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"/>
          <p:cNvSpPr/>
          <p:nvPr/>
        </p:nvSpPr>
        <p:spPr>
          <a:xfrm>
            <a:off x="352440" y="455760"/>
            <a:ext cx="84391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429840" y="2019240"/>
            <a:ext cx="4089240" cy="4229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La tecnología habilita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Amplio acceso a la informació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Toma de decisiones más informada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673520" y="2019240"/>
            <a:ext cx="4089600" cy="4229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Sólo se logra si la organización tiene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Procesos integrado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Medidas de desempeñ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Equipos multifuncional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Personal capacitado para tomar decision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0" y="152280"/>
            <a:ext cx="9131400" cy="4572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102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 type="title"/>
          </p:nvPr>
        </p:nvSpPr>
        <p:spPr>
          <a:xfrm>
            <a:off x="144000" y="221760"/>
            <a:ext cx="8953560" cy="85428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es-ES_tradnl" sz="2100" spc="-1" strike="noStrike">
                <a:solidFill>
                  <a:srgbClr val="000000"/>
                </a:solidFill>
                <a:latin typeface="Verdana"/>
              </a:rPr>
              <a:t>OS </a:t>
            </a:r>
            <a:r>
              <a:rPr b="0" lang="es-ES_tradnl" sz="25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0" lang="es-ES_tradnl" sz="2100" spc="-1" strike="noStrike">
                <a:solidFill>
                  <a:srgbClr val="000000"/>
                </a:solidFill>
                <a:latin typeface="Verdana"/>
              </a:rPr>
              <a:t>ISTEMAS </a:t>
            </a:r>
            <a:r>
              <a:rPr b="0" lang="es-ES_tradnl" sz="25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es-ES_tradnl" sz="2100" spc="-1" strike="noStrike">
                <a:solidFill>
                  <a:srgbClr val="000000"/>
                </a:solidFill>
                <a:latin typeface="Verdana"/>
              </a:rPr>
              <a:t>LTERAN EL </a:t>
            </a:r>
            <a:r>
              <a:rPr b="0" lang="es-ES_tradnl" sz="25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lang="es-ES_tradnl" sz="2100" spc="-1" strike="noStrike">
                <a:solidFill>
                  <a:srgbClr val="000000"/>
                </a:solidFill>
                <a:latin typeface="Verdana"/>
              </a:rPr>
              <a:t>ROCESO DE </a:t>
            </a:r>
            <a:r>
              <a:rPr b="0" lang="es-ES_tradnl" sz="25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es-ES_tradnl" sz="2100" spc="-1" strike="noStrike">
                <a:solidFill>
                  <a:srgbClr val="000000"/>
                </a:solidFill>
                <a:latin typeface="Verdana"/>
              </a:rPr>
              <a:t>OMA DE </a:t>
            </a:r>
            <a:r>
              <a:rPr b="0" lang="es-ES_tradnl" sz="2500" spc="-1" strike="noStrike">
                <a:solidFill>
                  <a:srgbClr val="000000"/>
                </a:solidFill>
                <a:latin typeface="Verdana"/>
              </a:rPr>
              <a:t>D</a:t>
            </a:r>
            <a:r>
              <a:rPr b="0" lang="es-ES_tradnl" sz="2100" spc="-1" strike="noStrike">
                <a:solidFill>
                  <a:srgbClr val="000000"/>
                </a:solidFill>
                <a:latin typeface="Verdana"/>
              </a:rPr>
              <a:t>ECISION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 thruBlk="true"/>
  </p:transition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"/>
          <p:cNvSpPr/>
          <p:nvPr/>
        </p:nvSpPr>
        <p:spPr>
          <a:xfrm>
            <a:off x="352440" y="455760"/>
            <a:ext cx="84391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-360" y="1484280"/>
            <a:ext cx="4173480" cy="4229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La tecnología permite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Acelerar los proceso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Eliminar actividades perdida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Integración entre los distintos procesos de la organizació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300560" y="1484280"/>
            <a:ext cx="4843440" cy="4229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455400" indent="-4554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Sólo se logra si la organización ha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80560" indent="-423000"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Rediseñado los procesos para aprovechar el potencial de la tecnología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80560" indent="-423000"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Administrado el proceso de cambio a nivel de los afectado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80560" indent="-423000"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Realizado el ajuste organizacional y recursos para aprovechar la tecnología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805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0" y="152280"/>
            <a:ext cx="9131400" cy="83844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102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title"/>
          </p:nvPr>
        </p:nvSpPr>
        <p:spPr>
          <a:xfrm>
            <a:off x="144000" y="221760"/>
            <a:ext cx="8953560" cy="85428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es-ES_tradnl" sz="2100" spc="-1" strike="noStrike">
                <a:solidFill>
                  <a:srgbClr val="000000"/>
                </a:solidFill>
                <a:latin typeface="Verdana"/>
              </a:rPr>
              <a:t>OS </a:t>
            </a:r>
            <a:r>
              <a:rPr b="0" lang="es-ES_tradnl" sz="25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0" lang="es-ES_tradnl" sz="2100" spc="-1" strike="noStrike">
                <a:solidFill>
                  <a:srgbClr val="000000"/>
                </a:solidFill>
                <a:latin typeface="Verdana"/>
              </a:rPr>
              <a:t>ISTEMAS </a:t>
            </a:r>
            <a:r>
              <a:rPr b="0" lang="es-ES_tradnl" sz="25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es-ES_tradnl" sz="2100" spc="-1" strike="noStrike">
                <a:solidFill>
                  <a:srgbClr val="000000"/>
                </a:solidFill>
                <a:latin typeface="Verdana"/>
              </a:rPr>
              <a:t>LTERAN LA </a:t>
            </a:r>
            <a:r>
              <a:rPr b="0" lang="es-ES_tradnl" sz="2500" spc="-1" strike="noStrike">
                <a:solidFill>
                  <a:srgbClr val="000000"/>
                </a:solidFill>
                <a:latin typeface="Verdana"/>
              </a:rPr>
              <a:t>F</a:t>
            </a:r>
            <a:r>
              <a:rPr b="0" lang="es-ES_tradnl" sz="2100" spc="-1" strike="noStrike">
                <a:solidFill>
                  <a:srgbClr val="000000"/>
                </a:solidFill>
                <a:latin typeface="Verdana"/>
              </a:rPr>
              <a:t>ORMA</a:t>
            </a:r>
            <a:br>
              <a:rPr sz="2100"/>
            </a:br>
            <a:r>
              <a:rPr b="0" lang="es-ES_tradnl" sz="2100" spc="-1" strike="noStrike">
                <a:solidFill>
                  <a:srgbClr val="000000"/>
                </a:solidFill>
                <a:latin typeface="Verdana"/>
              </a:rPr>
              <a:t>COMO SE </a:t>
            </a:r>
            <a:r>
              <a:rPr b="0" lang="es-ES_tradnl" sz="2500" spc="-1" strike="noStrike">
                <a:solidFill>
                  <a:srgbClr val="000000"/>
                </a:solidFill>
                <a:latin typeface="Verdana"/>
              </a:rPr>
              <a:t>R</a:t>
            </a:r>
            <a:r>
              <a:rPr b="0" lang="es-ES_tradnl" sz="2100" spc="-1" strike="noStrike">
                <a:solidFill>
                  <a:srgbClr val="000000"/>
                </a:solidFill>
                <a:latin typeface="Verdana"/>
              </a:rPr>
              <a:t>EALIZA EL </a:t>
            </a:r>
            <a:r>
              <a:rPr b="0" lang="es-ES_tradnl" sz="25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es-ES_tradnl" sz="2100" spc="-1" strike="noStrike">
                <a:solidFill>
                  <a:srgbClr val="000000"/>
                </a:solidFill>
                <a:latin typeface="Verdana"/>
              </a:rPr>
              <a:t>RABAJO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 thruBlk="true"/>
  </p:transition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/>
          <p:nvPr/>
        </p:nvSpPr>
        <p:spPr>
          <a:xfrm>
            <a:off x="352440" y="455760"/>
            <a:ext cx="84391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/>
          </p:nvPr>
        </p:nvSpPr>
        <p:spPr>
          <a:xfrm>
            <a:off x="429840" y="2019240"/>
            <a:ext cx="3948120" cy="4229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La tecnología permite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Llevar la responsabilidad  hacia todos los niveles de la organizació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Una mejor toma de decisiones del personal dueño de los proceso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56160" y="2019240"/>
            <a:ext cx="4206960" cy="4229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450720" indent="-4507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Sólo se logra si la organización tiene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71560" indent="-418680"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Personal entrenado para analizar y procesar la informació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71560" indent="-418680"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Definiciones claras de los nuevos roles y responsabilidad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71560" indent="-418680"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Sistemas de recompensa (incentivos) coherente con los nuevos rol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8715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>
            <a:off x="0" y="152280"/>
            <a:ext cx="9131400" cy="83844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102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 type="title"/>
          </p:nvPr>
        </p:nvSpPr>
        <p:spPr>
          <a:xfrm>
            <a:off x="144000" y="221760"/>
            <a:ext cx="8953560" cy="85428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es-ES_tradnl" sz="2100" spc="-1" strike="noStrike">
                <a:solidFill>
                  <a:srgbClr val="000000"/>
                </a:solidFill>
                <a:latin typeface="Verdana"/>
              </a:rPr>
              <a:t>OS </a:t>
            </a:r>
            <a:r>
              <a:rPr b="0" lang="es-ES_tradnl" sz="25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0" lang="es-ES_tradnl" sz="2100" spc="-1" strike="noStrike">
                <a:solidFill>
                  <a:srgbClr val="000000"/>
                </a:solidFill>
                <a:latin typeface="Verdana"/>
              </a:rPr>
              <a:t>ISTEMAS </a:t>
            </a:r>
            <a:r>
              <a:rPr b="0" lang="es-ES_tradnl" sz="25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es-ES_tradnl" sz="2100" spc="-1" strike="noStrike">
                <a:solidFill>
                  <a:srgbClr val="000000"/>
                </a:solidFill>
                <a:latin typeface="Verdana"/>
              </a:rPr>
              <a:t>LTERAN LOS </a:t>
            </a:r>
            <a:r>
              <a:rPr b="0" lang="es-ES_tradnl" sz="25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s-ES_tradnl" sz="2100" spc="-1" strike="noStrike">
                <a:solidFill>
                  <a:srgbClr val="000000"/>
                </a:solidFill>
                <a:latin typeface="Verdana"/>
              </a:rPr>
              <a:t>IVELES DE </a:t>
            </a:r>
            <a:r>
              <a:rPr b="0" lang="es-ES_tradnl" sz="25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es-ES_tradnl" sz="2100" spc="-1" strike="noStrike">
                <a:solidFill>
                  <a:srgbClr val="000000"/>
                </a:solidFill>
                <a:latin typeface="Verdana"/>
              </a:rPr>
              <a:t>UTORIDAD</a:t>
            </a:r>
            <a:br>
              <a:rPr sz="2100"/>
            </a:br>
            <a:r>
              <a:rPr b="0" lang="es-ES_tradnl" sz="2100" spc="-1" strike="noStrike">
                <a:solidFill>
                  <a:srgbClr val="000000"/>
                </a:solidFill>
                <a:latin typeface="Verdana"/>
              </a:rPr>
              <a:t>EN LA </a:t>
            </a:r>
            <a:r>
              <a:rPr b="0" lang="es-ES_tradnl" sz="25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es-ES_tradnl" sz="2100" spc="-1" strike="noStrike">
                <a:solidFill>
                  <a:srgbClr val="000000"/>
                </a:solidFill>
                <a:latin typeface="Verdana"/>
              </a:rPr>
              <a:t>OMA DE </a:t>
            </a:r>
            <a:r>
              <a:rPr b="0" lang="es-ES_tradnl" sz="2500" spc="-1" strike="noStrike">
                <a:solidFill>
                  <a:srgbClr val="000000"/>
                </a:solidFill>
                <a:latin typeface="Verdana"/>
              </a:rPr>
              <a:t>D</a:t>
            </a:r>
            <a:r>
              <a:rPr b="0" lang="es-ES_tradnl" sz="2100" spc="-1" strike="noStrike">
                <a:solidFill>
                  <a:srgbClr val="000000"/>
                </a:solidFill>
                <a:latin typeface="Verdana"/>
              </a:rPr>
              <a:t>ECISION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 thruBlk="true"/>
  </p:transition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380880" y="34286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Verdana"/>
              </a:rPr>
              <a:t>Detalles, caso ejemplo y software en</a:t>
            </a:r>
            <a:br>
              <a:rPr sz="3200"/>
            </a:br>
            <a:r>
              <a:rPr b="0" lang="es-ES_tradnl" sz="3200" spc="-1" strike="noStrike" u="sng">
                <a:solidFill>
                  <a:srgbClr val="336699"/>
                </a:solidFill>
                <a:uFillTx/>
                <a:latin typeface="Verdana"/>
                <a:hlinkClick r:id="rId2"/>
              </a:rPr>
              <a:t>http://</a:t>
            </a:r>
            <a:r>
              <a:rPr b="0" lang="es-ES_tradnl" sz="3200" spc="-1" strike="noStrike" u="sng">
                <a:solidFill>
                  <a:srgbClr val="336699"/>
                </a:solidFill>
                <a:uFillTx/>
                <a:latin typeface="Verdana"/>
                <a:hlinkClick r:id="rId3"/>
              </a:rPr>
              <a:t>ccs.mit.edu</a:t>
            </a:r>
            <a:r>
              <a:rPr b="0" lang="es-ES_tradnl" sz="3200" spc="-1" strike="noStrike" u="sng">
                <a:solidFill>
                  <a:srgbClr val="336699"/>
                </a:solidFill>
                <a:uFillTx/>
                <a:latin typeface="Verdana"/>
                <a:hlinkClick r:id="rId4"/>
              </a:rPr>
              <a:t>/</a:t>
            </a:r>
            <a:r>
              <a:rPr b="0" lang="es-ES_tradnl" sz="3200" spc="-1" strike="noStrike" u="sng">
                <a:solidFill>
                  <a:srgbClr val="336699"/>
                </a:solidFill>
                <a:uFillTx/>
                <a:latin typeface="Verdana"/>
                <a:hlinkClick r:id="rId5"/>
              </a:rPr>
              <a:t>moc</a:t>
            </a:r>
            <a:r>
              <a:rPr b="0" lang="es-ES_tradnl" sz="3200" spc="-1" strike="noStrike" u="sng">
                <a:solidFill>
                  <a:srgbClr val="336699"/>
                </a:solidFill>
                <a:uFillTx/>
                <a:latin typeface="Verdana"/>
                <a:hlinkClick r:id="rId6"/>
              </a:rPr>
              <a:t>/</a:t>
            </a:r>
            <a:r>
              <a:rPr b="0" lang="es-ES_tradnl" sz="4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2063520" y="1523880"/>
            <a:ext cx="5087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Matriz del Cambi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Tahoma"/>
              </a:rPr>
              <a:t>Rediseño ..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5000"/>
              </a:lnSpc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Verdana"/>
              </a:rPr>
              <a:t>Cambios de </a:t>
            </a:r>
            <a:r>
              <a:rPr b="0" lang="es-ES_tradnl" sz="2100" spc="-1" strike="noStrike">
                <a:solidFill>
                  <a:srgbClr val="000099"/>
                </a:solidFill>
                <a:latin typeface="Verdana"/>
              </a:rPr>
              <a:t>diferente profundidad</a:t>
            </a:r>
            <a:r>
              <a:rPr b="0" lang="es-ES_tradnl" sz="2100" spc="-1" strike="noStrike">
                <a:solidFill>
                  <a:srgbClr val="000000"/>
                </a:solidFill>
                <a:latin typeface="Verdana"/>
              </a:rPr>
              <a:t> en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5000"/>
              </a:lnSpc>
              <a:spcBef>
                <a:spcPts val="550"/>
              </a:spcBef>
              <a:buClr>
                <a:srgbClr val="cc0000"/>
              </a:buClr>
              <a:buSzPct val="5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 Unicode MS"/>
              </a:rPr>
              <a:t>Modelo de Negocios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Unicode MS"/>
              </a:rPr>
              <a:t>Producto / Condiciones de satisfacció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Unicode MS"/>
              </a:rPr>
              <a:t>Clien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5000"/>
              </a:lnSpc>
              <a:spcBef>
                <a:spcPts val="550"/>
              </a:spcBef>
              <a:buClr>
                <a:srgbClr val="cc0000"/>
              </a:buClr>
              <a:buSzPct val="5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 Unicode MS"/>
              </a:rPr>
              <a:t>Actividades y Flujos del proces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5000"/>
              </a:lnSpc>
              <a:spcBef>
                <a:spcPts val="550"/>
              </a:spcBef>
              <a:buClr>
                <a:srgbClr val="cc0000"/>
              </a:buClr>
              <a:buSzPct val="5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 Unicode MS"/>
              </a:rPr>
              <a:t>Funciones relacionada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75000"/>
              </a:lnSpc>
              <a:spcBef>
                <a:spcPts val="550"/>
              </a:spcBef>
              <a:buClr>
                <a:srgbClr val="cc0000"/>
              </a:buClr>
              <a:buSzPct val="5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 Unicode MS"/>
              </a:rPr>
              <a:t>Gent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75000"/>
              </a:lnSpc>
              <a:spcBef>
                <a:spcPts val="550"/>
              </a:spcBef>
              <a:buClr>
                <a:srgbClr val="cc0000"/>
              </a:buClr>
              <a:buSzPct val="5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ff"/>
                </a:solidFill>
                <a:latin typeface="Arial Unicode MS"/>
              </a:rPr>
              <a:t>Tecnología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75000"/>
              </a:lnSpc>
              <a:spcBef>
                <a:spcPts val="550"/>
              </a:spcBef>
              <a:buClr>
                <a:srgbClr val="cc0000"/>
              </a:buClr>
              <a:buSzPct val="5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 Unicode MS"/>
              </a:rPr>
              <a:t>Estructura organizaciona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75000"/>
              </a:lnSpc>
              <a:spcBef>
                <a:spcPts val="550"/>
              </a:spcBef>
              <a:buClr>
                <a:srgbClr val="cc0000"/>
              </a:buClr>
              <a:buSzPct val="5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 Unicode MS"/>
              </a:rPr>
              <a:t>Programació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75000"/>
              </a:lnSpc>
              <a:spcBef>
                <a:spcPts val="550"/>
              </a:spcBef>
              <a:buClr>
                <a:srgbClr val="cc0000"/>
              </a:buClr>
              <a:buSzPct val="5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 Unicode MS"/>
              </a:rPr>
              <a:t>Control de Gestió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75000"/>
              </a:lnSpc>
              <a:spcBef>
                <a:spcPts val="550"/>
              </a:spcBef>
              <a:buClr>
                <a:srgbClr val="cc0000"/>
              </a:buClr>
              <a:buSzPct val="5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 Unicode MS"/>
              </a:rPr>
              <a:t>Auditoría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75000"/>
              </a:lnSpc>
              <a:spcBef>
                <a:spcPts val="550"/>
              </a:spcBef>
              <a:buClr>
                <a:srgbClr val="cc0000"/>
              </a:buClr>
              <a:buSzPct val="55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 Unicode MS"/>
              </a:rPr>
              <a:t>Infraestructura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5000"/>
              </a:lnSpc>
              <a:spcBef>
                <a:spcPts val="524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Verdana"/>
              </a:rPr>
              <a:t>Todo ello se ve reflejado en las nuevas </a:t>
            </a:r>
            <a:r>
              <a:rPr b="0" lang="es-ES_tradnl" sz="2100" spc="-1" strike="noStrike">
                <a:solidFill>
                  <a:srgbClr val="000099"/>
                </a:solidFill>
                <a:latin typeface="Verdana"/>
              </a:rPr>
              <a:t>Prácticas de Trabajo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Matriz de Cambio</a:t>
            </a:r>
            <a:r>
              <a:rPr b="0" lang="es-ES_tradnl" sz="3400" spc="-1" strike="noStrike">
                <a:solidFill>
                  <a:srgbClr val="000000"/>
                </a:solidFill>
                <a:latin typeface="Verdana"/>
              </a:rPr>
              <a:t> (MoC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Herramienta para apoyar la administración del proceso de cambio</a:t>
            </a: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 (derivado de un redise</a:t>
            </a:r>
            <a:r>
              <a:rPr b="0" lang="es-MX" sz="2200" spc="-1" strike="noStrike">
                <a:solidFill>
                  <a:srgbClr val="000000"/>
                </a:solidFill>
                <a:latin typeface="Verdana"/>
              </a:rPr>
              <a:t>ño de procesos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l éxito depende de la coordinación simultánea entre varios facto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Capturar relaciones entre prácticas de trabajo, permite alcanzar un cambio coordinado (en vez de aislado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Antecedentes Econom</a:t>
            </a:r>
            <a:r>
              <a:rPr b="0" lang="es-MX" sz="2800" spc="-1" strike="noStrike">
                <a:solidFill>
                  <a:srgbClr val="000000"/>
                </a:solidFill>
                <a:latin typeface="Verdana"/>
              </a:rPr>
              <a:t>étric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Los cambios organizacionales complementarios son (al menos) igual de importantes que l</a:t>
            </a:r>
            <a:r>
              <a:rPr b="0" lang="es-MX" sz="2200" spc="-1" strike="noStrike">
                <a:solidFill>
                  <a:srgbClr val="000000"/>
                </a:solidFill>
                <a:latin typeface="Verdana"/>
              </a:rPr>
              <a:t>as </a:t>
            </a: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inversiones en TI, para el incremento de la productividad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3" name="" descr=""/>
          <p:cNvPicPr/>
          <p:nvPr/>
        </p:nvPicPr>
        <p:blipFill>
          <a:blip r:embed="rId2"/>
          <a:stretch/>
        </p:blipFill>
        <p:spPr>
          <a:xfrm>
            <a:off x="1828800" y="1697040"/>
            <a:ext cx="6662880" cy="4475160"/>
          </a:xfrm>
          <a:prstGeom prst="rect">
            <a:avLst/>
          </a:prstGeom>
          <a:ln w="0">
            <a:noFill/>
          </a:ln>
        </p:spPr>
      </p:pic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MoC ..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Etapas de la MoC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558360" y="1752120"/>
            <a:ext cx="8433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Identificar procesos crítico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quipo multidisciplinari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Listar: Objetivos y formas de crear val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Obtener detalladamente las: </a:t>
            </a:r>
            <a:r>
              <a:rPr b="0" lang="es-ES_tradnl" sz="2400" spc="-1" strike="noStrike">
                <a:solidFill>
                  <a:srgbClr val="000099"/>
                </a:solidFill>
                <a:latin typeface="Verdana"/>
              </a:rPr>
              <a:t>Prácticas existentes 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s-ES_tradnl" sz="2400" spc="-1" strike="noStrike">
                <a:solidFill>
                  <a:srgbClr val="000099"/>
                </a:solidFill>
                <a:latin typeface="Verdana"/>
              </a:rPr>
              <a:t> Prácticas objetiv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Identificar interacciones en el sistema (de refuerzo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o interferencia, + o -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Actual y Objetiv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n base a teorías, estadísticas o experienci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Etapas de la MoC</a:t>
            </a:r>
            <a:r>
              <a:rPr b="0" lang="es-ES_tradnl" sz="3400" spc="-1" strike="noStrike">
                <a:solidFill>
                  <a:srgbClr val="000000"/>
                </a:solidFill>
                <a:latin typeface="Verdana"/>
              </a:rPr>
              <a:t> (2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Identificar las interacciones de </a:t>
            </a:r>
            <a:r>
              <a:rPr b="0" lang="es-ES_tradnl" sz="3000" spc="-1" strike="noStrike">
                <a:solidFill>
                  <a:srgbClr val="000099"/>
                </a:solidFill>
                <a:latin typeface="Verdana"/>
              </a:rPr>
              <a:t>transició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Verdana"/>
              </a:rPr>
              <a:t>Refuerzo (+) o interferencia (-), al pasar de las prácticas actuales a las prácticas objetiv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Evaluación de agentes involucrado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Valoración de práctica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500" spc="-1" strike="noStrike">
                <a:solidFill>
                  <a:srgbClr val="000000"/>
                </a:solidFill>
                <a:latin typeface="Verdana"/>
              </a:rPr>
              <a:t>Prácticas existentes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21" name="" descr=""/>
          <p:cNvPicPr/>
          <p:nvPr/>
        </p:nvPicPr>
        <p:blipFill>
          <a:blip r:embed="rId2"/>
          <a:stretch/>
        </p:blipFill>
        <p:spPr>
          <a:xfrm>
            <a:off x="533520" y="1690560"/>
            <a:ext cx="7772400" cy="4237200"/>
          </a:xfrm>
          <a:prstGeom prst="rect">
            <a:avLst/>
          </a:prstGeom>
          <a:ln w="0">
            <a:noFill/>
          </a:ln>
        </p:spPr>
      </p:pic>
      <p:sp>
        <p:nvSpPr>
          <p:cNvPr id="522" name=""/>
          <p:cNvSpPr/>
          <p:nvPr/>
        </p:nvSpPr>
        <p:spPr>
          <a:xfrm>
            <a:off x="1523880" y="1676520"/>
            <a:ext cx="43434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1828800" y="2666880"/>
            <a:ext cx="1981080" cy="641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Ejecutar operaciones eficientemente  a bajo cos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1447920" y="4343400"/>
            <a:ext cx="2438280" cy="641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Alcanzar los requerimientos de los productos en calidad y canti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990720" y="5486400"/>
            <a:ext cx="29718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Estructura jerárquica para definir claramente roles y responsabilida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4572000" y="2057400"/>
            <a:ext cx="35812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Equipos asignados, separados por tip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4572000" y="2286000"/>
            <a:ext cx="35812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Cargos con funciones muy específic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4572000" y="2590920"/>
            <a:ext cx="35812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Administrativos toman todas las decisi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4572000" y="3200400"/>
            <a:ext cx="4191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Grupos funcionales trabajan independientemen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4572000" y="2895480"/>
            <a:ext cx="35812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Operarios solo ejecut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4572000" y="4267080"/>
            <a:ext cx="3429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Materias Primas producidas en la empre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4495680" y="3962520"/>
            <a:ext cx="46483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Inspección final exhaustiva por Aseguramiento de la Cali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4572000" y="3505320"/>
            <a:ext cx="4191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Se mantiene la línea de producción pase lo que p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4572000" y="4572000"/>
            <a:ext cx="4572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Grandes inventarios de materias primas y prod. terminad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4572000" y="5334120"/>
            <a:ext cx="25909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Flujo de comunicación ver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4572000" y="5715000"/>
            <a:ext cx="4191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Muchos niveles en la estructura organizacio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4572000" y="4876920"/>
            <a:ext cx="3429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Pago asociado a cantidad producida (trat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500" spc="-1" strike="noStrike">
                <a:solidFill>
                  <a:srgbClr val="000000"/>
                </a:solidFill>
                <a:latin typeface="Verdana"/>
              </a:rPr>
              <a:t>Prácticas objetivo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39" name="" descr=""/>
          <p:cNvPicPr/>
          <p:nvPr/>
        </p:nvPicPr>
        <p:blipFill>
          <a:blip r:embed="rId2"/>
          <a:stretch/>
        </p:blipFill>
        <p:spPr>
          <a:xfrm>
            <a:off x="1143000" y="1676520"/>
            <a:ext cx="5562720" cy="4595760"/>
          </a:xfrm>
          <a:prstGeom prst="rect">
            <a:avLst/>
          </a:prstGeom>
          <a:ln w="0">
            <a:noFill/>
          </a:ln>
        </p:spPr>
      </p:pic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1447920" y="2514600"/>
            <a:ext cx="19969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Organización con energía y empodera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4038480" y="2590920"/>
            <a:ext cx="44197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Solución de problemas en forma sistemática y sistém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4038480" y="2286000"/>
            <a:ext cx="44960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Supervisores pueden ingresar órdenes en lín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4038480" y="2819520"/>
            <a:ext cx="40388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Todos los empleados contribuyen con id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4038480" y="2057400"/>
            <a:ext cx="30481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Equipos flexibles asignados a trabaj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4038480" y="3505320"/>
            <a:ext cx="44960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La Visión es entregada desde el nivel superi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4038480" y="3124080"/>
            <a:ext cx="40388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Ingeniería concurren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1447920" y="3809880"/>
            <a:ext cx="19969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Cero no conformidades con los requerimien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3962520" y="3809880"/>
            <a:ext cx="44956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Los operarios son responsables de la cali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962520" y="4038480"/>
            <a:ext cx="49528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La línea se detiene si no esta operando a la velocidad de régi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2819520" y="1676520"/>
            <a:ext cx="449568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4038480" y="5105520"/>
            <a:ext cx="48769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Todos los materiales son comprados a proveedores extern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4038480" y="4800600"/>
            <a:ext cx="44960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Áreas organizadas en células de trabaj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3962520" y="4343400"/>
            <a:ext cx="464796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Todos los operarios son pagados por el mimo salario fij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4038480" y="6019920"/>
            <a:ext cx="44960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Racionalización de la lín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4038480" y="5791320"/>
            <a:ext cx="44960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Pocos niveles en la estructura organizacional (3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4038480" y="5562720"/>
            <a:ext cx="44960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Bajos inventarios “just in time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1295280" y="4724280"/>
            <a:ext cx="2149560" cy="641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Conversión de materias primas en productos terminados las 24 hor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1371600" y="5562720"/>
            <a:ext cx="1996920" cy="641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Eliminación de todos los costos que no agregan val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ffffff"/>
                </a:solidFill>
                <a:latin typeface="Verdana"/>
              </a:rPr>
              <a:t>Comparación de ambas</a:t>
            </a: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 práctica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61" name="" descr=""/>
          <p:cNvPicPr/>
          <p:nvPr/>
        </p:nvPicPr>
        <p:blipFill>
          <a:blip r:embed="rId2"/>
          <a:stretch/>
        </p:blipFill>
        <p:spPr>
          <a:xfrm>
            <a:off x="566640" y="1752480"/>
            <a:ext cx="800100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0010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ffffff"/>
                </a:solidFill>
                <a:latin typeface="Verdana"/>
              </a:rPr>
              <a:t>Cruce y matriz de transició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64" name="" descr=""/>
          <p:cNvPicPr/>
          <p:nvPr/>
        </p:nvPicPr>
        <p:blipFill>
          <a:blip r:embed="rId2"/>
          <a:stretch/>
        </p:blipFill>
        <p:spPr>
          <a:xfrm>
            <a:off x="1828800" y="708120"/>
            <a:ext cx="6324480" cy="593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Importancia de las práctica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67" name="" descr=""/>
          <p:cNvPicPr/>
          <p:nvPr/>
        </p:nvPicPr>
        <p:blipFill>
          <a:blip r:embed="rId2"/>
          <a:stretch/>
        </p:blipFill>
        <p:spPr>
          <a:xfrm>
            <a:off x="304920" y="1828800"/>
            <a:ext cx="8381880" cy="43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722160" y="498240"/>
            <a:ext cx="7778880" cy="72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Matriz de Interacció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69" name="" descr=""/>
          <p:cNvPicPr/>
          <p:nvPr/>
        </p:nvPicPr>
        <p:blipFill>
          <a:blip r:embed="rId2"/>
          <a:stretch/>
        </p:blipFill>
        <p:spPr>
          <a:xfrm>
            <a:off x="566640" y="1219320"/>
            <a:ext cx="80010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09480" y="251424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Verdana"/>
              </a:rPr>
              <a:t>Prácticas de Trabajo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ffffff"/>
                </a:solidFill>
                <a:latin typeface="Verdana"/>
              </a:rPr>
              <a:t>Comparación entre ambas</a:t>
            </a: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 práctica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81532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2"/>
          <a:stretch/>
        </p:blipFill>
        <p:spPr>
          <a:xfrm>
            <a:off x="609480" y="1828800"/>
            <a:ext cx="7315200" cy="38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74" name="" descr=""/>
          <p:cNvPicPr/>
          <p:nvPr/>
        </p:nvPicPr>
        <p:blipFill>
          <a:blip r:embed="rId2"/>
          <a:stretch/>
        </p:blipFill>
        <p:spPr>
          <a:xfrm>
            <a:off x="685800" y="152280"/>
            <a:ext cx="792468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Implicancias de la MoC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83055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Factibilidad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Coherencia y estabilidad: Actual y objetiv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Dificultad de la transició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Secuenci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Remover prácticas actuales sin efectos o que soportan muchas otras prácticas actual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Remover bloques completos. Luego, se pueden hacer alto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Implementar prácticas objetivo que complementan las actuales o soportan muchas otras prácticas objetiv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Implicancias de la MoC</a:t>
            </a:r>
            <a:r>
              <a:rPr b="0" lang="es-ES_tradnl" sz="3400" spc="-1" strike="noStrike">
                <a:solidFill>
                  <a:srgbClr val="000000"/>
                </a:solidFill>
                <a:latin typeface="Verdana"/>
              </a:rPr>
              <a:t> (2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83055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Velocidad y naturaleza del cambi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Determinar grupos de prácticas a cambiar simultáneament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La velocidad del cambio dentro de un bloque debe ser alta, mientras que la velocidad entre bloques puede ser lenta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Historial de resistencia implica minimizar tiempos de transició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Cambios radicales pueden ser realizados en etapas incrementales (adoptadores tardíos pueden accesar el </a:t>
            </a:r>
            <a:r>
              <a:rPr b="0" i="1" lang="es-ES_tradnl" sz="2200" spc="-1" strike="noStrike">
                <a:solidFill>
                  <a:srgbClr val="000000"/>
                </a:solidFill>
                <a:latin typeface="Verdana"/>
              </a:rPr>
              <a:t>know how</a:t>
            </a: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 o </a:t>
            </a:r>
            <a:r>
              <a:rPr b="0" i="1" lang="es-ES_tradnl" sz="2200" spc="-1" strike="noStrike">
                <a:solidFill>
                  <a:srgbClr val="000000"/>
                </a:solidFill>
                <a:latin typeface="Verdana"/>
              </a:rPr>
              <a:t>know why</a:t>
            </a: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 de los adoptadores tempranos) o de golp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Implicancias de la MoC</a:t>
            </a:r>
            <a:r>
              <a:rPr b="0" lang="es-ES_tradnl" sz="3400" spc="-1" strike="noStrike">
                <a:solidFill>
                  <a:srgbClr val="000000"/>
                </a:solidFill>
                <a:latin typeface="Verdana"/>
              </a:rPr>
              <a:t> (3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83055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Evaluación de los</a:t>
            </a: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 diferentes intereses involucrados en el proces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Valor dado a Prácticas Actuales o Prácticas Objetivo por los agentes involucrados, implica su nivel de apoyo al cambi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Hay que considerar Incentivos y Valor neto agregad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Locacion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Pueden referirse a Modelos Mentales (objetivos, valores, sistemas, estructuras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Considerar: Nueva o Adaptación de la actua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1" name="" descr=""/>
          <p:cNvPicPr/>
          <p:nvPr/>
        </p:nvPicPr>
        <p:blipFill>
          <a:blip r:embed="rId2"/>
          <a:stretch/>
        </p:blipFill>
        <p:spPr>
          <a:xfrm>
            <a:off x="533520" y="3429000"/>
            <a:ext cx="8165880" cy="2303640"/>
          </a:xfrm>
          <a:prstGeom prst="rect">
            <a:avLst/>
          </a:prstGeom>
          <a:ln w="0">
            <a:noFill/>
          </a:ln>
        </p:spPr>
      </p:pic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Sistemas Complej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Pasos intermedio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A a D puede requerir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A a B, B a C, C a 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odelamiento Cuantitativo d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rocesos de Negocio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subTitle"/>
          </p:nvPr>
        </p:nvSpPr>
        <p:spPr>
          <a:xfrm>
            <a:off x="914040" y="4343040"/>
            <a:ext cx="762012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Sistemas de Información Administrativ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Departamento de Ingeniería Industria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Universidad de Chil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Derechos Reservados (c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Modelamiento Cuantitativ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Corresponde a la capacidad de construir, validar y usar un modelo cuantitativo (matemático o de simulación) de la operación de un proceso para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Proyectar cuándo los niveles de servicio serán violados como función de la evolución de la </a:t>
            </a:r>
            <a:r>
              <a:rPr b="0" i="1" lang="es-ES_tradnl" sz="2200" spc="-1" strike="noStrike">
                <a:solidFill>
                  <a:srgbClr val="000000"/>
                </a:solidFill>
                <a:latin typeface="Verdana"/>
              </a:rPr>
              <a:t>carga de trabajo</a:t>
            </a: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,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Decidir la mejor asignación de recursos, 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Determinar de la forma más efectiva de demorar dicha saturación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Efectos del Model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 flipV="1">
            <a:off x="1596960" y="1891800"/>
            <a:ext cx="0" cy="3124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1292400" y="4788000"/>
            <a:ext cx="4724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1978200" y="2044800"/>
            <a:ext cx="3276360" cy="2489040"/>
          </a:xfrm>
          <a:custGeom>
            <a:avLst/>
            <a:gdLst/>
            <a:ahLst/>
            <a:rect l="l" t="t" r="r" b="b"/>
            <a:pathLst>
              <a:path w="2256" h="1376">
                <a:moveTo>
                  <a:pt x="0" y="1344"/>
                </a:moveTo>
                <a:cubicBezTo>
                  <a:pt x="676" y="1360"/>
                  <a:pt x="1352" y="1376"/>
                  <a:pt x="1728" y="1152"/>
                </a:cubicBezTo>
                <a:cubicBezTo>
                  <a:pt x="2104" y="928"/>
                  <a:pt x="2180" y="464"/>
                  <a:pt x="225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2054160" y="2120760"/>
            <a:ext cx="3353040" cy="2362320"/>
          </a:xfrm>
          <a:custGeom>
            <a:avLst/>
            <a:gdLst/>
            <a:ahLst/>
            <a:rect l="l" t="t" r="r" b="b"/>
            <a:pathLst>
              <a:path w="2112" h="1488">
                <a:moveTo>
                  <a:pt x="0" y="0"/>
                </a:moveTo>
                <a:cubicBezTo>
                  <a:pt x="40" y="476"/>
                  <a:pt x="80" y="952"/>
                  <a:pt x="432" y="1200"/>
                </a:cubicBezTo>
                <a:cubicBezTo>
                  <a:pt x="784" y="1448"/>
                  <a:pt x="1448" y="1468"/>
                  <a:pt x="2112" y="14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5250600" y="1739880"/>
            <a:ext cx="3646440" cy="164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s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Recursos utiliz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Redundancia en las opera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Funciones o actividades adicion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5146920" y="4797360"/>
            <a:ext cx="226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ivel de servic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612720" y="1916280"/>
            <a:ext cx="8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s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5244840" y="3451320"/>
            <a:ext cx="3432960" cy="13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s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Oportunidad/Calidad Inform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ecisiones de los usuar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Clientes (in) satisfech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68000" y="5445000"/>
            <a:ext cx="81788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425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Verdana"/>
              </a:rPr>
              <a:t>Necesario identificar e incorporar el tradeoff del diseño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25"/>
              </a:spcBef>
              <a:buClr>
                <a:srgbClr val="cc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Verdana"/>
              </a:rPr>
              <a:t>Una correcta evaluación permitirá realizar un diseño adecuado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8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Ejemplo de Tiempo de Respuesta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99" name="" descr=""/>
          <p:cNvPicPr/>
          <p:nvPr/>
        </p:nvPicPr>
        <p:blipFill>
          <a:blip r:embed="rId2"/>
          <a:stretch/>
        </p:blipFill>
        <p:spPr>
          <a:xfrm>
            <a:off x="1138320" y="1916280"/>
            <a:ext cx="7068960" cy="40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7T19:38:54Z</dcterms:created>
  <dc:creator>Instituto De Estudios Bancarios</dc:creator>
  <dc:description/>
  <dc:language>en-US</dc:language>
  <cp:lastModifiedBy>Antonio</cp:lastModifiedBy>
  <dcterms:modified xsi:type="dcterms:W3CDTF">2009-07-10T20:01:19Z</dcterms:modified>
  <cp:revision>131</cp:revision>
  <dc:subject/>
  <dc:title>Diapositiva 1</dc:title>
</cp:coreProperties>
</file>