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7F3B7D-C6F1-44D1-8AE7-067AE352C46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B1AAE0-FA6C-4A9F-B1AB-254CA8E0744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F68D8F-0AEE-4DCD-9ED0-3AF3AAED6A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930AC0-CB8A-4E7E-A236-9DCFDF3D56B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6B6068-C9BC-4E92-8DBE-6EF9EFB9075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4858D4-E821-46D5-87F9-5094201867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4DC5DD-E197-42EA-973E-A3D71285647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9A9871-F4BB-4F90-94AF-B6E75D7247B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C98592-F7D8-4897-89E0-B4438C1C56E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CCC7AA-D082-40FA-8FA3-96240FE0A48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9BB73E-8685-465B-A127-9AB57B94ACA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3BBFFF-7921-4FFB-904B-101760FECAD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8FDC81-428D-46AA-BA81-8DCAED9BCBE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5CE9A7-4ABE-446D-951B-EF503DFE7D1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F48AC8-9966-4E9A-9DF0-696C09776F3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BA002F-9159-4A44-AEAF-8F0FCD51AC8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02F5CA-26BA-4714-A761-BF27E85FA1A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335399-8C76-4404-A435-28AC81804B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C52821-9E7D-40EA-B376-2C0D9A0ACE7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B0751E-95C8-4EA3-9CFD-C4424221DB7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D5F0C9-5C1D-47C9-9741-6B17FA6448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5BBAD-EAD9-4CB3-B0FD-26ADB2D2AC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27C308-D98E-4C3A-A1B0-318BB0D35EA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CE05A5-1F3A-4015-BC4F-869B01CB728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6DAD72-92A9-4899-A905-D56A8E2C05C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DF07D8-95B9-497A-A4B8-687796709A3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9A657F-7FE7-4078-BE6F-45FAC077783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0CF59D-22FB-4933-B6BC-6D844BC4972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AE003F-75B6-4BA4-B949-7C8EB901DED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AA2C0D-FFF4-4183-AA67-3EEA0CBD887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E57FF6-A2C0-419A-B1C4-504027A2017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18E47E-517E-4032-B4CA-740993A9080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7E00F4-F5FC-4D5B-8D06-85A3E5C7965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AA9E6A-BB00-4EB3-841C-7EBF9353BC5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DD5850-C404-44A1-B836-9D5850DD3E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49E052-E25F-467B-8DDE-648A487A3FF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F22BF6-ED06-4FC9-90E9-9E8C74662E7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547621-684A-409B-9D1F-9A5F0AFED3A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291CF5-D655-4B5D-801B-D850B6C1B75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290FB8-832D-4999-9BFB-4A9AF59C724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F9CEA7-D4C9-4A24-B604-2EC5B3440FF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0A8CAE-8EF0-4486-B3EF-91933E615D5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7B3AC5-FD81-4FE5-A136-6014B88F347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7EF0E2-FAF9-4165-B1A3-1BB34D1B50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70367B-4938-4912-A6DE-0F3EFE7E6BF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6446C7-17F6-4404-971B-F130A2FC8A2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DB0604-23A3-4074-A980-4E1D1330F2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C7A43C-4435-422B-9F74-9E69AE4152B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F5846C-98FE-42EA-9856-6CF4B4C51F9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BE7E4D-A86D-4E29-BFDC-93BAB8E3A7E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5B6C08-EE32-4272-A54E-934C522DBD4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E9A552-1B6F-46AC-9184-68781E6E1FD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45F256-EED7-46E8-AE65-4BD02D5C4F3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0E00C4-3244-4DA8-B126-F80588ADD45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4320C2-D31A-42C3-94BF-96A08386F02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3320" y="4560480"/>
            <a:ext cx="5848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76E-2EBB-44FE-8BFB-82B1AAFB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F44-D3C9-4CD7-94BA-918FFD6F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E1D-E65C-42CB-BF18-0C2C6F54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4FB-22EA-49E6-B810-DF2FFCF8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EA1-3209-4404-8A80-BE486952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87C-E660-4CDC-8986-3C254432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81F-AFD1-41E6-8DE4-60E47FBF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937-7128-487D-BCBC-2F573ABF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51C-E1AB-4C77-AFF9-64992211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B44-1FBC-465D-B43B-2BA2918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170-79B7-4B2F-BDA3-347D830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25D-0B48-4BDE-85E6-37CACF76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CD62-37D3-4D98-BE95-24E3C3B76E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nkedin.com/in/joseinostroza" TargetMode="External"/><Relationship Id="rId2" Type="http://schemas.openxmlformats.org/officeDocument/2006/relationships/hyperlink" Target="http://www.linkedin.com/in/joseinostroza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nsis_Likert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6920" y="2205000"/>
            <a:ext cx="5959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IPLOMA EN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RENCIA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ÚBLICA Primavera 2010 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Taller de Análisis Organizacional </a:t>
            </a:r>
            <a:br>
              <a:rPr sz="3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www.sistemaspublicos.cl</a:t>
            </a:r>
            <a:br>
              <a:rPr sz="2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:</a:t>
            </a: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José Inostroza Lara</a:t>
            </a:r>
            <a:br>
              <a:rPr sz="16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Profesora Auxiliar: </a:t>
            </a: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Natalie González; Alexis Acevedo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Cj04042730000[1]"/>
          <p:cNvPicPr/>
          <p:nvPr/>
        </p:nvPicPr>
        <p:blipFill>
          <a:blip r:embed="rId1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  <p:pic>
        <p:nvPicPr>
          <p:cNvPr id="50" name="8 Imagen" descr="CSP-color+bajada small.bmp"/>
          <p:cNvPicPr/>
          <p:nvPr/>
        </p:nvPicPr>
        <p:blipFill>
          <a:blip r:embed="rId2"/>
          <a:stretch/>
        </p:blipFill>
        <p:spPr>
          <a:xfrm>
            <a:off x="3708360" y="549360"/>
            <a:ext cx="304812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22320" y="-27000"/>
            <a:ext cx="22906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puede ser útil para (e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OCO TIEMPO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gerente público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llega a hacerse cargo de un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o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sultor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asesora en un proceso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modernización o transformac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general o parci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ara que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formuladores de las políticas y programas público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tengan mayor conocimiento sobre las características institucionales de las organizaciones involucradas en la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 útil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riesgo de una organización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entendido el riesgo en un contexto amplio: político, estratégico, operacional, financiero, y de probidad.</a:t>
            </a:r>
            <a:r>
              <a:rPr b="0" lang="es-ES" sz="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87F1-7340-4680-9492-E8C9626D25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advertir qu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la guía NO reempla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sentido común ni la falta de un </a:t>
            </a: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REFLEXION PROFUNDA y DELIBERATIVA en el equi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falta de expertizaje profesion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 la perspicacia del analista para leer entre líneas o “mirar debajo del agua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FFBB-98E6-43E5-942A-0B8BC7BD8F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PROCESO COMPLETO </a:t>
            </a:r>
            <a:br>
              <a:rPr sz="4400"/>
            </a:br>
            <a:r>
              <a:rPr b="1" lang="es-ES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DEL AO .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j04042730000[1]"/>
          <p:cNvPicPr/>
          <p:nvPr/>
        </p:nvPicPr>
        <p:blipFill>
          <a:blip r:embed="rId2"/>
          <a:stretch/>
        </p:blipFill>
        <p:spPr>
          <a:xfrm>
            <a:off x="6699240" y="5486400"/>
            <a:ext cx="222552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7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A6EE-4939-4E2B-BEA1-D1EC5C5F3D1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D73D-F841-4013-9531-3D497EB4D9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3F7F-100D-4F52-9895-57F832735B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0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9237-8D8B-4B8A-821F-3C735DA6B0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265C-8507-4C45-A782-9273867072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C69C-80DA-46AA-8434-01BA2406E3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B4B3-6FA0-457F-912F-CEEABE270F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00000"/>
                </a:solidFill>
                <a:latin typeface="Arial"/>
              </a:rPr>
              <a:t>OBJETIVOS DE LA 1ª SE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esent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xponer Metodología de AO (aprox. 1½ H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Formar Grupos (Organización Bás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Entregables/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finir criterios de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7FFE-D459-4E94-B470-4EF16916A7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166D-F8AA-4044-B67A-95CC7434A0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6511-2FDE-42D4-BF87-59848FB3CC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29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0B77-8441-456A-B732-0D84C8D39C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CB2F-8BB1-4FFF-A1E6-C9A9CAD7AF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3"/>
          <p:cNvSpPr/>
          <p:nvPr/>
        </p:nvSpPr>
        <p:spPr>
          <a:xfrm>
            <a:off x="2900520" y="723960"/>
            <a:ext cx="1118880" cy="105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1 del cuestionario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59080" y="900000"/>
            <a:ext cx="128088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de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340160" y="54936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incip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340160" y="1285920"/>
            <a:ext cx="1333440" cy="68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ncertar citas con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780160" y="919080"/>
            <a:ext cx="1119240" cy="68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2 del cuestion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7219800" y="900000"/>
            <a:ext cx="1366920" cy="110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trevistas-aplicación del Instrumento a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019400" y="142560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4019400" y="899640"/>
            <a:ext cx="32076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5557680" y="927000"/>
            <a:ext cx="2224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6899400" y="1249200"/>
            <a:ext cx="320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5780160" y="1774800"/>
            <a:ext cx="143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6475320" y="2471760"/>
            <a:ext cx="170496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dentificación y análisis preliminar de los problemas cl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7859880" y="21258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406760" y="2471760"/>
            <a:ext cx="1630440" cy="87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lan e instrumentos de “indagación en profundidad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627280" y="2487600"/>
            <a:ext cx="1333440" cy="689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s entrevistas específ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2627280" y="3129120"/>
            <a:ext cx="1333440" cy="88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ueva Revisión documental y estad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9"/>
          <p:cNvSpPr/>
          <p:nvPr/>
        </p:nvSpPr>
        <p:spPr>
          <a:xfrm flipH="1">
            <a:off x="6098760" y="2825640"/>
            <a:ext cx="297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 flipH="1">
            <a:off x="3960360" y="254016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 flipH="1">
            <a:off x="3960360" y="2540160"/>
            <a:ext cx="446040" cy="88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500040" y="2651040"/>
            <a:ext cx="1533600" cy="122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íntesis sistémica-Diagrama Sistémico/ Modelamientos bás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339840" y="4751280"/>
            <a:ext cx="1919160" cy="88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unión de consenso sobre el diagnóstico/Model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3540240" y="5102280"/>
            <a:ext cx="2000160" cy="77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juste final del 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"/>
          <p:cNvSpPr/>
          <p:nvPr/>
        </p:nvSpPr>
        <p:spPr>
          <a:xfrm flipH="1">
            <a:off x="2033280" y="2540160"/>
            <a:ext cx="59364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"/>
          <p:cNvSpPr/>
          <p:nvPr/>
        </p:nvSpPr>
        <p:spPr>
          <a:xfrm flipH="1" flipV="1">
            <a:off x="2033280" y="3057480"/>
            <a:ext cx="59364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1300320" y="3876840"/>
            <a:ext cx="0" cy="87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2259000" y="5451480"/>
            <a:ext cx="128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2627280" y="4013280"/>
            <a:ext cx="1333440" cy="690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cuestas, </a:t>
            </a: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focus grou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o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 flipH="1">
            <a:off x="3960360" y="2540160"/>
            <a:ext cx="44604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"/>
          <p:cNvSpPr/>
          <p:nvPr/>
        </p:nvSpPr>
        <p:spPr>
          <a:xfrm flipH="1" flipV="1">
            <a:off x="1939680" y="3350880"/>
            <a:ext cx="68724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2"/>
          <p:cNvSpPr/>
          <p:nvPr/>
        </p:nvSpPr>
        <p:spPr>
          <a:xfrm>
            <a:off x="2739960" y="1249200"/>
            <a:ext cx="16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1139760" y="124920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4"/>
          <p:cNvSpPr/>
          <p:nvPr/>
        </p:nvSpPr>
        <p:spPr>
          <a:xfrm>
            <a:off x="179280" y="723960"/>
            <a:ext cx="1121040" cy="122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visión documental y estad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3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8999-A23E-4CEE-8407-D236035F7A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1: Revisión de Información Secundaria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que describan la Política Pública (páginas Webs, leyes, discursos, documentos técnico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Documentos y planes estratégicos (en Chile, los BGI son una buena fu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Memoria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control de gestión (Ver documentos internos, Documentos de DIPRE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valuaciones externas (Ver DIPRES y su gama de evaluaciones de programas y de impa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stadísticas Descriptivas (miden los tamaños, de insumos, productos, infraestructu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dicadores de Desempeño (miden cómo lo hace la organiz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Normas (Leyes, Decretos, Resolucio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iteratura académica o especializada sobre alguna materia relacionada a la organización (Universidades, Organismos internacionales, ONGs y </a:t>
            </a:r>
            <a:r>
              <a:rPr b="1" i="1" lang="es-ES" sz="1600" spc="-1" strike="noStrike">
                <a:solidFill>
                  <a:srgbClr val="333399"/>
                </a:solidFill>
                <a:latin typeface="Arial"/>
              </a:rPr>
              <a:t>Think Tanks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Consultorías previas relev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es de auditoría interna (“Matrices de Riesgo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Información de Pre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-92160" y="5589720"/>
            <a:ext cx="91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8B08-93E1-4184-9C19-9EA8000DD1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n general,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s preguntas se debieran realizar en función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grupos de 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stakeholder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o, sin perjuicio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eguntas mínimas comunes para todo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los entrevi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Para la detección de los </a:t>
            </a: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stakeholders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e recomienda pensar en </a:t>
            </a:r>
            <a:r>
              <a:rPr b="0" lang="es-ES" sz="2800" spc="-1" strike="noStrike">
                <a:solidFill>
                  <a:srgbClr val="cc3300"/>
                </a:solidFill>
                <a:latin typeface="Arial"/>
              </a:rPr>
              <a:t>tres nivele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político-estratégico,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l técnic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(personal de la organización, contratistas, consultores, entidades que tengan una opinión técnica autónoma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y un tercero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relacionado con los beneficiario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A15A-955B-484D-83C7-3A8930E853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2: Identificación de actores relevantes o </a:t>
            </a:r>
            <a:r>
              <a:rPr b="1" i="1" lang="es-ES" sz="28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Directivos Prin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jecutivos que toman dec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Nivel Técnico Operativo con altos conocimientos de los procesos sustantivos y cifras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Contrapartes de instituciones relacio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ctores clave del 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Asociación Gre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13C7-25D8-47F2-BDCC-AA1DF5A23D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121280"/>
            <a:ext cx="2219400" cy="92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Ej. Mapa de 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1240"/>
          </a:xfrm>
          <a:prstGeom prst="rect">
            <a:avLst/>
          </a:prstGeom>
          <a:ln w="0">
            <a:noFill/>
          </a:ln>
        </p:spPr>
      </p:pic>
      <p:sp>
        <p:nvSpPr>
          <p:cNvPr id="3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A911-AB62-42B8-A047-E3C545DCC0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755640" y="836640"/>
            <a:ext cx="7227720" cy="4881600"/>
            <a:chOff x="755640" y="836640"/>
            <a:chExt cx="7227720" cy="4881600"/>
          </a:xfrm>
        </p:grpSpPr>
        <p:sp>
          <p:nvSpPr>
            <p:cNvPr id="331" name="AutoShape 5"/>
            <p:cNvSpPr/>
            <p:nvPr/>
          </p:nvSpPr>
          <p:spPr>
            <a:xfrm>
              <a:off x="755640" y="836640"/>
              <a:ext cx="7227720" cy="488160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6"/>
            <p:cNvSpPr/>
            <p:nvPr/>
          </p:nvSpPr>
          <p:spPr>
            <a:xfrm>
              <a:off x="1787760" y="1305720"/>
              <a:ext cx="5538240" cy="4131000"/>
            </a:xfrm>
            <a:prstGeom prst="ellipse">
              <a:avLst/>
            </a:pr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"/>
            <p:cNvSpPr/>
            <p:nvPr/>
          </p:nvSpPr>
          <p:spPr>
            <a:xfrm>
              <a:off x="3547800" y="3183840"/>
              <a:ext cx="750240" cy="7513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Serv.     Adm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"/>
            <p:cNvSpPr/>
            <p:nvPr/>
          </p:nvSpPr>
          <p:spPr>
            <a:xfrm>
              <a:off x="4510440" y="3351240"/>
              <a:ext cx="70200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CO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4065840" y="2505960"/>
              <a:ext cx="1032120" cy="84492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Ejecutivo del GORE </a:t>
              </a: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(Intendente)</a:t>
              </a:r>
              <a:r>
                <a:rPr b="1" lang="es-ES" sz="900" spc="-1" strike="noStrike">
                  <a:solidFill>
                    <a:srgbClr val="8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0"/>
            <p:cNvSpPr/>
            <p:nvPr/>
          </p:nvSpPr>
          <p:spPr>
            <a:xfrm>
              <a:off x="1506600" y="1681560"/>
              <a:ext cx="1220040" cy="75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DIPRES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UBD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1"/>
            <p:cNvSpPr/>
            <p:nvPr/>
          </p:nvSpPr>
          <p:spPr>
            <a:xfrm>
              <a:off x="6669000" y="3652920"/>
              <a:ext cx="1286280" cy="72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INISTERIOS SECTORI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2"/>
            <p:cNvSpPr/>
            <p:nvPr/>
          </p:nvSpPr>
          <p:spPr>
            <a:xfrm>
              <a:off x="6387120" y="2160000"/>
              <a:ext cx="1225080" cy="73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ORGANS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EJECUTOR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3"/>
            <p:cNvSpPr/>
            <p:nvPr/>
          </p:nvSpPr>
          <p:spPr>
            <a:xfrm>
              <a:off x="1224720" y="3935160"/>
              <a:ext cx="131400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ECTOR EMPRESAR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4"/>
            <p:cNvSpPr/>
            <p:nvPr/>
          </p:nvSpPr>
          <p:spPr>
            <a:xfrm rot="18061800">
              <a:off x="4919040" y="3073320"/>
              <a:ext cx="457200" cy="326880"/>
            </a:xfrm>
            <a:custGeom>
              <a:avLst/>
              <a:gdLst>
                <a:gd name="textAreaLeft" fmla="*/ 113400 w 457200"/>
                <a:gd name="textAreaRight" fmla="*/ 402840 w 457200"/>
                <a:gd name="textAreaTop" fmla="*/ 178920 h 326880"/>
                <a:gd name="textAreaBottom" fmla="*/ 287640 h 3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1845" y="9257"/>
                  </a:lnTo>
                  <a:lnTo>
                    <a:pt x="11845" y="11845"/>
                  </a:lnTo>
                  <a:lnTo>
                    <a:pt x="9257" y="11845"/>
                  </a:lnTo>
                  <a:lnTo>
                    <a:pt x="9257" y="9257"/>
                  </a:lnTo>
                  <a:lnTo>
                    <a:pt x="0" y="15429"/>
                  </a:lnTo>
                  <a:lnTo>
                    <a:pt x="9257" y="21600"/>
                  </a:lnTo>
                  <a:lnTo>
                    <a:pt x="9257" y="19012"/>
                  </a:lnTo>
                  <a:lnTo>
                    <a:pt x="19012" y="19012"/>
                  </a:lnTo>
                  <a:lnTo>
                    <a:pt x="19012" y="9257"/>
                  </a:lnTo>
                  <a:lnTo>
                    <a:pt x="21600" y="92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5"/>
            <p:cNvSpPr/>
            <p:nvPr/>
          </p:nvSpPr>
          <p:spPr>
            <a:xfrm rot="10800000">
              <a:off x="3726720" y="2665440"/>
              <a:ext cx="342720" cy="457200"/>
            </a:xfrm>
            <a:custGeom>
              <a:avLst/>
              <a:gdLst>
                <a:gd name="textAreaLeft" fmla="*/ 48600 w 342720"/>
                <a:gd name="textAreaRight" fmla="*/ 294120 w 342720"/>
                <a:gd name="textAreaTop" fmla="*/ 261000 h 457200"/>
                <a:gd name="textAreaBottom" fmla="*/ 3920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6"/>
            <p:cNvSpPr/>
            <p:nvPr/>
          </p:nvSpPr>
          <p:spPr>
            <a:xfrm rot="3861600">
              <a:off x="4209120" y="3641760"/>
              <a:ext cx="281880" cy="342720"/>
            </a:xfrm>
            <a:custGeom>
              <a:avLst/>
              <a:gdLst>
                <a:gd name="textAreaLeft" fmla="*/ 39960 w 281880"/>
                <a:gd name="textAreaRight" fmla="*/ 241920 w 281880"/>
                <a:gd name="textAreaTop" fmla="*/ 196200 h 342720"/>
                <a:gd name="textAreaBottom" fmla="*/ 29412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6171"/>
                  </a:lnTo>
                  <a:lnTo>
                    <a:pt x="12343" y="6171"/>
                  </a:lnTo>
                  <a:lnTo>
                    <a:pt x="12343" y="12343"/>
                  </a:lnTo>
                  <a:lnTo>
                    <a:pt x="6171" y="12343"/>
                  </a:lnTo>
                  <a:lnTo>
                    <a:pt x="6171" y="9257"/>
                  </a:lnTo>
                  <a:lnTo>
                    <a:pt x="0" y="15429"/>
                  </a:lnTo>
                  <a:lnTo>
                    <a:pt x="6171" y="21600"/>
                  </a:lnTo>
                  <a:lnTo>
                    <a:pt x="6171" y="18514"/>
                  </a:lnTo>
                  <a:lnTo>
                    <a:pt x="18514" y="18514"/>
                  </a:lnTo>
                  <a:lnTo>
                    <a:pt x="18514" y="6171"/>
                  </a:lnTo>
                  <a:lnTo>
                    <a:pt x="21600" y="61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4135320" y="4967640"/>
              <a:ext cx="1031760" cy="750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FUERZAS POLITIC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3384000" y="2338560"/>
              <a:ext cx="2158560" cy="1971720"/>
            </a:xfrm>
            <a:prstGeom prst="ellipse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3726720" y="886680"/>
              <a:ext cx="1031760" cy="74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SOCIEDAD CIV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0"/>
            <p:cNvSpPr/>
            <p:nvPr/>
          </p:nvSpPr>
          <p:spPr>
            <a:xfrm rot="1863000">
              <a:off x="2682360" y="2312280"/>
              <a:ext cx="799200" cy="288720"/>
            </a:xfrm>
            <a:prstGeom prst="leftRightArrow">
              <a:avLst>
                <a:gd name="adj1" fmla="val 50000"/>
                <a:gd name="adj2" fmla="val 55105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1"/>
            <p:cNvSpPr/>
            <p:nvPr/>
          </p:nvSpPr>
          <p:spPr>
            <a:xfrm rot="20178000">
              <a:off x="2520360" y="3728880"/>
              <a:ext cx="844200" cy="302040"/>
            </a:xfrm>
            <a:prstGeom prst="leftRightArrow">
              <a:avLst>
                <a:gd name="adj1" fmla="val 50000"/>
                <a:gd name="adj2" fmla="val 55641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22"/>
            <p:cNvSpPr/>
            <p:nvPr/>
          </p:nvSpPr>
          <p:spPr>
            <a:xfrm rot="16200000">
              <a:off x="4355280" y="4437360"/>
              <a:ext cx="495360" cy="378360"/>
            </a:xfrm>
            <a:prstGeom prst="leftRightArrow">
              <a:avLst>
                <a:gd name="adj1" fmla="val 50000"/>
                <a:gd name="adj2" fmla="val 26063"/>
              </a:avLst>
            </a:prstGeom>
            <a:solidFill>
              <a:srgbClr val="ffffff"/>
            </a:solidFill>
            <a:ln w="1260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942000">
              <a:off x="5327280" y="3607920"/>
              <a:ext cx="1369800" cy="397440"/>
            </a:xfrm>
            <a:prstGeom prst="leftRightArrow">
              <a:avLst>
                <a:gd name="adj1" fmla="val 50000"/>
                <a:gd name="adj2" fmla="val 68612"/>
              </a:avLst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24"/>
            <p:cNvSpPr/>
            <p:nvPr/>
          </p:nvSpPr>
          <p:spPr>
            <a:xfrm rot="16021200">
              <a:off x="4050000" y="1814760"/>
              <a:ext cx="563760" cy="296280"/>
            </a:xfrm>
            <a:prstGeom prst="leftRightArrow">
              <a:avLst>
                <a:gd name="adj1" fmla="val 50000"/>
                <a:gd name="adj2" fmla="val 37879"/>
              </a:avLst>
            </a:prstGeom>
            <a:solidFill>
              <a:srgbClr val="ffffff"/>
            </a:solidFill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20896800">
              <a:off x="5439600" y="2715480"/>
              <a:ext cx="914040" cy="280440"/>
            </a:xfrm>
            <a:prstGeom prst="leftRightArrow">
              <a:avLst>
                <a:gd name="adj1" fmla="val 50000"/>
                <a:gd name="adj2" fmla="val 64884"/>
              </a:avLst>
            </a:prstGeom>
            <a:solidFill>
              <a:srgbClr val="ffffff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6"/>
            <p:cNvSpPr/>
            <p:nvPr/>
          </p:nvSpPr>
          <p:spPr>
            <a:xfrm>
              <a:off x="3946680" y="3935160"/>
              <a:ext cx="75096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800000"/>
                  </a:solidFill>
                  <a:latin typeface="Arial"/>
                </a:rPr>
                <a:t>G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7"/>
            <p:cNvSpPr/>
            <p:nvPr/>
          </p:nvSpPr>
          <p:spPr>
            <a:xfrm rot="16728600">
              <a:off x="1693800" y="3088800"/>
              <a:ext cx="281880" cy="9396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8"/>
            <p:cNvSpPr/>
            <p:nvPr/>
          </p:nvSpPr>
          <p:spPr>
            <a:xfrm rot="20266800">
              <a:off x="3155400" y="152208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9"/>
            <p:cNvSpPr/>
            <p:nvPr/>
          </p:nvSpPr>
          <p:spPr>
            <a:xfrm rot="12423600">
              <a:off x="3101760" y="5154480"/>
              <a:ext cx="281880" cy="94320"/>
            </a:xfrm>
            <a:prstGeom prst="rightArrow">
              <a:avLst>
                <a:gd name="adj1" fmla="val 50000"/>
                <a:gd name="adj2" fmla="val 74714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0"/>
            <p:cNvSpPr/>
            <p:nvPr/>
          </p:nvSpPr>
          <p:spPr>
            <a:xfrm rot="5099400">
              <a:off x="7138080" y="299556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31"/>
            <p:cNvSpPr/>
            <p:nvPr/>
          </p:nvSpPr>
          <p:spPr>
            <a:xfrm rot="8536800">
              <a:off x="6199200" y="487404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32"/>
            <p:cNvSpPr/>
            <p:nvPr/>
          </p:nvSpPr>
          <p:spPr>
            <a:xfrm rot="813000">
              <a:off x="4983840" y="1293480"/>
              <a:ext cx="281160" cy="93600"/>
            </a:xfrm>
            <a:prstGeom prst="rightArrow">
              <a:avLst>
                <a:gd name="adj1" fmla="val 50000"/>
                <a:gd name="adj2" fmla="val 75096"/>
              </a:avLst>
            </a:prstGeom>
            <a:solidFill>
              <a:srgbClr val="000000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3"/>
            <p:cNvSpPr/>
            <p:nvPr/>
          </p:nvSpPr>
          <p:spPr>
            <a:xfrm rot="12249600">
              <a:off x="3946320" y="421668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34"/>
            <p:cNvSpPr/>
            <p:nvPr/>
          </p:nvSpPr>
          <p:spPr>
            <a:xfrm rot="17244600">
              <a:off x="3290040" y="2995200"/>
              <a:ext cx="281160" cy="93960"/>
            </a:xfrm>
            <a:prstGeom prst="rightArrow">
              <a:avLst>
                <a:gd name="adj1" fmla="val 50000"/>
                <a:gd name="adj2" fmla="val 74808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35"/>
            <p:cNvSpPr/>
            <p:nvPr/>
          </p:nvSpPr>
          <p:spPr>
            <a:xfrm rot="4920000">
              <a:off x="5367240" y="3278160"/>
              <a:ext cx="281880" cy="93240"/>
            </a:xfrm>
            <a:prstGeom prst="rightArrow">
              <a:avLst>
                <a:gd name="adj1" fmla="val 50000"/>
                <a:gd name="adj2" fmla="val 75579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6"/>
            <p:cNvSpPr/>
            <p:nvPr/>
          </p:nvSpPr>
          <p:spPr>
            <a:xfrm rot="190200">
              <a:off x="4416480" y="2338560"/>
              <a:ext cx="281160" cy="94320"/>
            </a:xfrm>
            <a:prstGeom prst="rightArrow">
              <a:avLst>
                <a:gd name="adj1" fmla="val 50000"/>
                <a:gd name="adj2" fmla="val 74523"/>
              </a:avLst>
            </a:prstGeom>
            <a:solidFill>
              <a:srgbClr val="000000"/>
            </a:solidFill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5555520" y="3465720"/>
              <a:ext cx="7999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      </a:t>
              </a:r>
              <a:r>
                <a:rPr b="1" lang="es-ES" sz="700" spc="-1" strike="noStrike">
                  <a:solidFill>
                    <a:srgbClr val="800000"/>
                  </a:solidFill>
                  <a:latin typeface="Arial"/>
                </a:rPr>
                <a:t>SEREM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38"/>
            <p:cNvSpPr/>
            <p:nvPr/>
          </p:nvSpPr>
          <p:spPr>
            <a:xfrm>
              <a:off x="5555520" y="1179360"/>
              <a:ext cx="1142640" cy="937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240" rIns="7524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800000"/>
                  </a:solidFill>
                  <a:latin typeface="Arial"/>
                </a:rPr>
                <a:t>MUNICIP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9"/>
            <p:cNvSpPr/>
            <p:nvPr/>
          </p:nvSpPr>
          <p:spPr>
            <a:xfrm rot="18916800">
              <a:off x="4984200" y="2155680"/>
              <a:ext cx="685440" cy="280440"/>
            </a:xfrm>
            <a:prstGeom prst="leftRightArrow">
              <a:avLst>
                <a:gd name="adj1" fmla="val 50000"/>
                <a:gd name="adj2" fmla="val 48656"/>
              </a:avLst>
            </a:prstGeom>
            <a:solidFill>
              <a:srgbClr val="ffffff"/>
            </a:solidFill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3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1A0-AE03-4DC2-A96A-2298CB2CFA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José Inostroz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Abogado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Director Ejecutivo, Profesor e Investigador, Centro de Sistemas Públicos, DII, U.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Especialización: Análisis Organizacional, Gestión Pública, Reforma del Estado, Diseño de Sistemas Públicos, Descentr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+ información en: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inkedin.com/in/joseinostr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Natalie Gonzále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irectora del Diplomas, Cursos y Extensión del Centro de Siste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a de Proyectos del Centro de Sistemas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EA86-9F0D-4139-9738-74F8377B8E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8 Imagen" descr="CSP-color+bajada small.bmp"/>
          <p:cNvPicPr/>
          <p:nvPr/>
        </p:nvPicPr>
        <p:blipFill>
          <a:blip r:embed="rId3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r>
              <a:rPr b="0" lang="es-E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l cuestionario base, 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CB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necesariamente se debe adaptar a la organización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pecífica que se estud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Esta es una de las actividades esenciales de la metodología. </a:t>
            </a:r>
            <a:r>
              <a:rPr b="1" lang="es-ES" sz="2800" spc="-1" strike="noStrike" u="sng">
                <a:solidFill>
                  <a:srgbClr val="c00000"/>
                </a:solidFill>
                <a:uFillTx/>
                <a:latin typeface="Arial"/>
              </a:rPr>
              <a:t>Buena parte del valor agregado del analista se realiza en esta fase.</a:t>
            </a:r>
            <a:r>
              <a:rPr b="0" lang="es-E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Hacerse las preguntas correctas es más importante que responder las preguntas equivocadas o inneces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741A-4867-4691-BAB4-0561BB3EF1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Temas a indagar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que están formuladas como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afirmaciones en sentido positiv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en cada uno de los ámbitos/secciones a eval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Valoración del Nivel de acuerd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con las afirmaciones. Se usa una escala (Likert) de 1 a 5, con el siguiente crite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1:   Completamente en desacuerdo (calificación neg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2:   Des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3:   Ni en desacuerdo ni en acuer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4:   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5:   Completamente de acuerdo (calificación posi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00000"/>
                </a:solidFill>
                <a:uFillTx/>
                <a:latin typeface="Arial"/>
              </a:rPr>
              <a:t>Comentarios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Registro de los comentarios del(los) Stakeholder entrevistados, fundamentalmente en aquellas afirmaciones mal evaluadas (1 o 2).</a:t>
            </a:r>
            <a:br>
              <a:rPr sz="2000"/>
            </a:b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(*) </a:t>
            </a:r>
            <a:r>
              <a:rPr b="0" lang="es-E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kert, Rensi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1932). "A Technique for the Measurement of Attitudes".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rchives of Psycholog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3FBC-2E4F-4ACA-A603-ECAC696C2D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ajuste puede consistir en todas o alguna de las siguientes accion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) elimin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 del cuestionario ba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b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gregación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de afirmac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) 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ajuste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en la red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69ED-84D6-40E4-BB63-AD35CAA0D7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3902040"/>
            <a:ext cx="2219400" cy="9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¿Cómo agregar ítems relevantes al Cuestionario Base (CB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tendiendo de modo general cómo funciona 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“Modelo de agregación de Valor”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 organización y cuáles son 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procesos principales o sustan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 identificar las alianzas, los segmentos de usuarios y stakeholders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 relevantes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09DD-13F8-487C-8C9A-18E079AFA8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9577440" cy="753264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E4FF-0125-4C65-B0A9-E9CFD3809E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8028000" y="-49536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 debe indagar al menos cada uno de los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procesos o (actividades claves) de negocio principal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. 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“Los estándares de calidad/eficiencia de los servicios entregados por XXX en relación al servicio del certificado XXX/inversión/entrega de subsidios/ regulación/fiscalización…… son satisfactori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87C1-4F5D-45F7-9CCA-B0B64937A5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181080" y="449280"/>
            <a:ext cx="9118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EMAS INDA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cesos (“sustantivos o de negocio” y “de soporte/apoy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istemas 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ersonas (no es clima, cantidades y competencias adecuadas; procesos de contra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strategia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odo de toma de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ol de Gestión (estratégico y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Normas y Políticas In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lima Organizacional, Cultura, Valores y  Práctica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s de Aprendizaje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oductos y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arketing/Posicionamiento de la Imagen/Marca Corporativa 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Riesgos (políticos, financieros y  de prob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lación con los Usuarios/Clientes/Benefici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Funcionamientos de las Unidades Desconcentradas o Descentralizadas territorialmente (Ej. Seremis, Direcciones Regionale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Gestión de Adquisi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430-AD35-4DBB-8B5F-85978A87B8A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24760"/>
          </a:xfrm>
          <a:prstGeom prst="rect">
            <a:avLst/>
          </a:prstGeom>
          <a:ln w="0">
            <a:noFill/>
          </a:ln>
        </p:spPr>
      </p:pic>
      <p:sp>
        <p:nvSpPr>
          <p:cNvPr id="397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B258-8DDA-4F9B-9A38-A958841E8B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general, la cantidad de preguntas o ítemes a indagar deben tener ciert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oporcionalidad en relación a la importancia de los tem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asociados a la organización y/o al presupu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del cuestionario deben ser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redactados  de un modo muy claro y en pocas palabra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xpresando un idea básica a la vez (se recomienda que no tenga más de 20 palab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os ítems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NO deben ser ambigu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lo cual significa que calificar con por ejemplo, una nota 5, equivale inequívocamente a decir que en ese ámbito las cosas funcionan muy bi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OMITIR del cuestionario temas no pertinente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, e incluso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A116-D483-491B-A057-CE0C95ED0B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3: Ajustes al cuestionario base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Además… elaborar un conjunto de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preguntas abierta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 más frecuente es </a:t>
            </a:r>
            <a:r>
              <a:rPr b="0" lang="es-ES" sz="3200" spc="-1" strike="noStrike">
                <a:solidFill>
                  <a:srgbClr val="c00000"/>
                </a:solidFill>
                <a:latin typeface="Arial"/>
              </a:rPr>
              <a:t>solicitar una síntesis de las mayores fortalezas, debilidades, amenazas y oportunidad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CE34-8948-4334-9EAB-53B8B3B267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00000"/>
                </a:solidFill>
                <a:latin typeface="Arial"/>
              </a:rPr>
              <a:t>Presentación Profes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lexis Aceve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geniero Civil Industrial, U.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Magister en Gestión y Políticas Públicas, DII. U- de Chile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yudante de Proyecto Construyendo Mis Sueños, D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laborador Académico del Centro de Sistema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723D-925E-4229-94E7-69168C39FB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aso 4: Entrevista a “stakeholder” principal, elaboración de agenda y entrevistas con  otros “stakeholder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1a entrevista debiera lograr del </a:t>
            </a: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 stakeholder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principal su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visión sintética sobre cuál es el “modelo de agregación de valor de la organización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segundo propósito  debe ser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pilotear”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l cuestionario con su primer aju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s probable que se agreguen temas o el entrevistado ayude ajustar algunos temas, o a corregir por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sensibilidades institucion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C759-6CFA-4C7F-B223-E8C767741C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26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5: Entrevistas a </a:t>
            </a:r>
            <a:r>
              <a:rPr b="1" i="1" lang="es-ES" sz="3200" spc="-1" strike="noStrike">
                <a:solidFill>
                  <a:srgbClr val="c00000"/>
                </a:solidFill>
                <a:latin typeface="Arial"/>
              </a:rPr>
              <a:t>stakeholders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(aplicación del Instru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s entrevistas deberían durar mínimo 30 mins y como máximo 2 h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nificar y asegurar la ejecución de las entrevistas con los “stakeholder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Arial"/>
              </a:rPr>
              <a:t>Evitar una atmósfera de “auditoría”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y generar un ambiente de cooperación y de aportes constru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segurar desde el inicio de la entrevista la </a:t>
            </a:r>
            <a:r>
              <a:rPr b="1" lang="es-ES" sz="3500" spc="-1" strike="noStrike">
                <a:solidFill>
                  <a:srgbClr val="cc3300"/>
                </a:solidFill>
                <a:latin typeface="Arial"/>
              </a:rPr>
              <a:t>confidencialidad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piniones de los entrevi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Concentrarse en lo medular y evitar caer en los detalles men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CB9F-33BC-4F04-BFCE-8418FB1365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3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Paso 6: Identificación de los Problemas Sustantivos  y Secund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ara identificar los problemas más relevantes se requiere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ocesar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los resultados de las planillas de las entrev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se pueden agrupar del siguiente m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7FF-5D02-4708-A4A7-E004042BA2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4042730000[1]"/>
          <p:cNvPicPr/>
          <p:nvPr/>
        </p:nvPicPr>
        <p:blipFill>
          <a:blip r:embed="rId2"/>
          <a:stretch/>
        </p:blipFill>
        <p:spPr>
          <a:xfrm>
            <a:off x="-30240" y="5486400"/>
            <a:ext cx="2219400" cy="92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345440" cy="2690640"/>
          </a:xfrm>
          <a:prstGeom prst="rect">
            <a:avLst/>
          </a:prstGeom>
          <a:ln w="0">
            <a:noFill/>
          </a:ln>
        </p:spPr>
      </p:pic>
      <p:sp>
        <p:nvSpPr>
          <p:cNvPr id="4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9EDA-E00D-461A-9B0F-5A1A97751D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539640" y="722160"/>
            <a:ext cx="8136000" cy="541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1862-F496-4917-B50E-53FA354CFA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8 Imagen" descr="CSP-color+bajada small.bmp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Paso 7: Indagación en Profundidad</a:t>
            </a:r>
            <a:r>
              <a:rPr b="0" lang="es-ES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 caso de detectarse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problemas relevantes, cuyas causas no sean clara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o que estén poco precisados, se deben usar herramientas de indagación/investigación para profundiz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ntre estas herramientas se encuentran: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entrevistas, encuestas, análisis de información numérica y cualitativa, grupos focale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etc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EB9C-3D4E-44C2-9324-0731211A11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Cuando se entiende algo en su esencia, deja de verse caótico o complej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pero si se permanece en las expresiones superficiales, se tendrá que lidiar con el "enredo" durante mucho tiemp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xplicar el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“enredo” en términos de sus raíces y patrones profundos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, aclara la “película”, mientras </a:t>
            </a: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quedarse en una lista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rga de síntomas o problemas superficiales sólo incrementará la confu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3B67-D574-444F-8814-06291647CD4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8: Elaboración del Diagrama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análisis de las entrevista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y otras fuente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a s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takeholder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oblema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talezas y Debilidad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lementos resultantes del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entendimiento de la esencia del problema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(visualización de patrones e interdependencias o interaccion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ausas raíz de lo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Impactos relevantes para la consecución del objetivo(s)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Conectores unidireccionales o bidireccionale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orresponden a la graficación de interacciones entre causas raíz, problemas e impacto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237F-D6E7-4459-815C-1F93B41F79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5"/>
          <p:cNvGrpSpPr/>
          <p:nvPr/>
        </p:nvGrpSpPr>
        <p:grpSpPr>
          <a:xfrm>
            <a:off x="250920" y="476280"/>
            <a:ext cx="8642160" cy="5761080"/>
            <a:chOff x="250920" y="476280"/>
            <a:chExt cx="8642160" cy="5761080"/>
          </a:xfrm>
        </p:grpSpPr>
        <p:sp>
          <p:nvSpPr>
            <p:cNvPr id="441" name="AutoShape 46"/>
            <p:cNvSpPr/>
            <p:nvPr/>
          </p:nvSpPr>
          <p:spPr>
            <a:xfrm>
              <a:off x="250920" y="476280"/>
              <a:ext cx="8642160" cy="576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7"/>
            <p:cNvSpPr/>
            <p:nvPr/>
          </p:nvSpPr>
          <p:spPr>
            <a:xfrm>
              <a:off x="1081800" y="1410120"/>
              <a:ext cx="1537200" cy="77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o Sistema de Evalu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 Incentiv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48"/>
            <p:cNvSpPr/>
            <p:nvPr/>
          </p:nvSpPr>
          <p:spPr>
            <a:xfrm>
              <a:off x="1081800" y="4524480"/>
              <a:ext cx="1317600" cy="42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 Acredi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9"/>
            <p:cNvSpPr/>
            <p:nvPr/>
          </p:nvSpPr>
          <p:spPr>
            <a:xfrm>
              <a:off x="2883240" y="4524480"/>
              <a:ext cx="1356120" cy="59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adecuada Ca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ocente P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0"/>
            <p:cNvSpPr/>
            <p:nvPr/>
          </p:nvSpPr>
          <p:spPr>
            <a:xfrm>
              <a:off x="1819440" y="2341800"/>
              <a:ext cx="1537200" cy="532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l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Rendición de Cuent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decuado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1"/>
            <p:cNvSpPr/>
            <p:nvPr/>
          </p:nvSpPr>
          <p:spPr>
            <a:xfrm>
              <a:off x="915480" y="5459040"/>
              <a:ext cx="1830960" cy="61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Insuficien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estión Doc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2"/>
            <p:cNvSpPr/>
            <p:nvPr/>
          </p:nvSpPr>
          <p:spPr>
            <a:xfrm>
              <a:off x="1096560" y="3020400"/>
              <a:ext cx="135612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Excesiva centralización en el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53"/>
            <p:cNvSpPr/>
            <p:nvPr/>
          </p:nvSpPr>
          <p:spPr>
            <a:xfrm>
              <a:off x="5346360" y="4799520"/>
              <a:ext cx="1356120" cy="50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Puntaje 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4"/>
            <p:cNvSpPr/>
            <p:nvPr/>
          </p:nvSpPr>
          <p:spPr>
            <a:xfrm>
              <a:off x="3899520" y="2854800"/>
              <a:ext cx="1170720" cy="7621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preci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ca Educ. Sup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AutoShape 55"/>
            <p:cNvCxnSpPr/>
            <p:nvPr/>
          </p:nvCxnSpPr>
          <p:spPr>
            <a:xfrm>
              <a:off x="4313880" y="4572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Rectangle 56"/>
            <p:cNvSpPr/>
            <p:nvPr/>
          </p:nvSpPr>
          <p:spPr>
            <a:xfrm>
              <a:off x="7223760" y="2511720"/>
              <a:ext cx="1337040" cy="59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Capac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Emprendedo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7"/>
            <p:cNvSpPr/>
            <p:nvPr/>
          </p:nvSpPr>
          <p:spPr>
            <a:xfrm>
              <a:off x="5688360" y="2430360"/>
              <a:ext cx="1160280" cy="6778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Fortaleza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Técnicas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Arial"/>
                </a:rPr>
                <a:t>Investigació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58"/>
            <p:cNvSpPr/>
            <p:nvPr/>
          </p:nvSpPr>
          <p:spPr>
            <a:xfrm>
              <a:off x="5735160" y="1254600"/>
              <a:ext cx="1107720" cy="73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Desequilibri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80"/>
                  </a:solidFill>
                  <a:latin typeface="Arial"/>
                </a:rPr>
                <a:t>Financier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9"/>
            <p:cNvSpPr/>
            <p:nvPr/>
          </p:nvSpPr>
          <p:spPr>
            <a:xfrm>
              <a:off x="6996600" y="4887720"/>
              <a:ext cx="108468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aja Rentabilid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0"/>
            <p:cNvSpPr/>
            <p:nvPr/>
          </p:nvSpPr>
          <p:spPr>
            <a:xfrm>
              <a:off x="5346360" y="3901680"/>
              <a:ext cx="1265760" cy="55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la  Gest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de 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1"/>
            <p:cNvSpPr/>
            <p:nvPr/>
          </p:nvSpPr>
          <p:spPr>
            <a:xfrm>
              <a:off x="6996600" y="3956400"/>
              <a:ext cx="994320" cy="59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Ausenci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regr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AutoShape 62"/>
            <p:cNvCxnSpPr>
              <a:stCxn id="456" idx="2"/>
              <a:endCxn id="454" idx="0"/>
            </p:cNvCxnSpPr>
            <p:nvPr/>
          </p:nvCxnSpPr>
          <p:spPr>
            <a:xfrm>
              <a:off x="7493760" y="4549320"/>
              <a:ext cx="45720" cy="3387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8" name="AutoShape 63"/>
            <p:cNvCxnSpPr>
              <a:stCxn id="455" idx="3"/>
              <a:endCxn id="456" idx="1"/>
            </p:cNvCxnSpPr>
            <p:nvPr/>
          </p:nvCxnSpPr>
          <p:spPr>
            <a:xfrm>
              <a:off x="6612120" y="4181040"/>
              <a:ext cx="384840" cy="72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9" name="AutoShape 64"/>
            <p:cNvCxnSpPr>
              <a:stCxn id="454" idx="3"/>
              <a:endCxn id="453" idx="3"/>
            </p:cNvCxnSpPr>
            <p:nvPr/>
          </p:nvCxnSpPr>
          <p:spPr>
            <a:xfrm flipH="1" flipV="1">
              <a:off x="6842520" y="1622520"/>
              <a:ext cx="1238760" cy="3562200"/>
            </a:xfrm>
            <a:prstGeom prst="bentConnector3">
              <a:avLst>
                <a:gd name="adj1" fmla="val -26744"/>
              </a:avLst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0" name="AutoShape 65"/>
            <p:cNvCxnSpPr>
              <a:endCxn id="449" idx="1"/>
            </p:cNvCxnSpPr>
            <p:nvPr/>
          </p:nvCxnSpPr>
          <p:spPr>
            <a:xfrm flipH="1" flipV="1" rot="5400000">
              <a:off x="2995920" y="3647880"/>
              <a:ext cx="1288440" cy="4640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1" name="AutoShape 66"/>
            <p:cNvCxnSpPr/>
            <p:nvPr/>
          </p:nvCxnSpPr>
          <p:spPr>
            <a:xfrm flipH="1" flipV="1" rot="5400000">
              <a:off x="4570920" y="1794240"/>
              <a:ext cx="1006560" cy="10854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2" name="AutoShape 67"/>
            <p:cNvCxnSpPr>
              <a:stCxn id="444" idx="1"/>
              <a:endCxn id="443" idx="3"/>
            </p:cNvCxnSpPr>
            <p:nvPr/>
          </p:nvCxnSpPr>
          <p:spPr>
            <a:xfrm flipH="1" flipV="1">
              <a:off x="2398680" y="4736160"/>
              <a:ext cx="484200" cy="85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3" name="AutoShape 68"/>
            <p:cNvCxnSpPr>
              <a:stCxn id="451" idx="0"/>
            </p:cNvCxnSpPr>
            <p:nvPr/>
          </p:nvCxnSpPr>
          <p:spPr>
            <a:xfrm flipV="1" rot="16200000">
              <a:off x="7148160" y="1767240"/>
              <a:ext cx="677880" cy="81036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4" name="AutoShape 69"/>
            <p:cNvCxnSpPr>
              <a:endCxn id="448" idx="2"/>
            </p:cNvCxnSpPr>
            <p:nvPr/>
          </p:nvCxnSpPr>
          <p:spPr>
            <a:xfrm flipV="1">
              <a:off x="2725200" y="5307480"/>
              <a:ext cx="3300480" cy="8460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5" name="AutoShape 70"/>
            <p:cNvCxnSpPr>
              <a:stCxn id="452" idx="2"/>
              <a:endCxn id="449" idx="3"/>
            </p:cNvCxnSpPr>
            <p:nvPr/>
          </p:nvCxnSpPr>
          <p:spPr>
            <a:xfrm rot="5400000">
              <a:off x="5619240" y="2586600"/>
              <a:ext cx="128520" cy="1171440"/>
            </a:xfrm>
            <a:prstGeom prst="bentConnector2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66" name="AutoShape 71"/>
            <p:cNvCxnSpPr>
              <a:stCxn id="446" idx="0"/>
              <a:endCxn id="443" idx="2"/>
            </p:cNvCxnSpPr>
            <p:nvPr/>
          </p:nvCxnSpPr>
          <p:spPr>
            <a:xfrm flipV="1" rot="16200000">
              <a:off x="1530000" y="5157720"/>
              <a:ext cx="511920" cy="91080"/>
            </a:xfrm>
            <a:prstGeom prst="bentConnector3">
              <a:avLst>
                <a:gd name="adj1" fmla="val 50035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7" name="AutoShape 72"/>
            <p:cNvCxnSpPr>
              <a:stCxn id="445" idx="2"/>
            </p:cNvCxnSpPr>
            <p:nvPr/>
          </p:nvCxnSpPr>
          <p:spPr>
            <a:xfrm flipH="1" rot="16200000">
              <a:off x="3421440" y="2041920"/>
              <a:ext cx="1137960" cy="28036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8" name="AutoShape 73"/>
            <p:cNvCxnSpPr>
              <a:stCxn id="455" idx="2"/>
              <a:endCxn id="454" idx="0"/>
            </p:cNvCxnSpPr>
            <p:nvPr/>
          </p:nvCxnSpPr>
          <p:spPr>
            <a:xfrm>
              <a:off x="5979600" y="4460760"/>
              <a:ext cx="1559880" cy="427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69" name="AutoShape 74"/>
            <p:cNvCxnSpPr>
              <a:stCxn id="442" idx="3"/>
            </p:cNvCxnSpPr>
            <p:nvPr/>
          </p:nvCxnSpPr>
          <p:spPr>
            <a:xfrm flipV="1">
              <a:off x="2618640" y="1553400"/>
              <a:ext cx="3020760" cy="246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0" name="AutoShape 75"/>
            <p:cNvCxnSpPr>
              <a:stCxn id="446" idx="3"/>
              <a:endCxn id="444" idx="2"/>
            </p:cNvCxnSpPr>
            <p:nvPr/>
          </p:nvCxnSpPr>
          <p:spPr>
            <a:xfrm flipV="1">
              <a:off x="2746440" y="5118840"/>
              <a:ext cx="815760" cy="64836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1" name="AutoShape 76"/>
            <p:cNvCxnSpPr>
              <a:stCxn id="442" idx="1"/>
              <a:endCxn id="446" idx="1"/>
            </p:cNvCxnSpPr>
            <p:nvPr/>
          </p:nvCxnSpPr>
          <p:spPr>
            <a:xfrm flipV="1" rot="10800000">
              <a:off x="914760" y="1799280"/>
              <a:ext cx="166680" cy="3968640"/>
            </a:xfrm>
            <a:prstGeom prst="bentConnector3">
              <a:avLst>
                <a:gd name="adj1" fmla="val 300000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2" name="AutoShape 77"/>
            <p:cNvCxnSpPr>
              <a:stCxn id="447" idx="2"/>
            </p:cNvCxnSpPr>
            <p:nvPr/>
          </p:nvCxnSpPr>
          <p:spPr>
            <a:xfrm flipH="1" rot="16200000">
              <a:off x="3245760" y="2273760"/>
              <a:ext cx="600120" cy="3543480"/>
            </a:xfrm>
            <a:prstGeom prst="bentConnector2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3" name="AutoShape 78"/>
            <p:cNvCxnSpPr>
              <a:stCxn id="455" idx="2"/>
            </p:cNvCxnSpPr>
            <p:nvPr/>
          </p:nvCxnSpPr>
          <p:spPr>
            <a:xfrm flipH="1">
              <a:off x="5946120" y="4460400"/>
              <a:ext cx="33480" cy="4035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74" name="Text Box 79"/>
            <p:cNvSpPr/>
            <p:nvPr/>
          </p:nvSpPr>
          <p:spPr>
            <a:xfrm>
              <a:off x="5978880" y="3278880"/>
              <a:ext cx="20826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Gestión Departamentos/Carre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80"/>
            <p:cNvSpPr/>
            <p:nvPr/>
          </p:nvSpPr>
          <p:spPr>
            <a:xfrm>
              <a:off x="1414080" y="787320"/>
              <a:ext cx="232668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istemas Generales de Gest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6" name="AutoShape 81"/>
            <p:cNvCxnSpPr>
              <a:stCxn id="451" idx="1"/>
              <a:endCxn id="452" idx="3"/>
            </p:cNvCxnSpPr>
            <p:nvPr/>
          </p:nvCxnSpPr>
          <p:spPr>
            <a:xfrm flipH="1" flipV="1">
              <a:off x="6848280" y="2768760"/>
              <a:ext cx="375480" cy="39240"/>
            </a:xfrm>
            <a:prstGeom prst="straightConnector1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477" name="AutoShape 82"/>
            <p:cNvCxnSpPr/>
            <p:nvPr/>
          </p:nvCxnSpPr>
          <p:spPr>
            <a:xfrm>
              <a:off x="2577600" y="1877400"/>
              <a:ext cx="2689920" cy="2245680"/>
            </a:xfrm>
            <a:prstGeom prst="bentConnector3">
              <a:avLst>
                <a:gd name="adj1" fmla="val 38027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78" name="AutoShape 83"/>
            <p:cNvCxnSpPr>
              <a:stCxn id="442" idx="2"/>
              <a:endCxn id="445" idx="1"/>
            </p:cNvCxnSpPr>
            <p:nvPr/>
          </p:nvCxnSpPr>
          <p:spPr>
            <a:xfrm rot="5400000">
              <a:off x="1624680" y="2382840"/>
              <a:ext cx="420120" cy="31680"/>
            </a:xfrm>
            <a:prstGeom prst="bentConnector4">
              <a:avLst>
                <a:gd name="adj1" fmla="val 18096"/>
                <a:gd name="adj2" fmla="val 1171264"/>
              </a:avLst>
            </a:prstGeom>
            <a:ln w="57240">
              <a:solidFill>
                <a:srgbClr val="c0c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79" name="AutoShape 84"/>
            <p:cNvCxnSpPr>
              <a:stCxn id="443" idx="3"/>
              <a:endCxn id="449" idx="2"/>
            </p:cNvCxnSpPr>
            <p:nvPr/>
          </p:nvCxnSpPr>
          <p:spPr>
            <a:xfrm flipV="1">
              <a:off x="2399040" y="3642480"/>
              <a:ext cx="2086200" cy="10940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0" name="AutoShape 85"/>
            <p:cNvCxnSpPr>
              <a:stCxn id="449" idx="2"/>
              <a:endCxn id="448" idx="1"/>
            </p:cNvCxnSpPr>
            <p:nvPr/>
          </p:nvCxnSpPr>
          <p:spPr>
            <a:xfrm flipH="1" rot="16200000">
              <a:off x="4210200" y="3917520"/>
              <a:ext cx="1411560" cy="861840"/>
            </a:xfrm>
            <a:prstGeom prst="bentConnector2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81" name="4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5915-7C76-4D7E-8358-9B005B8056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Paso 9: Validación de los resultados preliminares del AO con lo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Los resultados preliminares del AO deberán ser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presentados a los “stakeholders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”, de manera gráfica y didác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punto clave del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éxito de la validación es llegar al máximo grado de consenso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políticamente posible entre los principales “stakeholders” y el analista respecto al 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EC27-8B12-451E-A174-E9EDE69E58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1. Presentación General del Taller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Taller de AO sirve para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aplicar”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/enfoques del Diploma y 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“conocer y practicar una herramien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método será intensivo en</a:t>
            </a:r>
            <a:r>
              <a:rPr b="1" lang="es-CL" sz="2400" spc="-1" strike="noStrike">
                <a:solidFill>
                  <a:srgbClr val="c00000"/>
                </a:solidFill>
                <a:latin typeface="Arial"/>
              </a:rPr>
              <a:t> trabajo de grupo, revisión documental, preparación de instrumento, investigación de campo y sesiones tutoriales 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senciales/</a:t>
            </a:r>
            <a:r>
              <a:rPr b="1" i="1" lang="es-CL" sz="2400" spc="-1" strike="noStrike">
                <a:solidFill>
                  <a:srgbClr val="333399"/>
                </a:solidFill>
                <a:latin typeface="Arial"/>
              </a:rPr>
              <a:t>on line</a:t>
            </a: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752C-8DDE-4003-9A8E-CCBC13F9FE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Calibri"/>
                <a:ea typeface="Times New Roman"/>
              </a:rPr>
              <a:t>FACTORES CRÍTICOS PARA LA APLICACIÓN DEL 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La relevancia de los resultados del AO depende de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selección adecuada que se haga de los ámbito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indagación importantes para el programa u organización en cu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3300"/>
                </a:solidFill>
                <a:latin typeface="Arial"/>
              </a:rPr>
              <a:t>Calidad Instr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alidad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la aplicación de entrevistas a los beneficiarios directos del programa u organización aporta con percepciones directas sobre los principales problemas y riesg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álisis y síntesis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de conclusiones… en un ELEVADO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 PROCESO REFLEXIVO Y GRUPAL, CON TIEMP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, permite concentrarse en lo medular y evitar caer en los detalles men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l Diagram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O debe hacerse apurado a ultima hora, debe MADURARSE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B3F3-5008-4660-A7AB-3810753FCA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c00000"/>
                </a:solidFill>
                <a:latin typeface="Arial"/>
              </a:rPr>
              <a:t>Contenido de la Presentación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8560" y="1196640"/>
            <a:ext cx="87850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Presentación Formal y datos básicos (2 lámin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Modelo de Negocio (2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3. Principales Hallazgos de Fuentes Secunda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4. Principales Hallazgos de Instrumento-encuesta (3 lámi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5  Identificación de Problemas Principal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6. “Diagrama Sistémico”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7. Conclusiones (1 lám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333399"/>
                </a:solidFill>
                <a:latin typeface="Calibri"/>
              </a:rPr>
              <a:t>**Pueden escribir notas en el pp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ANEX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Listado de Entrevistad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y Fuentes Revisadas </a:t>
            </a:r>
            <a:r>
              <a:rPr b="1" lang="es-CL" sz="1600" spc="-1" strike="noStrike">
                <a:solidFill>
                  <a:srgbClr val="cc3300"/>
                </a:solidFill>
                <a:latin typeface="Calibri"/>
              </a:rPr>
              <a:t>(subir a U-Curs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ENTREGABL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PPT en U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6BF6-DA2F-4E68-908B-63F18937E3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00000"/>
                </a:solidFill>
                <a:latin typeface="Arial"/>
              </a:rPr>
              <a:t>Dimensiones a Evaluar.</a:t>
            </a:r>
            <a:br>
              <a:rPr sz="4400"/>
            </a:b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ste Módulo vale el </a:t>
            </a:r>
            <a:r>
              <a:rPr b="0" lang="es-CL" sz="2000" spc="-1" strike="noStrike">
                <a:solidFill>
                  <a:srgbClr val="cc3300"/>
                </a:solidFill>
                <a:latin typeface="Arial"/>
              </a:rPr>
              <a:t>dobl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otros Módul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oceso de Trabajo (20%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Presentación (80%)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laridad Ex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so adecuado de la 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tilización Adecuada de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 mirada sisté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de las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Calidad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D73C-DAA9-4D0D-86FA-BC910AB9B2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MCj04042730000[1]"/>
          <p:cNvPicPr/>
          <p:nvPr/>
        </p:nvPicPr>
        <p:blipFill>
          <a:blip r:embed="rId2"/>
          <a:stretch/>
        </p:blipFill>
        <p:spPr>
          <a:xfrm>
            <a:off x="6954840" y="4913280"/>
            <a:ext cx="2219400" cy="92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Recomendaciones Prác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o intensivo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U-CURSO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: coloc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las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preguntas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, mirar respuestas para otros grup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Consultar a ayudante y profesor vía U-Curso.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TODA DUDA ES V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Solicitar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reuniones con anticipación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en SEC) Se estima asesoría presencial de 2 ½ por grupo en promedio (extra clas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Usar intensivamente herramientas TICs de </a:t>
            </a:r>
            <a:r>
              <a:rPr b="1" lang="es-CL" sz="2000" spc="-1" strike="noStrike">
                <a:solidFill>
                  <a:srgbClr val="c00000"/>
                </a:solidFill>
                <a:latin typeface="Arial"/>
              </a:rPr>
              <a:t>coordinación intergrupal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(SKYPE AUDIO/Video, TALK, googledocs, googlegroups,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QUE LOS GRUPOS COLABOREN ENTRE SÍ (no es competencia) compartan información ideas, experiencia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586-4C88-40B5-8DC5-FAF029F391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00000"/>
                </a:solidFill>
                <a:latin typeface="Arial"/>
              </a:rPr>
              <a:t>Formación de GRUP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467B-885C-47AB-AC17-CD4F07369B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GUÍA DE METODOLÓGICA PARA </a:t>
            </a:r>
            <a:br>
              <a:rPr sz="3200"/>
            </a:b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ÁNALISIS DE ORGANIZACIONES</a:t>
            </a: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” </a:t>
            </a:r>
            <a:br>
              <a:rPr sz="4000"/>
            </a:br>
            <a:br>
              <a:rPr sz="2000"/>
            </a:b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ocumento para fines Docentes</a:t>
            </a:r>
            <a:br>
              <a:rPr sz="4000"/>
            </a:b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Versión Abril 2010 </a:t>
            </a:r>
            <a:r>
              <a:rPr b="0" i="1" lang="es-ES" sz="2400" spc="-1" strike="noStrike">
                <a:solidFill>
                  <a:srgbClr val="cc3300"/>
                </a:solidFill>
                <a:latin typeface="Arial"/>
              </a:rPr>
              <a:t>(puede ser mejorada en el transcurso del Taller)</a:t>
            </a:r>
            <a:br>
              <a:rPr sz="4000"/>
            </a:b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(bajar de U-CURSO)</a:t>
            </a:r>
            <a:br>
              <a:rPr sz="1600"/>
            </a:br>
            <a:br>
              <a:rPr sz="4000"/>
            </a:b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res: </a:t>
            </a: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Mario Waissbluth y José Inostroza</a:t>
            </a:r>
            <a:br>
              <a:rPr sz="1600"/>
            </a:br>
            <a:r>
              <a:rPr b="1" lang="es-ES" sz="1600" spc="-1" strike="noStrike">
                <a:solidFill>
                  <a:srgbClr val="cc3300"/>
                </a:solidFill>
                <a:latin typeface="Arial"/>
              </a:rPr>
              <a:t>con la colaboración de Natalie Gonzá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740720" y="551664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</a:t>
            </a:r>
            <a:r>
              <a:rPr b="1" lang="es-ES" sz="4000" spc="-1" strike="noStrike">
                <a:solidFill>
                  <a:srgbClr val="000080"/>
                </a:solidFill>
                <a:latin typeface="Calibri"/>
                <a:ea typeface="Times New Roman"/>
              </a:rPr>
              <a:t>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análisis organizacional (AO) es un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herramienta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irve para hace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iagnósticos sobre la gestión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 las organizaciones y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os sustentos teóricos de esta metodología son, por una parte, la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visión de las organizaciones como sistemas complejos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l uso d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lógica difusa, y el concepto  MUY IMPORTANTE de VALOR PÚBLICO (MO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ólo recordaremos que la teoría de sistemas complejos señala que las organizaciones tienen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múltiples variables asociadas a su desempeño que interactúan entre sí,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de maneras típicamente </a:t>
            </a:r>
            <a:r>
              <a:rPr b="1" i="1" lang="es-ES" sz="2400" spc="-1" strike="noStrike">
                <a:solidFill>
                  <a:srgbClr val="c00000"/>
                </a:solidFill>
                <a:latin typeface="Arial"/>
              </a:rPr>
              <a:t>no lineales, con subunidades autónomas,  generando “propiedades emergente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FDBA-E6F3-488F-AA62-B639BF24A7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93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La Guía de AO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formaliza los pasos de un proceso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“diagnóstico sistémico” (</a:t>
            </a:r>
            <a:r>
              <a:rPr b="1" i="1" lang="es-ES" sz="2800" spc="-1" strike="noStrike">
                <a:solidFill>
                  <a:srgbClr val="cc3300"/>
                </a:solidFill>
                <a:latin typeface="Arial"/>
              </a:rPr>
              <a:t>lado derecho del cerebro!</a:t>
            </a: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) ,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especialmente pensando en organizacione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l resultado debería ser  una compren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l modo de funcionamiento general de una organización públ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 sus principales problemas, fortalezas,  debilidad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y un análisis las relaciones entre los distintos factores que influyen en gest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F02-6026-4983-BA76-197013C09B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1. INTRODUCCIÓN Y CARACTERÍSTICAS GENER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La guía se focaliza más en los aspectos de la gestión/implementación,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 “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ómo hacer”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in embargo, el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unto de partida del  diagnosticador debe ser una </a:t>
            </a:r>
            <a:r>
              <a:rPr b="1" lang="es-ES" sz="3200" spc="-1" strike="noStrike">
                <a:solidFill>
                  <a:srgbClr val="c00000"/>
                </a:solidFill>
                <a:latin typeface="Arial"/>
              </a:rPr>
              <a:t>comprensión plena del “qué hacer”(política pública) y su contexto pol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31C5-31D0-411D-8EF1-CD6358B303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8 Imagen" descr="CSP-color+bajada small.bmp"/>
          <p:cNvPicPr/>
          <p:nvPr/>
        </p:nvPicPr>
        <p:blipFill>
          <a:blip r:embed="rId1"/>
          <a:stretch/>
        </p:blipFill>
        <p:spPr>
          <a:xfrm>
            <a:off x="7738920" y="0"/>
            <a:ext cx="1405080" cy="495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0" y="5445000"/>
            <a:ext cx="1403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2:33:51Z</dcterms:created>
  <dc:creator>Jinostroza</dc:creator>
  <dc:description/>
  <dc:language>en-US</dc:language>
  <cp:lastModifiedBy>Esteli</cp:lastModifiedBy>
  <dcterms:modified xsi:type="dcterms:W3CDTF">2010-11-19T13:16:17Z</dcterms:modified>
  <cp:revision>26</cp:revision>
  <dc:subject/>
  <dc:title>Método de Diagnóstico Institucional Curso: Tópicos de Gestión Pública MGPP</dc:title>
</cp:coreProperties>
</file>