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3AE0-5698-4C0A-8FE4-562AFF3ACA9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346-7C18-439B-9297-E93FEE76CC5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375-D29F-4371-B75D-17026BAC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572-0302-42E9-A131-88FEC84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FC9-E3F9-4E66-9D08-645C1A3E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F28-D97F-43D7-A956-B85FEB7C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913-3088-4008-80C9-22002C2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AA5-58CB-4A44-BDFC-A4033E6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511-569A-4C8D-9EF7-9825D0CA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7C7-177C-4AFE-9250-3FD448B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0DE-763D-4946-9FEA-6CAEA550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E36-5301-4497-858B-DB4A2F3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A51-2615-4594-B368-4212054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504-6F71-47E2-8D25-82CA7F07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34A-3DC9-41E0-A302-2E59BE0B8FF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inim.gov.cl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PLOMADO EN GESTION ESTRATEGICA EDUC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TALLER: FINANZAS EN LA GESTION EDUCATIVA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gunda S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abajo Grupal próxima sesión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5 de abr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onsulta a grupo apoderados sobre aspectos que consideran debe mejorar el coleg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Ubicar a 2 o 3 apoderados que han retirado sus hijos en los últimos 3 años (que no sea por cambio de domicilio) para conocer las razo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Ubicar un PS para observarlo y establecer diferencias.  Si se puede hablar con algunos apoderados para conocer sus percepciones y aspectos  que mas valoran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GUNDA 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Finanzas Municip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importancia de las finanzas municip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y dos datos claves que nos obligan a mirar las finanzas municip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subvención escolar que cancela Mineduc no cubre siquiera los gastos de remuneraciones del 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municipios aportan una cifra muy importante de sus presupuestos para cofinanciar la educ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importancia de las finanzas municip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realizar la tarea educativa hay tres componentes claves sin los cuales no es posible llevar adelante la mis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oc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tudi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ursos económicos, financia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Un primer dato para entrar en materia: 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la subvención cubre solo el 85% de las remuneraciones del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INIM.GOV.CL/</a:t>
            </a: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781360"/>
            <a:ext cx="77724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98989"/>
                </a:solidFill>
                <a:latin typeface="Calibri"/>
              </a:rPr>
              <a:t>LAS FINANZAS MUNICIPALES: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Compon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año 2009 los municipios del país administraron casi M$ 2.000.000.000 (o 2 billones), compuestos por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no incluye aporte Mineduc y Minsal para educación y salud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M$ 1.500.000.000 de Ingresos Propi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M$    500.000.000 de Transferencias del Nivel Cent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alibri"/>
              </a:rPr>
              <a:t>Aproximadamente 125 mil pesos año por habitante de nuestro paí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Los cuadros que sigue presenta la evolución en el tiempo (20 años) de los ingresos Municip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tinción en los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os Ingresos Totales suman MM$ 2.000, de los cuales MM$ 1.500 son </a:t>
            </a: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gresos propios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; ¿qué son los IP? y MM$ 500 corresponden a aportes del nivel central para financiar inversiones o programas so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mo se ve en la imagen durante las 2 décadas se ha mantenido un crecimiento persiste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Los ingresos municipales son aproximadamente el 10% de los ingresos fis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Ingresos Propios (IP) se componen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- Ingresos Propios Permanentes (IPP): Patentes, Permisos,   Contribuciones, Concesiones, Rentas. Suman MM$ 8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- Fondo Común Municipal, sistema redistributivo intra-municipal, se constituye con parte de los IPP y un casi miserable aporte Estatal.  Suman MM$ 63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Fuentes de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mpuesto Territorial = Contribu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tentes Municip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miso de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Otros Derechos (urbanización y construcciones, propagand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rechos de Explo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rechos de As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tomado la sesión a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Presentam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Objetivo General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ncorporar las dimensiones financieras -ingresos-gastos- , a la gestión de administración de los establecimientos de educación de la Municipalidad de La Gr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Objetivos específic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Conocer las fuentes de financia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nformarse sobre estructura financiera del Municipi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Identificar los costos de cada estableci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- Reconocer la importancia de diferentes variables en los resultados fina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obre Impuesto Terri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la principal recaudación = MM$ 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 Chile hay 5,7 millones de predios (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grícolas y no agrícola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 de los cuales están afectos al I.T. poco menos de 2 millones (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l 65% está exent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entras en las 8 comunas de mayor desarrollo el 89% paga, en las otras 437 comunas el promedio exento supera el 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obre la Recau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 los cuadros siguientes veremos una situación sorprendente, la gran concentración de la recaudación de los tributos y como el FCM opera para amortiguar el impa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municipios en Chile son tremendamente desig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38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ncentración de la Recau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 50% de la recaudación de los Ingresos Propios Permanentes lo hacen 14 Municipios. El Fondo Común Municipal aminora la tremenda concentración de los ingr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Condes, Santiago y Providencia son los que encabezan el grupo de mayores ingre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ondo Común Municipal (F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un fondo solidario, redistributivo que se constituye con los aportes de parte de la recaudación de todos los muni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componentes del fondo son: Impuesto Territorial, Permisos de Circulación y Patentes Comerciales de 4 comun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u distribución está relacionada con variables como: pobreza, ruralidad, población, escolarid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Nivel de Dependencia FC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Ba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s Condes            =   1,3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Barnechea        =   3,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an Miguel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  8,0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Ñuño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  8,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cul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= 16,0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A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 Pintan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78,4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uente Alto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71,5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La Granja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            = 64,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Prado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5,6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C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3,8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a Florid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           = 52,7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ariable determina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reo que coincidimos en la Matrícula como la variable determinante en el financiamiento actual de la educa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tre el 2001 y 2009 la matrícula disminuyo en un 25%. Uno de cada Cuatro alumnos ya no están en nuestros establecimient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os últimos años se han perdido 500 alumnos por añ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mbién hablamos de la asistencia como fa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ducación y Sal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s aportes globales a estos 2 sectores alcanzaron al 13% del total de ingresos propios municipales el año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utoridades municipales desde hace varios años vienen indicando que estos servicios, si bien son centrales en sus gestiones,  conllevan un cargo financiero muy al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es Ga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unicipalidad de La Gr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Cifras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munas Compa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s ig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s que aspir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os Ingr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844640"/>
          <a:ext cx="8209080" cy="4537080"/>
        </p:xfrm>
        <a:graphic>
          <a:graphicData uri="http://schemas.openxmlformats.org/drawingml/2006/table">
            <a:tbl>
              <a:tblPr/>
              <a:tblGrid>
                <a:gridCol w="5575320"/>
                <a:gridCol w="2633760"/>
              </a:tblGrid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(M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35.2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93.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56.7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(IPP + F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50.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s Nivel C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85.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cia F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er cáp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a Granja municipio po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de el punto de vista municipal La Granja es pobre, como dijimos anteriormente el Per Cápita nacional era de $ 125.000 anuales, mientras el de esta comuna alcanza a solo $ 79.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os Ga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009 (M$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Gastos en Bienes y Serv. Consumo $ 4.072.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sonal Municipal y Programas     $ 3.029.1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nsferencia a Educación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 $    650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nsferencia a Salud                        $    385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orcentaje  Transfl. a educación  y salud = 1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Financiamiento de la Edu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blar de matrícula y asistencia es hablar del financiamiento de la edu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o dije en la clase anterior, La Granja dejó de percibir aproximadamente 25 millones mensuales por la caída de 500 alumnos respecto del año anter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 igual manera pierden muchos recursos por la baja asist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rvicios a la Comun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ctricidad (alumbrado público) $ 1.232.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se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1.333.5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gua y Mantención Jardine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234.1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ntención alumbrad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113.1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ntención semáforo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  19.3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ñalética de tránsito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$      28.8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ver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Granja tuvo una disponibilidad presupuestaria durante el año 2009 algo inferior al 8% para realizar inversiones, es decir poco menos de $ 800 mill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os sabemos que la inversión es la palanca del crec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 dicho porcentaje debe ser muy difícil de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ar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atisfacción a la demandas de progreso de los distintos barrios y segmentos de la com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aldo Presupues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ero ($ 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óxim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xaminaremos las finanzas del sector educación, tanto para el sistema municipal en su conjunto como para La G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rovecharemos de mirar cifras comparativas entre esta comuna y las que ustedes mencionaron como parecidas o les gustaría parecer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ara terminar sobre Trabajo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 por establec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atos duros: matrícula y asistencia últimos 5 años; ingresos por subvención 2010; gastos en personal 2010; otros gastos (luz, agua, fono, caja chic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 de incremento de ingresos (matrícula, asistencia, otr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juste de Ga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os vemos el Martes 5 de ab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población como factor explic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n la sesión anterior se habló del tema demográf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l Censo 2002 determinó para La Granja una población de 132.520 personas y una proyección de disminución que el 2009 alcanzarían los 126.125 personas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l 2009 la población escolar que estudiaba en La Granja eran aproximadamente 21.200 alumnos; de ellos en los establecimientos municipales lo hacían solo 8.3000 (el 39%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Un dato reciente me indica que en diciembre pasado quedaban 7.508 estudiant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egunta cl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odas las escuelas-liceos están afectadas de la misma form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scucharemos las presentaciones que acordamos la semana pasada, de la escuela Sanitas y del liceo Frías Valenzue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Quiero aclarar que no se trata de un ejercicio para culpabilizar  o ensalzar a nadie, sino para mirar con otros oj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íntesis factores diferenci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osi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Neg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al factores en la matríc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n lugar a dudas hay una disminución de población en edad escolar, en Chile cada vez nacen menos personas y la población se envej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o, el factor principal es la 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competencias;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uestro (vuestro) problema son los colegios particulares subvencionados que hoy (2009) tienen casi 13.000 estudian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nocer la compet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abemos cuales son nuestras fortalezas y cuales son los aspectos de nuestras prácticas que debemos modif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ero una mirada a como lo hacen los otros, la competencia, nos puede ayudar recoger aspectos que nos sirvan para mejorar aún mas lo nues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íntesis trabajo Culagovsk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0:30:02Z</dcterms:created>
  <dc:creator>fernando echeverria</dc:creator>
  <dc:description/>
  <dc:language>en-US</dc:language>
  <cp:lastModifiedBy>.</cp:lastModifiedBy>
  <dcterms:modified xsi:type="dcterms:W3CDTF">2011-03-22T18:56:19Z</dcterms:modified>
  <cp:revision>61</cp:revision>
  <dc:subject/>
  <dc:title>DIPLOMADO EN GESTION ESTRATEGICA EDUCATIVA</dc:title>
</cp:coreProperties>
</file>