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654-63D6-4B98-A17E-E86A7408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E8A-A932-4D71-9ED2-0D3228AE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D7D-BA50-4ADE-AEA3-60EEF3EC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B68-88EE-4A26-8404-B665FCB5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43D-1C45-4667-9FA2-EE159D4F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7C2-FF97-4C32-BF71-F1CEFCEA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836-9921-47A5-84F9-F7C027FD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ABD-84ED-4D75-9C1B-C646CFD6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A65-8323-4028-BAC2-9AB617DD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D96-8A8C-41E7-B14E-08895A60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678-94FE-45F7-A3EF-8CBCA9BF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4CC-6A41-4B4A-BC9C-F9B1C790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D8FE-E4FD-426E-B32E-1293251E1E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* Observen que se supuso que el tiempo transcurre igualmente en ambos sistemas  (GALILEO… ¿Verdad?... Si las velocidades relativas son pequeñas comparadas con c, entonces es verdad!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90520" y="3693960"/>
            <a:ext cx="8273880" cy="1390680"/>
            <a:chOff x="290520" y="3693960"/>
            <a:chExt cx="8273880" cy="13906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290520" y="3693960"/>
                  <a:ext cx="827388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rriente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rriente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395280" y="386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80" y="4581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1280" y="386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88000" y="3860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85080" y="4581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Velocidad rel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000000"/>
                </a:solidFill>
                <a:latin typeface="Arial"/>
              </a:rPr>
              <a:t>En general, para un móvil A que se mueve c/r a un sistema de referencia O´ que se mueve a su vez c/r a un sistema de referencia O se tendrá que el vector posición de A c/r a O 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76360" y="4203720"/>
            <a:ext cx="5361120" cy="1025640"/>
            <a:chOff x="1476360" y="4203720"/>
            <a:chExt cx="5361120" cy="1025640"/>
          </a:xfrm>
        </p:grpSpPr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1476360" y="4203720"/>
                  <a:ext cx="536112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O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O</m:t>
                              </m:r>
                            </m:den>
                          </m:f>
                          <m:r>
                            <m:t xml:space="preserve">´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  <m:r>
                            <m:rPr>
                              <m:lit/>
                              <m:nor/>
                            </m:rPr>
                            <m:t xml:space="preserve">´/</m:t>
                          </m:r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1547640" y="4491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92360" y="4491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5640" y="4491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Ejercicio mental … </a:t>
            </a: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MX" sz="27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=20 Km/h  y V</a:t>
            </a:r>
            <a:r>
              <a:rPr b="0" lang="es-MX" sz="27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=10 Km/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1) Considere un intervalo de una h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2) La corriente del canal se deti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el barco se desplaza 20 Km. desde 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O´ a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3) Deje fluir la corriente del canal y suponga que el barco no se propul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el barco se desplaza 10 Km. des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P a P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330200" y="3716280"/>
                <a:ext cx="649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403280" y="5734080"/>
                <a:ext cx="7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desplazamiento total durante la hora, es la superposición de ambos desplazamientos, ie, el vector de O hasta 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68600" y="3484440"/>
            <a:ext cx="4701600" cy="2492640"/>
            <a:chOff x="1668600" y="3484440"/>
            <a:chExt cx="4701600" cy="2492640"/>
          </a:xfrm>
        </p:grpSpPr>
        <p:sp>
          <p:nvSpPr>
            <p:cNvPr id="193" name=""/>
            <p:cNvSpPr/>
            <p:nvPr/>
          </p:nvSpPr>
          <p:spPr>
            <a:xfrm>
              <a:off x="6037200" y="3500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668600" y="3500280"/>
              <a:ext cx="1701360" cy="2476800"/>
              <a:chOff x="1668600" y="3500280"/>
              <a:chExt cx="1701360" cy="247680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3040" y="350028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2147760" y="3789360"/>
                <a:ext cx="93528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20680" y="56088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668600" y="3521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75960" y="48531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795400" y="4797360"/>
                <a:ext cx="57456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39960" y="4363920"/>
                <a:ext cx="74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20 K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495680" y="3500280"/>
              <a:ext cx="1700640" cy="2476800"/>
              <a:chOff x="4495680" y="3500280"/>
              <a:chExt cx="1700640" cy="2476800"/>
            </a:xfrm>
          </p:grpSpPr>
          <p:sp>
            <p:nvSpPr>
              <p:cNvPr id="203" name=""/>
              <p:cNvSpPr/>
              <p:nvPr/>
            </p:nvSpPr>
            <p:spPr>
              <a:xfrm>
                <a:off x="5910120" y="350028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4974480" y="3789360"/>
                <a:ext cx="93492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47760" y="56088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95680" y="3521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02680" y="48531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622480" y="4797360"/>
                <a:ext cx="57384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66680" y="4363920"/>
                <a:ext cx="74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20 K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029200" y="378936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0480" y="348444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10 K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movimiento en la dirección     no altera las leyes que rigen el movimiento en la dirección     , y vicevers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Ambos movimientos pueden ser analizad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n forma separ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16000" y="1557360"/>
            <a:ext cx="5670720" cy="2232000"/>
            <a:chOff x="1116000" y="1557360"/>
            <a:chExt cx="5670720" cy="223200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116000" y="3414600"/>
                  <a:ext cx="4316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148360" y="1557360"/>
                  <a:ext cx="2412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i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486480" y="1957320"/>
                  <a:ext cx="30024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e lanza un objeto con velocidad horizontal     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la partícula se ubica al borde de un edificio de altura h. ¿A que distancia del borde tocará el piso este obje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093080" y="1555920"/>
                <a:ext cx="357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6920" y="3357720"/>
            <a:ext cx="6859080" cy="4896000"/>
            <a:chOff x="736920" y="3357720"/>
            <a:chExt cx="6859080" cy="4896000"/>
          </a:xfrm>
        </p:grpSpPr>
        <p:sp>
          <p:nvSpPr>
            <p:cNvPr id="227" name=""/>
            <p:cNvSpPr/>
            <p:nvPr/>
          </p:nvSpPr>
          <p:spPr>
            <a:xfrm>
              <a:off x="1403280" y="3862080"/>
              <a:ext cx="1440000" cy="21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38200" y="4222440"/>
              <a:ext cx="21744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38200" y="4655880"/>
              <a:ext cx="21744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8200" y="5087520"/>
              <a:ext cx="2174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34920" y="4222440"/>
              <a:ext cx="21780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34920" y="4655880"/>
              <a:ext cx="21780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34920" y="5086080"/>
              <a:ext cx="21780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55640" y="364608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03280" y="6022800"/>
              <a:ext cx="619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57480" y="3790800"/>
              <a:ext cx="5762160" cy="44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43280" y="37908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14560" y="37908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91280" y="34304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3640" y="3377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3280" y="623880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1640" y="618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7280" y="386208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6920" y="474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914560" y="3357720"/>
                  <a:ext cx="30636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as  ecuaciones será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059280" y="2276640"/>
                <a:ext cx="2665080" cy="23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627280" y="1844640"/>
                <a:ext cx="2670120" cy="43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uego, reemplazando el valor del tiempo obteni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2205000"/>
                <a:ext cx="1944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000000"/>
                </a:solidFill>
                <a:latin typeface="Arial"/>
              </a:rPr>
              <a:t>Posición, velocidad y aceleración en do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700" spc="-1" strike="noStrike">
                <a:solidFill>
                  <a:srgbClr val="ff0000"/>
                </a:solidFill>
                <a:latin typeface="Arial"/>
              </a:rPr>
              <a:t>Habíamos visto q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7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38400" y="3036960"/>
            <a:ext cx="2706840" cy="2624040"/>
            <a:chOff x="3038400" y="3036960"/>
            <a:chExt cx="2706840" cy="262404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3038400" y="3036960"/>
                  <a:ext cx="2706840" cy="26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8" name=""/>
            <p:cNvSpPr/>
            <p:nvPr/>
          </p:nvSpPr>
          <p:spPr>
            <a:xfrm>
              <a:off x="3132000" y="328428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40766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32000" y="501300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Movimiento relativo,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276640"/>
            <a:ext cx="787572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Una persona camina sobre la cubierta de un barco. Su velocidad con respecto al barco (relativa),se puede determinar usando las definiciones dadas anteriormente 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tomando como sistema de referencia el barc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Ahora bien, para un observador ubicado en la orilla, la situación es COMPLETAMENTE diferente pues debe sumarle a la velocidad del pasajero relativa  al barco, la velocidad del barco mis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003640" y="5357880"/>
                <a:ext cx="3672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LILE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Movimiento rel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Cuando se habla de velocidad se debe indicar el sistema de referencia con respecto al cual ésta se está midien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En este sentido se emplea el término </a:t>
            </a:r>
            <a:r>
              <a:rPr b="0" lang="es-MX" sz="2500" spc="-1" strike="noStrike">
                <a:solidFill>
                  <a:srgbClr val="6666ff"/>
                </a:solidFill>
                <a:latin typeface="Arial"/>
              </a:rPr>
              <a:t>velocidad relativ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En estricto rigor todas las velocidades son relativas, pero en la práctica, se usa sólo cuando hay más de un sistema de referencia </a:t>
            </a:r>
            <a:r>
              <a:rPr b="0" lang="es-MX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1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La corriente de un canal tiene una velocidad V</a:t>
            </a:r>
            <a:r>
              <a:rPr b="0" lang="es-MX" sz="2500" spc="-1" strike="noStrike" baseline="-25000">
                <a:solidFill>
                  <a:srgbClr val="ff0000"/>
                </a:solidFill>
                <a:latin typeface="Arial"/>
              </a:rPr>
              <a:t>C 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en dirección sur. Un barco navega en dirección de 30° Nor-este con una velocidad de V</a:t>
            </a:r>
            <a:r>
              <a:rPr b="0" lang="es-MX" sz="25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con respecto a la corriente del ca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¿Cuál es la velocidad del barco según un observador situado en la orilla?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66560" y="1989000"/>
            <a:ext cx="8066160" cy="4275360"/>
            <a:chOff x="466560" y="1989000"/>
            <a:chExt cx="8066160" cy="4275360"/>
          </a:xfrm>
        </p:grpSpPr>
        <p:grpSp>
          <p:nvGrpSpPr>
            <p:cNvPr id="64" name=""/>
            <p:cNvGrpSpPr/>
            <p:nvPr/>
          </p:nvGrpSpPr>
          <p:grpSpPr>
            <a:xfrm>
              <a:off x="466560" y="1989000"/>
              <a:ext cx="8066160" cy="4275360"/>
              <a:chOff x="466560" y="1989000"/>
              <a:chExt cx="8066160" cy="42753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466560" y="1989000"/>
                <a:ext cx="8066160" cy="4060800"/>
                <a:chOff x="466560" y="1989000"/>
                <a:chExt cx="8066160" cy="40608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539640" y="5291280"/>
                  <a:ext cx="7993080" cy="380880"/>
                </a:xfrm>
                <a:custGeom>
                  <a:avLst/>
                  <a:gdLst/>
                  <a:ahLst/>
                  <a:rect l="l" t="t" r="r" b="b"/>
                  <a:pathLst>
                    <a:path w="5035" h="240">
                      <a:moveTo>
                        <a:pt x="0" y="233"/>
                      </a:moveTo>
                      <a:cubicBezTo>
                        <a:pt x="181" y="150"/>
                        <a:pt x="363" y="67"/>
                        <a:pt x="544" y="52"/>
                      </a:cubicBezTo>
                      <a:cubicBezTo>
                        <a:pt x="725" y="37"/>
                        <a:pt x="930" y="120"/>
                        <a:pt x="1089" y="143"/>
                      </a:cubicBezTo>
                      <a:cubicBezTo>
                        <a:pt x="1248" y="166"/>
                        <a:pt x="1354" y="188"/>
                        <a:pt x="1497" y="188"/>
                      </a:cubicBezTo>
                      <a:cubicBezTo>
                        <a:pt x="1640" y="188"/>
                        <a:pt x="1791" y="136"/>
                        <a:pt x="1950" y="143"/>
                      </a:cubicBezTo>
                      <a:cubicBezTo>
                        <a:pt x="2109" y="150"/>
                        <a:pt x="2283" y="226"/>
                        <a:pt x="2449" y="233"/>
                      </a:cubicBezTo>
                      <a:cubicBezTo>
                        <a:pt x="2615" y="240"/>
                        <a:pt x="2782" y="226"/>
                        <a:pt x="2948" y="188"/>
                      </a:cubicBezTo>
                      <a:cubicBezTo>
                        <a:pt x="3114" y="150"/>
                        <a:pt x="3235" y="14"/>
                        <a:pt x="3447" y="7"/>
                      </a:cubicBezTo>
                      <a:cubicBezTo>
                        <a:pt x="3659" y="0"/>
                        <a:pt x="4021" y="120"/>
                        <a:pt x="4218" y="143"/>
                      </a:cubicBezTo>
                      <a:cubicBezTo>
                        <a:pt x="4415" y="166"/>
                        <a:pt x="4491" y="143"/>
                        <a:pt x="4627" y="143"/>
                      </a:cubicBezTo>
                      <a:cubicBezTo>
                        <a:pt x="4763" y="143"/>
                        <a:pt x="4899" y="143"/>
                        <a:pt x="5035" y="14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66560" y="1989000"/>
                  <a:ext cx="7993080" cy="381240"/>
                </a:xfrm>
                <a:custGeom>
                  <a:avLst/>
                  <a:gdLst/>
                  <a:ahLst/>
                  <a:rect l="l" t="t" r="r" b="b"/>
                  <a:pathLst>
                    <a:path w="5035" h="240">
                      <a:moveTo>
                        <a:pt x="0" y="233"/>
                      </a:moveTo>
                      <a:cubicBezTo>
                        <a:pt x="181" y="150"/>
                        <a:pt x="363" y="67"/>
                        <a:pt x="544" y="52"/>
                      </a:cubicBezTo>
                      <a:cubicBezTo>
                        <a:pt x="725" y="37"/>
                        <a:pt x="930" y="120"/>
                        <a:pt x="1089" y="143"/>
                      </a:cubicBezTo>
                      <a:cubicBezTo>
                        <a:pt x="1248" y="166"/>
                        <a:pt x="1354" y="188"/>
                        <a:pt x="1497" y="188"/>
                      </a:cubicBezTo>
                      <a:cubicBezTo>
                        <a:pt x="1640" y="188"/>
                        <a:pt x="1791" y="136"/>
                        <a:pt x="1950" y="143"/>
                      </a:cubicBezTo>
                      <a:cubicBezTo>
                        <a:pt x="2109" y="150"/>
                        <a:pt x="2283" y="226"/>
                        <a:pt x="2449" y="233"/>
                      </a:cubicBezTo>
                      <a:cubicBezTo>
                        <a:pt x="2615" y="240"/>
                        <a:pt x="2782" y="226"/>
                        <a:pt x="2948" y="188"/>
                      </a:cubicBezTo>
                      <a:cubicBezTo>
                        <a:pt x="3114" y="150"/>
                        <a:pt x="3235" y="14"/>
                        <a:pt x="3447" y="7"/>
                      </a:cubicBezTo>
                      <a:cubicBezTo>
                        <a:pt x="3659" y="0"/>
                        <a:pt x="4021" y="120"/>
                        <a:pt x="4218" y="143"/>
                      </a:cubicBezTo>
                      <a:cubicBezTo>
                        <a:pt x="4415" y="166"/>
                        <a:pt x="4491" y="143"/>
                        <a:pt x="4627" y="143"/>
                      </a:cubicBezTo>
                      <a:cubicBezTo>
                        <a:pt x="4763" y="143"/>
                        <a:pt x="4899" y="143"/>
                        <a:pt x="5035" y="14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4427640" y="2925720"/>
                  <a:ext cx="0" cy="172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427640" y="4653000"/>
                  <a:ext cx="122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346280" y="24861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05280" y="4384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049640" y="4673520"/>
                  <a:ext cx="43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48000" y="5445000"/>
                  <a:ext cx="14436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3347640" y="5445000"/>
                  <a:ext cx="14436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257280" y="568152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 flipV="1">
                  <a:off x="3492360" y="3068280"/>
                  <a:ext cx="935280" cy="15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068360" y="393228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>
                  <a:off x="4067280" y="3860640"/>
                  <a:ext cx="720000" cy="28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708360" y="3502080"/>
                  <a:ext cx="289080" cy="3603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402000" y="349416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492360" y="3068640"/>
                  <a:ext cx="142920" cy="7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492360" y="30686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971640" y="3789360"/>
                  <a:ext cx="1512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098360" y="3233880"/>
                  <a:ext cx="1118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Corri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842920" y="5327640"/>
                <a:ext cx="360720" cy="936720"/>
                <a:chOff x="2842920" y="5327640"/>
                <a:chExt cx="360720" cy="936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914560" y="5327640"/>
                  <a:ext cx="216000" cy="2876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987640" y="561528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43280" y="5759640"/>
                  <a:ext cx="36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987640" y="604836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2842920" y="6046920"/>
                  <a:ext cx="14436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6210720" y="2251080"/>
              <a:ext cx="222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 se mueve con 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rriente del ca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El sistema de referencia xy asociado al punto O´ se mueve junto con la corriente del ca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La posición del barco c/r al observador parado en la orilla está dado en cualquier instante po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9080" y="4149720"/>
            <a:ext cx="7894800" cy="2362680"/>
            <a:chOff x="739080" y="4149720"/>
            <a:chExt cx="7894800" cy="23626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556000" y="4149720"/>
                  <a:ext cx="28796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OO</m:t>
                      </m:r>
                      <m:r>
                        <m:t xml:space="preserve">´</m:t>
                      </m:r>
                      <m:r>
                        <m:t xml:space="preserve">+</m:t>
                      </m:r>
                      <m:r>
                        <m:t xml:space="preserve">O</m:t>
                      </m:r>
                      <m:r>
                        <m:t xml:space="preserve">´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 flipV="1">
              <a:off x="2340000" y="4723920"/>
              <a:ext cx="50328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080" y="5176800"/>
              <a:ext cx="20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ción del bar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/r al observad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oril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924360" y="47239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3440" y="5321160"/>
              <a:ext cx="162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ción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unto O´ c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l observad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oril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148000" y="4723920"/>
              <a:ext cx="215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32520" y="5321160"/>
              <a:ext cx="350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splazamiento del barco c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l sistema de coordenadas móv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2728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836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1636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3640" y="1962000"/>
            <a:ext cx="8209080" cy="4275360"/>
            <a:chOff x="323640" y="1962000"/>
            <a:chExt cx="8209080" cy="4275360"/>
          </a:xfrm>
        </p:grpSpPr>
        <p:sp>
          <p:nvSpPr>
            <p:cNvPr id="109" name=""/>
            <p:cNvSpPr/>
            <p:nvPr/>
          </p:nvSpPr>
          <p:spPr>
            <a:xfrm>
              <a:off x="539640" y="5264280"/>
              <a:ext cx="7993080" cy="380880"/>
            </a:xfrm>
            <a:custGeom>
              <a:avLst/>
              <a:gdLst/>
              <a:ahLst/>
              <a:rect l="l" t="t" r="r" b="b"/>
              <a:pathLst>
                <a:path w="5035" h="240">
                  <a:moveTo>
                    <a:pt x="0" y="233"/>
                  </a:moveTo>
                  <a:cubicBezTo>
                    <a:pt x="181" y="150"/>
                    <a:pt x="363" y="67"/>
                    <a:pt x="544" y="52"/>
                  </a:cubicBezTo>
                  <a:cubicBezTo>
                    <a:pt x="725" y="37"/>
                    <a:pt x="930" y="120"/>
                    <a:pt x="1089" y="143"/>
                  </a:cubicBezTo>
                  <a:cubicBezTo>
                    <a:pt x="1248" y="166"/>
                    <a:pt x="1354" y="188"/>
                    <a:pt x="1497" y="188"/>
                  </a:cubicBezTo>
                  <a:cubicBezTo>
                    <a:pt x="1640" y="188"/>
                    <a:pt x="1791" y="136"/>
                    <a:pt x="1950" y="143"/>
                  </a:cubicBezTo>
                  <a:cubicBezTo>
                    <a:pt x="2109" y="150"/>
                    <a:pt x="2283" y="226"/>
                    <a:pt x="2449" y="233"/>
                  </a:cubicBezTo>
                  <a:cubicBezTo>
                    <a:pt x="2615" y="240"/>
                    <a:pt x="2782" y="226"/>
                    <a:pt x="2948" y="188"/>
                  </a:cubicBezTo>
                  <a:cubicBezTo>
                    <a:pt x="3114" y="150"/>
                    <a:pt x="3235" y="14"/>
                    <a:pt x="3447" y="7"/>
                  </a:cubicBezTo>
                  <a:cubicBezTo>
                    <a:pt x="3659" y="0"/>
                    <a:pt x="4021" y="120"/>
                    <a:pt x="4218" y="143"/>
                  </a:cubicBezTo>
                  <a:cubicBezTo>
                    <a:pt x="4415" y="166"/>
                    <a:pt x="4491" y="143"/>
                    <a:pt x="4627" y="143"/>
                  </a:cubicBezTo>
                  <a:cubicBezTo>
                    <a:pt x="4763" y="143"/>
                    <a:pt x="4899" y="143"/>
                    <a:pt x="5035" y="1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6560" y="1962000"/>
              <a:ext cx="7993080" cy="381240"/>
            </a:xfrm>
            <a:custGeom>
              <a:avLst/>
              <a:gdLst/>
              <a:ahLst/>
              <a:rect l="l" t="t" r="r" b="b"/>
              <a:pathLst>
                <a:path w="5035" h="240">
                  <a:moveTo>
                    <a:pt x="0" y="233"/>
                  </a:moveTo>
                  <a:cubicBezTo>
                    <a:pt x="181" y="150"/>
                    <a:pt x="363" y="67"/>
                    <a:pt x="544" y="52"/>
                  </a:cubicBezTo>
                  <a:cubicBezTo>
                    <a:pt x="725" y="37"/>
                    <a:pt x="930" y="120"/>
                    <a:pt x="1089" y="143"/>
                  </a:cubicBezTo>
                  <a:cubicBezTo>
                    <a:pt x="1248" y="166"/>
                    <a:pt x="1354" y="188"/>
                    <a:pt x="1497" y="188"/>
                  </a:cubicBezTo>
                  <a:cubicBezTo>
                    <a:pt x="1640" y="188"/>
                    <a:pt x="1791" y="136"/>
                    <a:pt x="1950" y="143"/>
                  </a:cubicBezTo>
                  <a:cubicBezTo>
                    <a:pt x="2109" y="150"/>
                    <a:pt x="2283" y="226"/>
                    <a:pt x="2449" y="233"/>
                  </a:cubicBezTo>
                  <a:cubicBezTo>
                    <a:pt x="2615" y="240"/>
                    <a:pt x="2782" y="226"/>
                    <a:pt x="2948" y="188"/>
                  </a:cubicBezTo>
                  <a:cubicBezTo>
                    <a:pt x="3114" y="150"/>
                    <a:pt x="3235" y="14"/>
                    <a:pt x="3447" y="7"/>
                  </a:cubicBezTo>
                  <a:cubicBezTo>
                    <a:pt x="3659" y="0"/>
                    <a:pt x="4021" y="120"/>
                    <a:pt x="4218" y="143"/>
                  </a:cubicBezTo>
                  <a:cubicBezTo>
                    <a:pt x="4415" y="166"/>
                    <a:pt x="4491" y="143"/>
                    <a:pt x="4627" y="143"/>
                  </a:cubicBezTo>
                  <a:cubicBezTo>
                    <a:pt x="4763" y="143"/>
                    <a:pt x="4899" y="143"/>
                    <a:pt x="5035" y="1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115640" y="5300640"/>
              <a:ext cx="144720" cy="144360"/>
              <a:chOff x="1115640" y="5300640"/>
              <a:chExt cx="144720" cy="144360"/>
            </a:xfrm>
          </p:grpSpPr>
          <p:sp>
            <p:nvSpPr>
              <p:cNvPr id="112" name=""/>
              <p:cNvSpPr/>
              <p:nvPr/>
            </p:nvSpPr>
            <p:spPr>
              <a:xfrm>
                <a:off x="1116000" y="530064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1115640" y="530064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973080" y="5589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44720" y="2421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781360" y="246672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81360" y="4194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59000" y="3925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57240" y="42148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1846080" y="2610000"/>
              <a:ext cx="934920" cy="158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2080" y="3473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21000" y="3402000"/>
              <a:ext cx="72000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2560" y="3068640"/>
              <a:ext cx="288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49080" y="303516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6440" y="2610000"/>
              <a:ext cx="14256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46440" y="2610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3640" y="5300640"/>
              <a:ext cx="360720" cy="936720"/>
              <a:chOff x="323640" y="5300640"/>
              <a:chExt cx="360720" cy="936720"/>
            </a:xfrm>
          </p:grpSpPr>
          <p:sp>
            <p:nvSpPr>
              <p:cNvPr id="128" name=""/>
              <p:cNvSpPr/>
              <p:nvPr/>
            </p:nvSpPr>
            <p:spPr>
              <a:xfrm>
                <a:off x="395280" y="5300640"/>
                <a:ext cx="216000" cy="2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8360" y="558828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4000" y="5732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8360" y="602136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23640" y="60199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713280" y="2459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89720" y="246672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9720" y="4194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67360" y="3925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5600" y="42148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654440" y="2610000"/>
              <a:ext cx="935280" cy="158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0440" y="3473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229360" y="3402000"/>
              <a:ext cx="72000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14920" y="2781360"/>
              <a:ext cx="288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9080" y="24210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(t)+</a:t>
              </a:r>
              <a:r>
                <a:rPr b="0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4440" y="2610000"/>
              <a:ext cx="1429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2610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187280" y="4221000"/>
              <a:ext cx="1656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187280" y="4149720"/>
              <a:ext cx="4392720" cy="1224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9760" y="39337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96560" y="387828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+</a:t>
              </a:r>
              <a:r>
                <a:rPr b="0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La velocidad del barco c/r a la orilla será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9080" y="2276640"/>
            <a:ext cx="8243640" cy="1730160"/>
            <a:chOff x="289080" y="2276640"/>
            <a:chExt cx="8243640" cy="173016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289080" y="2276640"/>
                  <a:ext cx="8243640" cy="17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Δ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Δ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Δ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2411280" y="2361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5640" y="2361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8436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036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9636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323440" y="4516560"/>
            <a:ext cx="41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l límite de la suma, es igual a la 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del límite de los suma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zamora</cp:lastModifiedBy>
  <dcterms:modified xsi:type="dcterms:W3CDTF">2005-01-13T16:15:05Z</dcterms:modified>
  <cp:revision>396</cp:revision>
  <dc:subject/>
  <dc:title>FISICA I</dc:title>
</cp:coreProperties>
</file>