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A86-E676-4F9E-ACE4-56A31490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AC8-25CB-4F4D-9731-30622437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641-F03E-476D-98E2-BD98E6A6C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FFF2-A3AB-4EA8-A074-9AF1BD38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618-AEE5-4283-B958-441598F3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6CB-FC22-4BDB-85CA-31020CC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2A2B-7987-4964-89CB-9811609B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0CA-312F-428F-9F81-E986078A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E79B-DB2F-45F0-9A6A-98BDAC77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D82-F537-4617-919B-CF8533B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45A-4136-4E0A-887E-478C2920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2496-7AB5-487C-A453-D98C1390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E489-2486-439E-90D3-2D9B05A34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pretar correctamente un gráf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2965680" cy="427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24360" y="2852640"/>
            <a:ext cx="439272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-El movimiento del perro está dado por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y(t)= C sin(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t+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2200" spc="-1" strike="noStrike">
                <a:solidFill>
                  <a:srgbClr val="ff33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nde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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=1.4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[hz], </a:t>
            </a:r>
            <a:r>
              <a:rPr b="1" lang="es-ES" sz="2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es-E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rresponde a la amplitud del movimiento (5m) y  </a:t>
            </a:r>
            <a:r>
              <a:rPr b="1" lang="es-ES" sz="22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 debe ser calculado a partir de los d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184464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El perro parte corriendo en dirección al punto 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59280" y="1628640"/>
            <a:ext cx="590364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Porqué la C corresponde al largo de la cuer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la función seno puede tomar valores entre 1 y 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-5 = C ·(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5 = C ·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88000" y="5373720"/>
            <a:ext cx="15843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C=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Parámetros: C,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5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4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2932200" cy="422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59280" y="1628640"/>
            <a:ext cx="590364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¿Cuánto vale </a:t>
            </a:r>
            <a:r>
              <a:rPr b="1" lang="es-ES" sz="3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bemos que al inicio, es decir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0, la posición es 3,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ienz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= 3,21 = 5 · sen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·0+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sen(</a:t>
            </a:r>
            <a:r>
              <a:rPr b="1" lang="es-ES" sz="35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r>
              <a:rPr b="1" lang="es-ES" sz="3500" spc="-1" strike="noStrike">
                <a:solidFill>
                  <a:srgbClr val="ff3300"/>
                </a:solidFill>
                <a:latin typeface="Arial"/>
              </a:rPr>
              <a:t>)=3,21 / 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tenemos la ecuación de movimiento del perro, bastará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alcular la posi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l perro a medida que transcurre el tiempo para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raficar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 gráfico será direct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er el tie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demoró en pasar el perro por tercera vez por el pun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hora … a trabajar en EXCEL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mauricio casanova</cp:lastModifiedBy>
  <dcterms:modified xsi:type="dcterms:W3CDTF">2005-01-03T02:58:29Z</dcterms:modified>
  <cp:revision>4</cp:revision>
  <dc:subject/>
  <dc:title>Clase nº1  Complemento Numérico</dc:title>
</cp:coreProperties>
</file>