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-3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5240" y="680760"/>
            <a:ext cx="4543560" cy="34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77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86277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279E-6A83-4EA9-9ACF-9FFB4F9A7E5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5600" y="681120"/>
            <a:ext cx="4543560" cy="34066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rreglar esta ultima transparencia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41FB-6B7B-4724-B204-5E4DF5C87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CF67-A3AB-41C2-8FF2-D1B3E4F8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7814-52F3-4A55-A5CF-8061A2053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7A2C-414E-4EF9-8620-A2AD00A3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AFAB-210B-4CC5-957D-98C461D5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A908-6AF2-4591-83CE-B4637A9F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36A0-A8BB-42EC-AE61-524E23B2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59C3-E250-4445-B47C-C3AE313E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FE06-AE66-46AE-8732-E7863326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3F6B-4E2E-4371-A975-E4582275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80B2-87DA-4260-A023-AEFF786E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A5C3-1CC7-4B5A-9D40-181EFBB5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5ED7-91C1-43BD-BE23-97B232EA8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2205000"/>
            <a:ext cx="6192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e n º 3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mento Numér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560" y="4076280"/>
            <a:ext cx="727236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-Entender el método de integración de Euler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-Comprender la relación entre la posición y la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 velocidad mediante el uso gráfico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571680" cy="85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61620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620640"/>
            <a:ext cx="4319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ULTAD DE CIENCIAS FISICAS Y MATEMA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ELA DE VERANO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Arial"/>
              </a:rPr>
              <a:t>Relación posición-velocida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bemos que la velocidad es la variación de la posición a medida que transcurre el tiempo. Matemáticamente lo anterior se puede escribir co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635280" y="3357720"/>
          <a:ext cx="1513080" cy="130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3357720"/>
                    <a:ext cx="151308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Arial"/>
              </a:rPr>
              <a:t>Relación posición-velocida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bemos que la velocidad es la variación de la posición a medida que transcurre el tiempo. Matemáticamente lo anterior se puede escribir co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 lo que es equivalente: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635280" y="2992320"/>
          <a:ext cx="1513080" cy="13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992320"/>
                    <a:ext cx="1513080" cy="13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2627280" y="4941720"/>
          <a:ext cx="4546800" cy="136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4941720"/>
                    <a:ext cx="4546800" cy="13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83200" y="54244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8000"/>
                </a:solidFill>
                <a:latin typeface="Arial"/>
              </a:rPr>
              <a:t>Interpret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mbién podemos interpretar la rel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o sig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El área bajo la curva V corresponde a la distancia recorrida durante ese intervalo de tiemp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aproximada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443640" y="1052640"/>
          <a:ext cx="108576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3640" y="1052640"/>
                    <a:ext cx="108576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564000" y="3068640"/>
          <a:ext cx="2160360" cy="63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3068640"/>
                    <a:ext cx="216036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" name=""/>
          <p:cNvGrpSpPr/>
          <p:nvPr/>
        </p:nvGrpSpPr>
        <p:grpSpPr>
          <a:xfrm>
            <a:off x="887400" y="3360600"/>
            <a:ext cx="7178760" cy="2853000"/>
            <a:chOff x="887400" y="3360600"/>
            <a:chExt cx="7178760" cy="2853000"/>
          </a:xfrm>
        </p:grpSpPr>
        <p:sp>
          <p:nvSpPr>
            <p:cNvPr id="71" name=""/>
            <p:cNvSpPr/>
            <p:nvPr/>
          </p:nvSpPr>
          <p:spPr>
            <a:xfrm>
              <a:off x="7346880" y="537840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441440" y="3720600"/>
              <a:ext cx="0" cy="187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71520" y="336060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1441440" y="5521320"/>
              <a:ext cx="5832360" cy="144360"/>
              <a:chOff x="1441440" y="5521320"/>
              <a:chExt cx="5832360" cy="144360"/>
            </a:xfrm>
          </p:grpSpPr>
          <p:sp>
            <p:nvSpPr>
              <p:cNvPr id="75" name=""/>
              <p:cNvSpPr/>
              <p:nvPr/>
            </p:nvSpPr>
            <p:spPr>
              <a:xfrm>
                <a:off x="1441440" y="5592600"/>
                <a:ext cx="583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16036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52072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88108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24000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0036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80000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96072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32108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68144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4000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40036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76072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48144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12108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84036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3960720" y="4441680"/>
              <a:ext cx="0" cy="1152720"/>
            </a:xfrm>
            <a:prstGeom prst="line">
              <a:avLst/>
            </a:prstGeom>
            <a:ln cap="rnd" w="255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41440" y="4802040"/>
              <a:ext cx="0" cy="7923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1438200" y="4476600"/>
              <a:ext cx="2067120" cy="300240"/>
            </a:xfrm>
            <a:prstGeom prst="line">
              <a:avLst/>
            </a:prstGeom>
            <a:ln w="255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1441440" y="4512960"/>
              <a:ext cx="2519280" cy="360360"/>
            </a:xfrm>
            <a:prstGeom prst="line">
              <a:avLst/>
            </a:prstGeom>
            <a:ln w="255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1441440" y="4657320"/>
              <a:ext cx="2519280" cy="360360"/>
            </a:xfrm>
            <a:prstGeom prst="line">
              <a:avLst/>
            </a:prstGeom>
            <a:ln w="255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441440" y="4801680"/>
              <a:ext cx="2519280" cy="360360"/>
            </a:xfrm>
            <a:prstGeom prst="line">
              <a:avLst/>
            </a:prstGeom>
            <a:ln w="255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1441440" y="4944600"/>
              <a:ext cx="2519280" cy="360360"/>
            </a:xfrm>
            <a:prstGeom prst="line">
              <a:avLst/>
            </a:prstGeom>
            <a:ln w="255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1441440" y="5089320"/>
              <a:ext cx="2519280" cy="360360"/>
            </a:xfrm>
            <a:prstGeom prst="line">
              <a:avLst/>
            </a:prstGeom>
            <a:ln w="255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1441440" y="5233680"/>
              <a:ext cx="2519280" cy="360360"/>
            </a:xfrm>
            <a:prstGeom prst="line">
              <a:avLst/>
            </a:prstGeom>
            <a:ln w="255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2449440" y="5378400"/>
              <a:ext cx="1511280" cy="216000"/>
            </a:xfrm>
            <a:prstGeom prst="line">
              <a:avLst/>
            </a:prstGeom>
            <a:ln w="255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413160" y="5497200"/>
              <a:ext cx="503280" cy="73080"/>
            </a:xfrm>
            <a:prstGeom prst="line">
              <a:avLst/>
            </a:prstGeom>
            <a:ln w="255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15880" y="4297320"/>
              <a:ext cx="5689800" cy="851040"/>
            </a:xfrm>
            <a:custGeom>
              <a:avLst/>
              <a:gdLst/>
              <a:ahLst/>
              <a:rect l="l" t="t" r="r" b="b"/>
              <a:pathLst>
                <a:path w="3584" h="536">
                  <a:moveTo>
                    <a:pt x="0" y="105"/>
                  </a:moveTo>
                  <a:cubicBezTo>
                    <a:pt x="711" y="52"/>
                    <a:pt x="1422" y="0"/>
                    <a:pt x="1951" y="60"/>
                  </a:cubicBezTo>
                  <a:cubicBezTo>
                    <a:pt x="2480" y="120"/>
                    <a:pt x="2903" y="400"/>
                    <a:pt x="3175" y="468"/>
                  </a:cubicBezTo>
                  <a:cubicBezTo>
                    <a:pt x="3447" y="536"/>
                    <a:pt x="3515" y="502"/>
                    <a:pt x="3584" y="468"/>
                  </a:cubicBezTo>
                </a:path>
              </a:pathLst>
            </a:custGeom>
            <a:noFill/>
            <a:ln w="381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1434960" y="4489560"/>
              <a:ext cx="777960" cy="95040"/>
            </a:xfrm>
            <a:prstGeom prst="line">
              <a:avLst/>
            </a:prstGeom>
            <a:ln w="255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5400000">
              <a:off x="2604600" y="4476600"/>
              <a:ext cx="142920" cy="2521080"/>
            </a:xfrm>
            <a:custGeom>
              <a:avLst/>
              <a:gdLst>
                <a:gd name="textAreaLeft" fmla="*/ 0 w 142920"/>
                <a:gd name="textAreaRight" fmla="*/ 100440 w 142920"/>
                <a:gd name="textAreaTop" fmla="*/ 104760 h 2521080"/>
                <a:gd name="textAreaBottom" fmla="*/ 2416320 h 25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5" name=""/>
            <p:cNvGraphicFramePr/>
            <p:nvPr/>
          </p:nvGraphicFramePr>
          <p:xfrm>
            <a:off x="2279520" y="5808600"/>
            <a:ext cx="433440" cy="405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79520" y="5808600"/>
                      <a:ext cx="433440" cy="40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7" name=""/>
            <p:cNvSpPr/>
            <p:nvPr/>
          </p:nvSpPr>
          <p:spPr>
            <a:xfrm>
              <a:off x="1225440" y="4441680"/>
              <a:ext cx="71640" cy="1152720"/>
            </a:xfrm>
            <a:custGeom>
              <a:avLst/>
              <a:gdLst>
                <a:gd name="textAreaLeft" fmla="*/ 20880 w 71640"/>
                <a:gd name="textAreaRight" fmla="*/ 72000 w 71640"/>
                <a:gd name="textAreaTop" fmla="*/ 47880 h 1152720"/>
                <a:gd name="textAreaBottom" fmla="*/ 110484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87400" y="47386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8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41440" y="4468680"/>
              <a:ext cx="252108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47920" y="4354560"/>
              <a:ext cx="25207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1432080" y="4470480"/>
              <a:ext cx="1488960" cy="210960"/>
            </a:xfrm>
            <a:prstGeom prst="line">
              <a:avLst/>
            </a:prstGeom>
            <a:ln w="255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1434960" y="4470480"/>
              <a:ext cx="231840" cy="31680"/>
            </a:xfrm>
            <a:prstGeom prst="line">
              <a:avLst/>
            </a:prstGeom>
            <a:ln w="255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05320" y="4356000"/>
              <a:ext cx="504720" cy="1080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00400" y="4368960"/>
              <a:ext cx="504720" cy="10764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87480" y="4362480"/>
              <a:ext cx="505080" cy="1080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32160" y="4356000"/>
              <a:ext cx="504720" cy="1080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63880" y="4356000"/>
              <a:ext cx="504720" cy="1080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09720" y="4362480"/>
              <a:ext cx="504720" cy="1080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98680" y="4349880"/>
              <a:ext cx="504720" cy="1080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896040" y="6143760"/>
            <a:ext cx="73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punto en conflicto es saber si se toma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v(t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v(t-</a:t>
            </a:r>
            <a:r>
              <a:rPr b="0" i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Arial"/>
              </a:rPr>
              <a:t>Relación posición-velocida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18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eamos con más profundidad la relación (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72360" y="5229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067280" y="4076280"/>
            <a:ext cx="1440" cy="1368360"/>
          </a:xfrm>
          <a:prstGeom prst="line">
            <a:avLst/>
          </a:prstGeom>
          <a:ln cap="rnd" w="255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427640" y="4221000"/>
            <a:ext cx="1440" cy="1224000"/>
          </a:xfrm>
          <a:prstGeom prst="line">
            <a:avLst/>
          </a:prstGeom>
          <a:ln cap="rnd" w="255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967200"/>
            <a:ext cx="5543640" cy="1512720"/>
          </a:xfrm>
          <a:custGeom>
            <a:avLst/>
            <a:gdLst/>
            <a:ahLst/>
            <a:rect l="l" t="t" r="r" b="b"/>
            <a:pathLst>
              <a:path w="3492" h="953">
                <a:moveTo>
                  <a:pt x="0" y="862"/>
                </a:moveTo>
                <a:cubicBezTo>
                  <a:pt x="291" y="476"/>
                  <a:pt x="582" y="90"/>
                  <a:pt x="952" y="45"/>
                </a:cubicBezTo>
                <a:cubicBezTo>
                  <a:pt x="1322" y="0"/>
                  <a:pt x="1897" y="537"/>
                  <a:pt x="2222" y="590"/>
                </a:cubicBezTo>
                <a:cubicBezTo>
                  <a:pt x="2547" y="643"/>
                  <a:pt x="2707" y="318"/>
                  <a:pt x="2903" y="363"/>
                </a:cubicBezTo>
                <a:cubicBezTo>
                  <a:pt x="3099" y="408"/>
                  <a:pt x="3310" y="771"/>
                  <a:pt x="3401" y="862"/>
                </a:cubicBezTo>
                <a:cubicBezTo>
                  <a:pt x="3492" y="953"/>
                  <a:pt x="3469" y="930"/>
                  <a:pt x="3447" y="907"/>
                </a:cubicBezTo>
              </a:path>
            </a:pathLst>
          </a:custGeom>
          <a:noFill/>
          <a:ln w="349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268360" y="3573000"/>
            <a:ext cx="1800" cy="187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098800" y="3213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268360" y="5373720"/>
            <a:ext cx="5832720" cy="144360"/>
            <a:chOff x="2268360" y="5373720"/>
            <a:chExt cx="5832720" cy="144360"/>
          </a:xfrm>
        </p:grpSpPr>
        <p:sp>
          <p:nvSpPr>
            <p:cNvPr id="130" name=""/>
            <p:cNvSpPr/>
            <p:nvPr/>
          </p:nvSpPr>
          <p:spPr>
            <a:xfrm>
              <a:off x="2268360" y="5445000"/>
              <a:ext cx="583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8764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4800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0836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6728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2764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2728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78800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4836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0872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6728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2764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58800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0872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4836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6764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rot="16200000">
            <a:off x="2772000" y="5446800"/>
            <a:ext cx="72720" cy="358560"/>
          </a:xfrm>
          <a:custGeom>
            <a:avLst/>
            <a:gdLst>
              <a:gd name="textAreaLeft" fmla="*/ 21240 w 72720"/>
              <a:gd name="textAreaRight" fmla="*/ 73080 w 72720"/>
              <a:gd name="textAreaTop" fmla="*/ 14760 h 358560"/>
              <a:gd name="textAreaBottom" fmla="*/ 343800 h 35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14680" y="56404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00"/>
                </a:solidFill>
                <a:latin typeface="Arial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000" y="4076640"/>
            <a:ext cx="1798920" cy="180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268000" y="4221000"/>
            <a:ext cx="2157480" cy="180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995640" y="5516280"/>
            <a:ext cx="71640" cy="36036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2720" y="5877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t-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52840" y="58993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427280" y="5516640"/>
            <a:ext cx="144360" cy="43344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66880" y="3716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00"/>
                </a:solidFill>
                <a:latin typeface="Arial"/>
              </a:rPr>
              <a:t>X(t-d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71640" y="429264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00"/>
                </a:solidFill>
                <a:latin typeface="Arial"/>
              </a:rPr>
              <a:t>X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19280" y="4005360"/>
            <a:ext cx="649080" cy="7128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835280" y="4220640"/>
            <a:ext cx="433080" cy="36036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556000" y="1916280"/>
          <a:ext cx="4248000" cy="127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916280"/>
                    <a:ext cx="4248000" cy="12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Arial"/>
              </a:rPr>
              <a:t>Relación posición-velocida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91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ora despejemos la posición en el instante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050920" y="4941720"/>
          <a:ext cx="4773600" cy="6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4941720"/>
                    <a:ext cx="477360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3995640" y="3860640"/>
            <a:ext cx="936720" cy="64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0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195640" y="2349360"/>
          <a:ext cx="4546440" cy="136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2349360"/>
                    <a:ext cx="4546440" cy="13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Arial"/>
              </a:rPr>
              <a:t>Interpretació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a última ecuación se l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La posición en el tiempo actual (</a:t>
            </a:r>
            <a:r>
              <a:rPr b="0" i="1" lang="es-ES" sz="2800" spc="-1" strike="noStrike">
                <a:solidFill>
                  <a:srgbClr val="808080"/>
                </a:solidFill>
                <a:latin typeface="Arial"/>
              </a:rPr>
              <a:t>x(t)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) es igual a la posición en el tiempo anterior (</a:t>
            </a:r>
            <a:r>
              <a:rPr b="0" i="1" lang="es-ES" sz="2800" spc="-1" strike="noStrike">
                <a:solidFill>
                  <a:srgbClr val="808080"/>
                </a:solidFill>
                <a:latin typeface="Arial"/>
              </a:rPr>
              <a:t>x(t-dt)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)más lo que avanzó (</a:t>
            </a:r>
            <a:r>
              <a:rPr b="0" i="1" lang="es-ES" sz="2800" spc="-1" strike="noStrike">
                <a:solidFill>
                  <a:srgbClr val="808080"/>
                </a:solidFill>
                <a:latin typeface="Arial"/>
              </a:rPr>
              <a:t>v(t)·dt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)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Esto último corresponde al método de Euler de integr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330200" y="4005360"/>
          <a:ext cx="626616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0200" y="4005360"/>
                    <a:ext cx="62661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Arial"/>
              </a:rPr>
              <a:t>Interpretació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Qué pasa si en vez de considerar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v(t)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se considera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v(t-</a:t>
            </a:r>
            <a:r>
              <a:rPr b="1" i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t)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16000" y="2695680"/>
          <a:ext cx="4203720" cy="307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2695680"/>
                    <a:ext cx="4203720" cy="30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719600" y="3386160"/>
          <a:ext cx="4221360" cy="3078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9600" y="3386160"/>
                    <a:ext cx="4221360" cy="30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13:11:27Z</dcterms:created>
  <dc:creator>Maria Fernanda Duran Sierra</dc:creator>
  <dc:description/>
  <dc:language>en-US</dc:language>
  <cp:lastModifiedBy>mauricio casanova</cp:lastModifiedBy>
  <dcterms:modified xsi:type="dcterms:W3CDTF">2005-01-12T05:31:19Z</dcterms:modified>
  <cp:revision>6</cp:revision>
  <dc:subject/>
  <dc:title>Clase n º 3  Complemento Numérico</dc:title>
</cp:coreProperties>
</file>