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BEFE4-6E84-4FBE-B17A-85A5CB352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A3EF5-5B63-4F52-B131-E056AE6F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7725A-C959-49FC-9EA7-B016C87CE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201DD-AF27-4B35-B9E2-FBF5D6E5E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DD046-C3AF-487A-A654-0A3C50C4F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0222A-9245-4DF5-8194-7CD7A9299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7F62A-A116-4829-A113-D0F780D19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1F02B-7015-4B4F-9FC4-B4452C0BE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FA340-8659-4499-8794-525816659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94D6B-42B6-44B3-849F-C6CD23809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03F14-E0F8-4CEF-9C72-F85A5D5F3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0D69B-D185-4F56-A6BB-CCA99D4EA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7A1D0-C84A-454F-A75D-976CA1E50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37F2A-1B8A-4189-9921-D2E0A2693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800AB-8EBB-4789-9A0B-2DAC4714B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6399F-04C8-4625-9276-9B0F1A76B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78122-7887-4C5C-A826-1F9C0C771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2A996-447C-4F71-92B4-48E1A330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8C91-D7F5-4B7F-B2F6-C1606EAB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49CB-CF97-47C4-856F-437BCA66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52073-B9BD-4FC5-ABA0-69408645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15D5E-F11D-421C-9FF7-C7019D03B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D045-F696-471B-B937-983A7E218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3F40-0649-4213-A485-B02865E57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A17F-5EF5-48DC-A09B-39B5F7CB18FD}"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67CC-7A7D-4430-A5A6-2D046E9DD1A8}"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08"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9" name="wilson_pic" descr=""/>
          <p:cNvPicPr/>
          <p:nvPr/>
        </p:nvPicPr>
        <p:blipFill>
          <a:blip r:embed="rId1"/>
          <a:stretch/>
        </p:blipFill>
        <p:spPr>
          <a:xfrm>
            <a:off x="7086600" y="4495680"/>
            <a:ext cx="1736640" cy="200052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2" name="morgenthau_sm" descr=""/>
          <p:cNvPicPr/>
          <p:nvPr/>
        </p:nvPicPr>
        <p:blipFill>
          <a:blip r:embed="rId1"/>
          <a:stretch/>
        </p:blipFill>
        <p:spPr>
          <a:xfrm>
            <a:off x="6553080" y="2819520"/>
            <a:ext cx="1737000" cy="1268280"/>
          </a:xfrm>
          <a:prstGeom prst="rect">
            <a:avLst/>
          </a:prstGeom>
          <a:ln w="0">
            <a:noFill/>
          </a:ln>
        </p:spPr>
      </p:pic>
      <p:pic>
        <p:nvPicPr>
          <p:cNvPr id="113" name="images" descr=""/>
          <p:cNvPicPr/>
          <p:nvPr/>
        </p:nvPicPr>
        <p:blipFill>
          <a:blip r:embed="rId2"/>
          <a:stretch/>
        </p:blipFill>
        <p:spPr>
          <a:xfrm>
            <a:off x="6781680" y="4572000"/>
            <a:ext cx="1406520" cy="1703520"/>
          </a:xfrm>
          <a:prstGeom prst="rect">
            <a:avLst/>
          </a:prstGeom>
          <a:ln w="0">
            <a:noFill/>
          </a:ln>
        </p:spPr>
      </p:pic>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6" name="Kaplan" descr=""/>
          <p:cNvPicPr/>
          <p:nvPr/>
        </p:nvPicPr>
        <p:blipFill>
          <a:blip r:embed="rId1"/>
          <a:stretch/>
        </p:blipFill>
        <p:spPr>
          <a:xfrm>
            <a:off x="6818400" y="3352680"/>
            <a:ext cx="1662120" cy="2362320"/>
          </a:xfrm>
          <a:prstGeom prst="rect">
            <a:avLst/>
          </a:prstGeom>
          <a:ln w="0">
            <a:noFill/>
          </a:ln>
        </p:spPr>
      </p:pic>
      <p:sp>
        <p:nvSpPr>
          <p:cNvPr id="117"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9" name="deutsch1" descr=""/>
          <p:cNvPicPr/>
          <p:nvPr/>
        </p:nvPicPr>
        <p:blipFill>
          <a:blip r:embed="rId2"/>
          <a:stretch/>
        </p:blipFill>
        <p:spPr>
          <a:xfrm>
            <a:off x="1219320" y="3505320"/>
            <a:ext cx="1854000" cy="2341440"/>
          </a:xfrm>
          <a:prstGeom prst="rect">
            <a:avLst/>
          </a:prstGeom>
          <a:ln w="0">
            <a:noFill/>
          </a:ln>
        </p:spPr>
      </p:pic>
      <p:sp>
        <p:nvSpPr>
          <p:cNvPr id="120"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1"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4"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6"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28"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mtvial</cp:lastModifiedBy>
  <dcterms:modified xsi:type="dcterms:W3CDTF">2006-01-23T12:42:46Z</dcterms:modified>
  <cp:revision>3</cp:revision>
  <dc:subject/>
  <dc:title>Presentación de PowerPoint</dc:title>
</cp:coreProperties>
</file>