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A44B-5C8A-4AEB-8626-53B89BA28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BF58-1DE9-4B2D-95C2-66EDBA0E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09BA-BA8E-46B3-BEF5-D2E8AAAAA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00E7-4E86-4CE1-BDF0-42D95734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D8EB-9B2A-45A5-A4CC-3791AD34C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AFA-A3A9-468B-A42D-CD727129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C1FB-5A06-4668-8293-3164CCC0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77D6-E009-4DD3-9CDC-BB9E697E0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68D90-DB49-4B26-AAF7-7BDE0A9F1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C1A39-5B15-435E-925D-2925C0848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B0BC-278F-44F0-A0D1-28FCE11C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973-D35F-4856-963A-461E47E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AA833-49A4-4E72-8C02-2563C4B5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B4F21-F93C-476B-987B-715597C0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FB7-1CBE-412D-BA12-44A551548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AF50D-6AF8-4787-92F0-50D46B6D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15225-6C82-44B3-84DE-1C7898E49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4FFD-9ADE-4EE4-909A-8E9A94E29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9BCB-1C25-4CA3-97DF-653E22B9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FD86-EA1B-447A-B65C-1FED4A2F1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6A5-315F-4B50-B6FF-5D0F26FD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CFF-B210-4E7C-BC23-86D92F07D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96F5-84AA-4699-9B27-86F659C3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EC70-DB06-4AD4-888F-3F31E294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88BB-A6AC-4FE0-90C4-1B185BD991EF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AB926-FBFE-480B-8353-D82F002C2DC3}" type="slidenum">
              <a:rPr b="0" lang="es-E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aidi.com/images/zaki.jpg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con.canterbury.ac.nz/nobel/np-stiglitz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www.cinu.org.mx/multi/onutrabaja/imagenes/fmi38.gif&amp;imgrefurl=http://www.cinu.org.mx/multi/onutrabaja/fmi38.htm&amp;h=243&amp;w=239&amp;prev=/images%3Fq%3DFMI%26svnum%3D10%26hl%3Des%26lr%3D%26ie%3DUTF-8" TargetMode="Externa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219320" y="0"/>
            <a:ext cx="7543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El Estado Nación en Crisis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ccff33"/>
                </a:solidFill>
                <a:latin typeface="Arial Narrow"/>
              </a:rPr>
              <a:t>Soberanía v/s Globalid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143000" y="1752480"/>
            <a:ext cx="769608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La globalización es el fenómeno más característico del fin del siglo XX y se proyecta como el marco del siglo XXI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“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Para Zaki Laïdi, la globalización es un movimiento planetario en que las sociedades renegocian su relación con el espacio y el tiempo por medio de concatenaciones que ponen en acción una proximidad planetaria bajo su forma territorial (fin de la geografía), simbólica (la pertenencia a un mismo mundo) y temporal ( la simultaneidad)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2" name="zaki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848720" y="5105520"/>
            <a:ext cx="11109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838080" y="5335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LAS CONSECUENCI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2424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2" name="desigualdad%20250b" descr="DESIGUALDAD y HAMBRE"/>
          <p:cNvPicPr/>
          <p:nvPr/>
        </p:nvPicPr>
        <p:blipFill>
          <a:blip r:embed="rId1"/>
          <a:stretch/>
        </p:blipFill>
        <p:spPr>
          <a:xfrm>
            <a:off x="6400800" y="228600"/>
            <a:ext cx="2209680" cy="15080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762120" y="182880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no funciona para todos igual, el progreso es para las elites con acceso a privilegios, sin embargo los efectos negativos llegan a tod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34290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 pesar de aquello..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419720"/>
            <a:ext cx="7543800" cy="15570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iminarla no es la solución, ya que también tiene sus beneficios como aumento de los mercados, mayor acceso a tecnologías, mejor salud, mayor democraci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62120" y="457200"/>
            <a:ext cx="7010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53352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ALTERNATIVA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45720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Se requieren vías alternativas de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69960" y="1557360"/>
            <a:ext cx="496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167652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un proceso inducido por instituciones y actores, por lo cual hay que reformarlas y controlar los intereses creados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954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Gobernanza, reformar las estructuras de pod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581280"/>
            <a:ext cx="7010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El Consenso de Washington está agotado, es necesario un nuevo consenso basado en lo soci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53341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Humanizar la Globaliz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4" name="justiciaglobal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652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53352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Problemas emergentes en el Sistema Inter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1523880"/>
            <a:ext cx="70102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Conflictos locales y resurgir de las fracturas nacionalist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Narcotráfico, terrorismo y redes delictuales trans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Deterioro del medioambien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Salud global y control de enfermedad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Inequidad y problemas del desarroll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85800" y="457200"/>
            <a:ext cx="8458200" cy="54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eaeaea"/>
                </a:solidFill>
                <a:uFillTx/>
                <a:latin typeface="Arial Narrow"/>
              </a:rPr>
              <a:t>Dos conceptos que engloban la problemática Internaciona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Gobernanza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: El concepto se refiere a la capacidad de abordar los problemas internacionales, por parte de las instituciones internacionales. Se trata de dar funcionamiento al sistema decisional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ff33"/>
                </a:solidFill>
                <a:latin typeface="Arial Narrow"/>
              </a:rPr>
              <a:t>Seguridad Humana: </a:t>
            </a:r>
            <a:r>
              <a:rPr b="1" lang="es-ES_tradnl" sz="2400" spc="-1" strike="noStrike">
                <a:solidFill>
                  <a:srgbClr val="eaeaea"/>
                </a:solidFill>
                <a:latin typeface="Arial Narrow"/>
              </a:rPr>
              <a:t>Es un concepto que engloba los nuevos riesgos para los ciudadanos a partir de los cambios post Guerra Frí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066680" y="0"/>
            <a:ext cx="7467840" cy="87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Jorge Nef (1999), establece las dimensiones de la Seguridad Humana en los siguientes términ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1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medioambiental, personal y fís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. Se refiere al derecho de los individuos y las comunidades a la preservación de su vida y salud y a desarrollarse en un medioambiente sostenibl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2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económica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acceso al empleo y a los medios necesarios para una buena calidad de vida en comunidad reduciendo la escasez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3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.- Seguridad soci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ibertad y no discriminación de ningún tip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4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Polític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Derecho a la representación y autonomía, participación, derecho a disentir combinado con empoderamiento para realizar cambios efectivo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5.- </a:t>
            </a: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eguridad cultur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el conjunto de factores psicológicos que ayudan a reducir la inseguridad y el temo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066680" y="304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Las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9810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2" name="onu" descr=""/>
          <p:cNvPicPr/>
          <p:nvPr/>
        </p:nvPicPr>
        <p:blipFill>
          <a:blip r:embed="rId1"/>
          <a:stretch/>
        </p:blipFill>
        <p:spPr>
          <a:xfrm>
            <a:off x="3581280" y="228600"/>
            <a:ext cx="1219320" cy="784080"/>
          </a:xfrm>
          <a:prstGeom prst="rect">
            <a:avLst/>
          </a:prstGeom>
          <a:ln w="0">
            <a:noFill/>
          </a:ln>
        </p:spPr>
      </p:pic>
      <p:pic>
        <p:nvPicPr>
          <p:cNvPr id="153" name="orga2" descr="ORGANIGRAMA DE NACIONES UNIDAS"/>
          <p:cNvPicPr/>
          <p:nvPr/>
        </p:nvPicPr>
        <p:blipFill>
          <a:blip r:embed="rId2"/>
          <a:stretch/>
        </p:blipFill>
        <p:spPr>
          <a:xfrm>
            <a:off x="1066680" y="990720"/>
            <a:ext cx="655344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143000" y="457200"/>
            <a:ext cx="754380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Reformas al sistema de Naciones Unid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Fundamentos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acronism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 distribución de poder en el Consejo de Seguridad rige desde mediados del siglo pasado y es inadecuada para la realidad actu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Ineficiencia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Las estructuras son poco eficientes y burocrática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Sin poder real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posee mecanismos efectivos para hacer cumplir las resolucion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Antidemocrático: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 No existe representatividad en el Consej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ff33"/>
                </a:solidFill>
                <a:latin typeface="Arial Narrow"/>
              </a:rPr>
              <a:t>Desfinanciado </a:t>
            </a: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: Los recursos son insuficient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5" name="annan" descr=""/>
          <p:cNvPicPr/>
          <p:nvPr/>
        </p:nvPicPr>
        <p:blipFill>
          <a:blip r:embed="rId1"/>
          <a:stretch/>
        </p:blipFill>
        <p:spPr>
          <a:xfrm>
            <a:off x="6781680" y="228600"/>
            <a:ext cx="20005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219320" y="53352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Las fuerzas que impulsan la Globalizació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16002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1981080"/>
            <a:ext cx="701064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Término de la Guerra Fría: Un mundo unipola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Desarrollo tecnológico ( en especial de las comunicacion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 Narrow"/>
              </a:rPr>
              <a:t>interconexión de las economía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90720" y="457200"/>
            <a:ext cx="7543800" cy="35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¿Qué implicancias tiene para el Estado Nació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a inserción en un mundo altamente dinámic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érdida de soberanía y protagonismo por la emergencia de nuevos actores internacional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eaeaea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daptación de las estructuras estatales a los nuevos requerimientos de la política y la economía (reforma al Estad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809880"/>
            <a:ext cx="70866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llo puede ser visto desde dos puntos de vist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modernización y adaptació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ignifica desmantelación de Estado y sometimiento al poder transnaciona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533520"/>
            <a:ext cx="746748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¿Por qué una crisis del Estado Nación?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Veamos los elementos constitutivos del Estado nación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Territorio y recursos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Se eliminan las fronteras (UE) y el control de los recursos pasan a manos de las transnacionales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Población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: Grandes olas migratorias hacia los polos de desarrollo (genera sentimientos de desafectación y desarraigo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Soberanía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Estado cede soberanía a los organismos internacionales y al mercado ( en el ámbito de las decisiones económicas se deslegitima la planificación estatal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ccff33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Bien común: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El bien común pasa a buscarse fuera del Estado, transformándose en bienestar particular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ccff33"/>
                </a:solidFill>
                <a:latin typeface="Arial Narrow"/>
              </a:rPr>
              <a:t>En definitiva el Estado Nación se deslegitim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57200" y="1523880"/>
            <a:ext cx="845820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“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Sin embargo, toda vez que apreciamos una descomposición de los estados soberanos, asistimos al mismo tiempo al surgimiento de EL ESTADO SOBERANO, personificado en los Estados Unidos de Norteamérica”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	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ccff33"/>
                </a:solidFill>
                <a:latin typeface="Arial Narrow"/>
              </a:rPr>
              <a:t>(Grimaldi 200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90720" y="228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Globalización: Una visión crític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371600"/>
            <a:ext cx="76201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lang="es-ES_tradnl" sz="2400" spc="-1" strike="noStrike">
                <a:solidFill>
                  <a:srgbClr val="eaeaea"/>
                </a:solidFill>
                <a:latin typeface="Tahoma"/>
              </a:rPr>
              <a:t>La Globalización es la integración más estrecha de los países y los pueblos del mundo, producida por la enorme reducción de los costes de transporte y comunicación y desmantelamiento de las barreras artificiales a los flujos de bienes, servicios, capitales, conocimientos y personas a través de las frontera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np-stiglitz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4419720"/>
            <a:ext cx="1635120" cy="20001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743200" y="5715000"/>
            <a:ext cx="4191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eaeaea"/>
                </a:solidFill>
                <a:latin typeface="Tahoma"/>
              </a:rPr>
              <a:t>Joseph Stiglitz, Premio Nobel de Economía 2001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14400" y="304920"/>
            <a:ext cx="7696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GLOBALIZACIÓN: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Un Proceso inducid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523880"/>
            <a:ext cx="784872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globalización es un proceso inducido por actores internacionales identificables en pro de la extensión del capitalismo transnacion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Banco Mund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La Reserva Federal de EE.UU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ahoma"/>
              </a:rPr>
              <a:t>Empresas Transnacionale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4572000"/>
            <a:ext cx="7467480" cy="11912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“</a:t>
            </a:r>
            <a:r>
              <a:rPr b="0" i="1" lang="es-ES_tradnl" sz="2400" spc="-1" strike="noStrike">
                <a:solidFill>
                  <a:srgbClr val="eaeaea"/>
                </a:solidFill>
                <a:latin typeface="Tahoma"/>
              </a:rPr>
              <a:t>La “mano invisible de la economía” de Smith, no existe en la globalización. El proceso ha sido guiado por intereses particulares” (Stiglitz 200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676520" y="5335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Consenso de Washington (1989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0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96080" y="228600"/>
            <a:ext cx="830520" cy="838080"/>
          </a:xfrm>
          <a:prstGeom prst="rect">
            <a:avLst/>
          </a:prstGeom>
          <a:ln w="0">
            <a:noFill/>
          </a:ln>
        </p:spPr>
      </p:pic>
      <p:pic>
        <p:nvPicPr>
          <p:cNvPr id="121" name="images" descr=""/>
          <p:cNvPicPr/>
          <p:nvPr/>
        </p:nvPicPr>
        <p:blipFill>
          <a:blip r:embed="rId3"/>
          <a:stretch/>
        </p:blipFill>
        <p:spPr>
          <a:xfrm>
            <a:off x="76320" y="228600"/>
            <a:ext cx="838080" cy="8301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0" y="99072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BM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54380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eaeaea"/>
                </a:solidFill>
                <a:latin typeface="Tahoma"/>
              </a:rPr>
              <a:t>FMI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990720"/>
            <a:ext cx="9144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Arial"/>
                <a:ea typeface="Arial"/>
              </a:rPr>
              <a:t>Los Diez Puntos del Consenso: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) establecer una disciplina fiscal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2) priorizar el gasto público en educación y salud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3) llevar a cabo una reforma tributari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4) establecer tasas de interés positivas determinadas por el mercado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5) lograr tipos de cambio competitivo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6) desarrollar políticas comerciales liberale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7) una mayor apertura a la inversión extranjera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8) privatizar las empresas públicas;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9) llevar a cabo una profunda desregulación; y</a:t>
            </a:r>
            <a:r>
              <a:rPr b="1" lang="es-ES" sz="18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eaeaea"/>
                </a:solidFill>
                <a:latin typeface="Arial"/>
              </a:rPr>
              <a:t>10) garantizar la protección de la propiedad privad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62120" y="4748040"/>
            <a:ext cx="8381880" cy="211320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Tahoma"/>
              </a:rPr>
              <a:t>El Estado restringe su accionar en la economía, mientras las demandas hacia él aumentan generando ingobernabilidad por incapacidad de respuesta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d189"/>
                </a:solidFill>
                <a:latin typeface="Tahoma"/>
              </a:rPr>
              <a:t>La liberalización ha sido tomada como un fin y no como un medi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Arial Narrow"/>
              </a:rPr>
              <a:t>El Estado Receptor</a:t>
            </a:r>
            <a:r>
              <a:rPr b="0" lang="es-ES" sz="2400" spc="-1" strike="noStrike">
                <a:solidFill>
                  <a:srgbClr val="eaeaea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14400" y="990720"/>
            <a:ext cx="7467480" cy="36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Jorge Nef, considera que l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as reformas impulsadas bajo los OI (FMI, BM), configuran lo que él denomina el “Estado receptor”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,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que implica una transnacionalización de la alianza en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poder, corporativismo porque los pactos fundamentales se establecen entre las elites, despolitización de las actividades esenciales del Estado como seguridad y 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el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sistema financiero, adopción del ajuste estructural como tarea central,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énfasis en la privatización y exportaciones en vez de la industrialización, restricción de la democracia por la pérdida de  la movilidad civil</a:t>
            </a:r>
            <a:r>
              <a:rPr b="1" lang="es-ES_tradnl" sz="2000" spc="-1" strike="noStrike">
                <a:solidFill>
                  <a:srgbClr val="ccff33"/>
                </a:solidFill>
                <a:latin typeface="Arial Narrow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 </a:t>
            </a:r>
            <a:r>
              <a:rPr b="1" lang="es-ES" sz="2000" spc="-1" strike="noStrike">
                <a:solidFill>
                  <a:srgbClr val="ccff33"/>
                </a:solidFill>
                <a:latin typeface="Arial Narrow"/>
              </a:rPr>
              <a:t>El Estado receptor en Latinoamérica, refuerza la problemática ya que no genera soluciones a problemas endógenos de la sociedad sino responde a intereses foráne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9" name="nef3b" descr=""/>
          <p:cNvPicPr/>
          <p:nvPr/>
        </p:nvPicPr>
        <p:blipFill>
          <a:blip r:embed="rId1"/>
          <a:stretch/>
        </p:blipFill>
        <p:spPr>
          <a:xfrm>
            <a:off x="7265880" y="4343400"/>
            <a:ext cx="152712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3T23:36:47Z</dcterms:created>
  <dc:creator>Escuela de Gobierno</dc:creator>
  <dc:description/>
  <dc:language>en-US</dc:language>
  <cp:lastModifiedBy>mtvial</cp:lastModifiedBy>
  <dcterms:modified xsi:type="dcterms:W3CDTF">2006-01-23T12:45:09Z</dcterms:modified>
  <cp:revision>8</cp:revision>
  <dc:subject/>
  <dc:title>El sistema Internacional: sus actores y elementos</dc:title>
</cp:coreProperties>
</file>