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580-BBD7-4A3C-9CED-13396C07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9E0-C41B-4353-AF28-6BA71708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227D-5911-40F2-935F-654B3D0C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68F1-F4A8-43E6-B2FF-26709E98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6859-BB90-4A44-9285-6510563C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871F-E902-418C-BE0C-E0A916E7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38BA-B00A-43AA-8704-B44D71D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8A02-95E5-4B77-B735-ED8C892A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CC1F-EE96-4544-9C53-0E745FD1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4A7-AE46-4F2B-8AC8-B9B74FB6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A17B-EE3E-4100-AAC8-A8F671B7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7B9-506F-45E1-913A-8A5C5CD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66D3-8E5A-40F6-9F2B-8F05C14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FD3A-B2CF-48E6-87FD-D831C588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638-BA69-4C8C-86CB-F6F225CF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662-8272-4B6C-8052-DFA7F576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05F-FABD-4618-861E-BA6DB67C6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710-34AB-48E6-A47A-FE36F7E5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E01-D664-4133-BE27-5F5A58C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1EC-6125-4688-A746-F1919D82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F22-E6AE-4C39-8B0A-CCC387AE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A5F-44AB-4274-B732-EC500EB4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D96-8C48-4857-98E2-797A347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3257-7D79-44EB-B5B1-30B479A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902C-EEAD-4E90-B1B7-4DE3F30CB48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E784-9F2A-49F0-80D7-7F0C59E422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86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60600" y="3075120"/>
            <a:ext cx="9151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1287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371600"/>
            <a:ext cx="85345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scuela de verano 200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Georgia"/>
              </a:rPr>
              <a:t>FUNDAMENTOS DE LA CIENCIA POLÍTICA Y EL GOBI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75776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ROFESORES: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Eduardo Araya M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Daniel Grimaldi 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914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Ciencia Política y 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133720" y="10666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PROGRAMA DEL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523880"/>
            <a:ext cx="8458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Objetiv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Curso tiene por f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nalidad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objetivo, entregar a los alumnos elementos para comprender la vida política a partir del estudio de conceptos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básicos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la Ciencia Política y el Gobier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 final del curso el estudiante estará en condiciones de comprender, en términos generales, la problemática, que se plantea en el mundo moderno, en torno al poder y distinguir los elementos valóricos y técnicos que entran en juego en el sistema  político nacional e internacion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Metodolog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clases serán principalmente expositivas con apoyo en material visual y lecturas obligatorias. 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estimulará la participación y la discusión a partir de las interrogantes e inquietudes de los estud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4568"/>
                </a:solidFill>
                <a:latin typeface="Arial"/>
                <a:ea typeface="Arial"/>
              </a:rPr>
              <a:t>Evaluación: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Se realizará una prueba final de tipo objetiv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4568"/>
                </a:solidFill>
                <a:latin typeface="Times New Roman"/>
              </a:rPr>
              <a:t>Te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523880"/>
            <a:ext cx="8839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.- La Políti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actividad humana (E. Araya ) 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política como conocimiento científico (D. Grimaldi ) 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 “Elementos de Teoría Política”,(Cap. 10, La Política). Ed. Alianza, Madrid 1992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obert Dahl, “Análisis Político Actual”, Ed. Universitaria de B. Aires, Buenos Aires 1983.  (Cap. I ¿Qué es la Política?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Giovanni Sartori, “La Política, lógica y método en las ciencias sociales”, Ed. Fondo de Cultura Económica, México 1987. (Cap VIII “La política como cienci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523880"/>
            <a:ext cx="815328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.- El Pensamiento Político en la Histor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eríodo clásico y Edad Media (D. Grimaldi ) 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odernidad y Posmodernidad (D. Grimaldi ) 0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otella, Cañeque y Gonzalo (editores), “El Pensamiento Político en sus Textos. De Platón a Marx”, Ed. Tecnos, Madrid, 1998. Paginas: 17-59,  71-80,  87-110, 119-130,  169-183, 195-211,  260-280,  424- 453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Karl Deutsch, “Política y Gobierno”, Ed. Fondo de Cultura Económica México DF, 1977. (Cáp. IV. Imágenes de la Política: Algunas teorías clásicas del comportamiento y la comunidad” Pág. 87-119. </a:t>
            </a:r>
            <a:r>
              <a:rPr b="1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Se me ocurre que es muy viejo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371600"/>
            <a:ext cx="777240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II.- El Sistema Político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istema Político como modelo (D. Grimaldi ) 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ementos y actores del sistema político ( E. Araya )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ultura Política, Instituciones, Elecciones, Votos, Alianz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democracia (D. Grimaldi ) 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Partidos Políticos ( D.Grimaldi) 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</a:t>
            </a:r>
            <a:r>
              <a:rPr b="1" lang="es-CL" sz="16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avid Easton, “ El enfoque sistémico de la vida política”  .  en Ramón García Cotarello y Juan Luis Paniagua Soto (comp.)“ Introducción a la Ciencia Política”, Ed. Universidad Nacional de Educación a Distancia, Madrid, 198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Jacques Lagroye, “ Sociología Política”, Ed. Fondo de Cultura Económica, Buenos Aires 1994. (Cap 3. La Política como sistema)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143000"/>
            <a:ext cx="838188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V.-  Estado, Gobierno, Administración Públic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Concepto y Evolución, Funciones, Roles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 Estado en el S. XXI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(E, Araya ) 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instituciones de Gobierno y Administración (E. Araya ) 1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gestión y las políticas públicas (E. Araya) 1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Gianfranco Pasquino, “ Manual de Ciencia Política”, Ed. Alianza Universidad Textos, Madrid 1996. Cap 8 “ Los Gobiernos” por Mauricio Cotta. Pág. 311-35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 u="sng">
                <a:solidFill>
                  <a:srgbClr val="ccecff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Manuel Pastor, “Fundamentos de Ciencia Política”, Ed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c Graw-Hill, Madrid 1994.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ap1 “Estado Nación y Gobiern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Hugo Palacios Mejía, “ Introducción a la Teoría del Estado” , Ed. Temis, Bogotá 1980. Cap II ¿Qué es el Estad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ugenio Lahera, “Introducción a las políticas públicas”, Ed. Fondo de Cultura Económica, Santiago 2002. Pág. 13-7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447920"/>
            <a:ext cx="914400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I.- La Sociedad Civil y el Estado en el Siglo XX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¿Qué es la sociedad civil? (E. Araya 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do y Sociedad Civil (E. Araya )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s organizaciones civiles y su impacto en las decisiones de gobierno. El fenómeno de la              participación política ( E. Araya ).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a sociedad Chilena Post Transición (E. Araya ) 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1" lang="es-E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Eduardo Araya Moreno" La construcción del Estado regulador y la relación Estado sociedad civil" en Revista Estado, Gobierno, Gestión Públic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Revista Chilena de Administración Pública. Año I- N°1 Marzo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</a:t>
            </a:r>
            <a:r>
              <a:rPr b="1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Luís Ortega, “El Estado Como Instrumento de la Sociedad” en Revista Sistema, Madrid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Nuria Cunnill y Luiz  Bresser, “Lo Público No Estatal en La Reforma del Estado”, Ed. Piados, Buenos Aires 1998. (Cap. 1 Entre el Mercado y El Estado: lo público no estat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bann_gobygest" descr=""/>
          <p:cNvPicPr/>
          <p:nvPr/>
        </p:nvPicPr>
        <p:blipFill>
          <a:blip r:embed="rId1"/>
          <a:stretch/>
        </p:blipFill>
        <p:spPr>
          <a:xfrm>
            <a:off x="0" y="0"/>
            <a:ext cx="6172200" cy="1063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762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Fundamentos de la  Ciencia Política y el Gobier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7543800" cy="52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V.- Las Relaciones Internacionales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ctores del sistema internacional (D. Grimaldi ) 2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Estado nación en crisis ( D. Grimaldi ) 2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</a:t>
            </a: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oblemas emergentes en la política mundial ( D.Grimaldi ) 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nel: Los jóvenes y la política. 26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rueba  27 (Araya-Grimaldi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Bibliografía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Fulvio Attina , “El sistema Político Global. Introducción a las relaciones internacionales”” Ed. Piados, Barcelona 2001. Cap 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Alberto Sepúlveda, “Globalización y Orden Mundial: un análisis político”, en Revista Diplomacia nº 80, Santiago 199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02:39Z</dcterms:created>
  <dc:creator>Escuela de Gobierno</dc:creator>
  <dc:description/>
  <dc:language>en-US</dc:language>
  <cp:lastModifiedBy>Escuela de Gobierno</cp:lastModifiedBy>
  <dcterms:modified xsi:type="dcterms:W3CDTF">2006-01-24T20:40:05Z</dcterms:modified>
  <cp:revision>11</cp:revision>
  <dc:subject/>
  <dc:title>Presentación de PowerPoint</dc:title>
</cp:coreProperties>
</file>