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gif" ContentType="image/gif"/>
  <Override PartName="/ppt/media/image8.jpeg" ContentType="image/jpeg"/>
  <Override PartName="/ppt/media/image2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20.gif" ContentType="image/gif"/>
  <Override PartName="/ppt/media/image3.gif" ContentType="image/gif"/>
  <Override PartName="/ppt/media/image21.gif" ContentType="image/gif"/>
  <Override PartName="/ppt/media/image19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17.gif" ContentType="image/gif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FD42-04E6-4B1F-BC95-0D9A029FBE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BA4A-3723-483A-8E97-1C93F2CC1D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E04A-1229-4A67-9949-9C9E18C09F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D5B9-04D7-4086-BF3F-B75FD3E1AE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C568-DC14-4736-8E1D-939F6244E1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220C-7915-43AF-82B9-9D25B64B4C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E543-63D0-47B5-B389-B95D8D6B28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2368-90D3-4B6C-BBFC-FE276DB134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3A99-8568-4AAA-B996-844BD77398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151B-3B5E-4799-8E93-274661164E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339B-798C-4993-8A11-35C72AB75A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5EED-E589-4747-8541-0AF22D2850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FDBA-3BE9-4C76-86D9-65F719783F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091E-99C2-4AFB-8ABA-F2C53C77A7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A47F-31AF-4806-AB07-CD50FE9F26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F64E-F7D5-41AD-B7BA-FE5CD05D15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4E6D-9F46-4CAE-9950-2F22BB12DC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9D5B-6448-4C8E-A4BB-A06AB4C4EC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8ABF-B4E8-4471-A1B8-1E5B291D1A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91D5-D08E-4107-B17E-4394D2840F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025F-4074-4CFD-A254-0CB7986E76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52E1-17F4-4AC8-BBFF-F9D2B7AE3D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3E8-1666-491D-822F-1CFAD9BD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157-9A56-4A95-9B7B-D79FFFF3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77F-B5FD-42D2-BD8E-6D2663C3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832-4452-46D7-BD57-5AFC1706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555-7D83-4AEC-BB6B-2D27C2A6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E59-6D10-468E-B55F-CB060573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2D5-9A80-4DEF-9AA2-0798F604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A40-4DB3-4605-B4B6-9C688368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E14-E8E7-40C3-AC52-5E76296B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9D9-3F66-4022-8546-4604A88E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E5B-DBC0-4924-8540-BD0B4C6A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F2D-0796-42A8-9812-1F15D945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4CD9-8CC2-447D-9DB4-077D3BDBE5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xtec.es/centres/a8019411/caixa/index_es.htm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" name="Picture 4" descr="audio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" name="Picture 4" descr="onda con formulas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2297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395280" y="5157720"/>
            <a:ext cx="8207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laciones en las On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 = 1 / </a:t>
            </a:r>
            <a:r>
              <a:rPr b="0" lang="es-CL" sz="2400" spc="-1" strike="noStrike">
                <a:solidFill>
                  <a:srgbClr val="ffffff"/>
                </a:solidFill>
                <a:latin typeface="Monotype Corsiva"/>
              </a:rPr>
              <a:t>f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f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g(t)=sin(2·</a:t>
            </a:r>
            <a:r>
              <a:rPr b="0" i="1" lang="el-GR" sz="3200" spc="-1" strike="noStrike">
                <a:solidFill>
                  <a:srgbClr val="ffffff"/>
                </a:solidFill>
                <a:latin typeface="Monotype Corsiva"/>
              </a:rPr>
              <a:t>π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f·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presentación Circu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746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s ondas se representan matemáticamente como funciones trigonométricas (Seno y Coseno) o como números Reales e Imagin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Picture 4" descr="complex"/>
          <p:cNvPicPr/>
          <p:nvPr/>
        </p:nvPicPr>
        <p:blipFill>
          <a:blip r:embed="rId1"/>
          <a:stretch/>
        </p:blipFill>
        <p:spPr>
          <a:xfrm>
            <a:off x="250920" y="1773360"/>
            <a:ext cx="619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scilacion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scil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lante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ttp://micro.magnet.fsu.edu/electromag/java/speak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icrófono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ttp://micro.magnet.fsu.edu/electromag/java/microphone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membrana (Tambor)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cuerda o bar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http://www.falstad.com/mathphysics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" name="Picture 4" descr="pulse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17" descr="pulse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9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fexió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Picture 6" descr="hard"/>
          <p:cNvPicPr/>
          <p:nvPr/>
        </p:nvPicPr>
        <p:blipFill>
          <a:blip r:embed="rId1"/>
          <a:stretch/>
        </p:blipFill>
        <p:spPr>
          <a:xfrm>
            <a:off x="3132000" y="206064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flexiones con cambio de densida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Picture 6" descr="reflect2"/>
          <p:cNvPicPr/>
          <p:nvPr/>
        </p:nvPicPr>
        <p:blipFill>
          <a:blip r:embed="rId1"/>
          <a:stretch/>
        </p:blipFill>
        <p:spPr>
          <a:xfrm>
            <a:off x="395280" y="2276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reflect1"/>
          <p:cNvPicPr/>
          <p:nvPr/>
        </p:nvPicPr>
        <p:blipFill>
          <a:blip r:embed="rId2"/>
          <a:stretch/>
        </p:blipFill>
        <p:spPr>
          <a:xfrm>
            <a:off x="5364000" y="22766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95280" y="595008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ágina WEB de o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284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l cruzarse dos o más ondas, éstas se “suman” (superponen). Esto produce distintos efect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Picture 4" descr="superposición de ondas"/>
          <p:cNvPicPr/>
          <p:nvPr/>
        </p:nvPicPr>
        <p:blipFill>
          <a:blip r:embed="rId1"/>
          <a:stretch/>
        </p:blipFill>
        <p:spPr>
          <a:xfrm>
            <a:off x="684360" y="2349360"/>
            <a:ext cx="6119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Picture 5" descr="superposicion2"/>
          <p:cNvPicPr/>
          <p:nvPr/>
        </p:nvPicPr>
        <p:blipFill>
          <a:blip r:embed="rId1"/>
          <a:stretch/>
        </p:blipFill>
        <p:spPr>
          <a:xfrm>
            <a:off x="1619280" y="234792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el mismo senti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Picture 6" descr="superposicion3"/>
          <p:cNvPicPr/>
          <p:nvPr/>
        </p:nvPicPr>
        <p:blipFill>
          <a:blip r:embed="rId1"/>
          <a:stretch/>
        </p:blipFill>
        <p:spPr>
          <a:xfrm>
            <a:off x="1042920" y="22748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sentidos opuest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3" descr="audio"/>
          <p:cNvPicPr/>
          <p:nvPr/>
        </p:nvPicPr>
        <p:blipFill>
          <a:blip r:embed="rId1"/>
          <a:stretch/>
        </p:blipFill>
        <p:spPr>
          <a:xfrm>
            <a:off x="7402680" y="404640"/>
            <a:ext cx="9349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7" descr="superposicion4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os ondas de frecuencias ligeramente distint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ma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3" descr="additive sintesis"/>
          <p:cNvPicPr/>
          <p:nvPr/>
        </p:nvPicPr>
        <p:blipFill>
          <a:blip r:embed="rId1"/>
          <a:stretch/>
        </p:blipFill>
        <p:spPr>
          <a:xfrm>
            <a:off x="611280" y="1844640"/>
            <a:ext cx="518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5" descr="fft-2"/>
          <p:cNvPicPr/>
          <p:nvPr/>
        </p:nvPicPr>
        <p:blipFill>
          <a:blip r:embed="rId1"/>
          <a:stretch/>
        </p:blipFill>
        <p:spPr>
          <a:xfrm>
            <a:off x="684360" y="2349360"/>
            <a:ext cx="7619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4" descr="fft-3"/>
          <p:cNvPicPr/>
          <p:nvPr/>
        </p:nvPicPr>
        <p:blipFill>
          <a:blip r:embed="rId1"/>
          <a:stretch/>
        </p:blipFill>
        <p:spPr>
          <a:xfrm>
            <a:off x="684360" y="2492280"/>
            <a:ext cx="7619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fft-1"/>
          <p:cNvPicPr/>
          <p:nvPr/>
        </p:nvPicPr>
        <p:blipFill>
          <a:blip r:embed="rId1"/>
          <a:stretch/>
        </p:blipFill>
        <p:spPr>
          <a:xfrm>
            <a:off x="755640" y="3645000"/>
            <a:ext cx="7620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Síntesis por superposición de armónic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ttp://www.falstad.com/fouri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tro sitio de síntesis por Modelamiento Físic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ttp://www.cs.ubc.ca/spider/kvdoel/sound_demo6.htm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ropagación de Energía sin transferencia de materia: ond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13" descr="peoplewave"/>
          <p:cNvPicPr/>
          <p:nvPr/>
        </p:nvPicPr>
        <p:blipFill>
          <a:blip r:embed="rId1"/>
          <a:stretch/>
        </p:blipFill>
        <p:spPr>
          <a:xfrm>
            <a:off x="1187280" y="3645000"/>
            <a:ext cx="5904000" cy="131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2349360"/>
            <a:ext cx="7272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Página Web: La Caja de Mús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de Carlos García Peñalb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xtec.es/centres/a8019411/caixa/index_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http://www.kettering.edu/~drussell/Demo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stringpulse"/>
          <p:cNvPicPr/>
          <p:nvPr/>
        </p:nvPicPr>
        <p:blipFill>
          <a:blip r:embed="rId3"/>
          <a:stretch/>
        </p:blipFill>
        <p:spPr>
          <a:xfrm>
            <a:off x="1187280" y="5040360"/>
            <a:ext cx="590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 importante notar que las partículas no se desplazan, sino que vibran u oscilan. Osea, en una flauta no “sale” aire por el extremo….el aire se está moviendo dentro de la flauta a distintas velocidades o “frecuencia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2" name="Picture 4" descr="water"/>
          <p:cNvPicPr/>
          <p:nvPr/>
        </p:nvPicPr>
        <p:blipFill>
          <a:blip r:embed="rId1"/>
          <a:stretch/>
        </p:blipFill>
        <p:spPr>
          <a:xfrm>
            <a:off x="755640" y="3213000"/>
            <a:ext cx="7488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nda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ynWater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dor de ondas producidas por gotas de agua en un estanq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sunami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ción de un Tsunami que se propag desde Chile hasta Japó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ngitudinales: movimiento en el sentido de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" name="Picture 4" descr="Lwave"/>
          <p:cNvPicPr/>
          <p:nvPr/>
        </p:nvPicPr>
        <p:blipFill>
          <a:blip r:embed="rId1"/>
          <a:stretch/>
        </p:blipFill>
        <p:spPr>
          <a:xfrm>
            <a:off x="755640" y="4292640"/>
            <a:ext cx="7920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versales: movimiento perpendicular a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" name="Picture 6" descr="Twave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mplitud     ( A ) es qué tan amplia es la oscilación. Corresponde al volúm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eríodo       ( T ) : cuántos segundos dura un ciclo de una ond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ongitud de Onda  ( </a:t>
            </a:r>
            <a:r>
              <a:rPr b="0" lang="el-GR" sz="2000" spc="-1" strike="noStrike">
                <a:solidFill>
                  <a:srgbClr val="ffffcc"/>
                </a:solidFill>
                <a:latin typeface="Arial"/>
                <a:ea typeface="Arial"/>
              </a:rPr>
              <a:t>λ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) : distancia (en metros) entre dos ciclo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3" name="Picture 4" descr="Onda"/>
          <p:cNvPicPr/>
          <p:nvPr/>
        </p:nvPicPr>
        <p:blipFill>
          <a:blip r:embed="rId1"/>
          <a:stretch/>
        </p:blipFill>
        <p:spPr>
          <a:xfrm>
            <a:off x="611280" y="4076640"/>
            <a:ext cx="7345440" cy="2475000"/>
          </a:xfrm>
          <a:prstGeom prst="rect">
            <a:avLst/>
          </a:prstGeom>
          <a:ln w="0">
            <a:noFill/>
          </a:ln>
        </p:spPr>
      </p:pic>
      <p:sp>
        <p:nvSpPr>
          <p:cNvPr id="74" name="Oval 6"/>
          <p:cNvSpPr/>
          <p:nvPr/>
        </p:nvSpPr>
        <p:spPr>
          <a:xfrm>
            <a:off x="2313000" y="423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2519280" y="4292640"/>
            <a:ext cx="197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843280" y="4365720"/>
            <a:ext cx="14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6845400" y="4338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443640" y="5229360"/>
            <a:ext cx="865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mpl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34434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56610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3672000" y="6093000"/>
            <a:ext cx="197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995640" y="6165720"/>
            <a:ext cx="14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íodo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recuencia  ( </a:t>
            </a:r>
            <a:r>
              <a:rPr b="0" lang="es-CL" sz="2400" spc="-1" strike="noStrike">
                <a:solidFill>
                  <a:srgbClr val="ffffcc"/>
                </a:solidFill>
                <a:latin typeface="Monotype Corsiva"/>
              </a:rPr>
              <a:t>f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) es cuántos ciclos ocurren en 1 segundo.   Corresponde al ton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 es la velocidad de propagación de la onda…en el caso del sonido, es la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Picture 15" descr="onda con formulas"/>
          <p:cNvPicPr/>
          <p:nvPr/>
        </p:nvPicPr>
        <p:blipFill>
          <a:blip r:embed="rId1"/>
          <a:stretch/>
        </p:blipFill>
        <p:spPr>
          <a:xfrm>
            <a:off x="250920" y="4149720"/>
            <a:ext cx="8642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7T13:06:33Z</dcterms:modified>
  <cp:revision>34</cp:revision>
  <dc:subject/>
  <dc:title>Taller de Ciencias en la Música </dc:title>
</cp:coreProperties>
</file>