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3902-E44F-4471-B169-0AE6AC4334C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9030-96A2-44D3-9B2C-3A9C9A1323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3356-8A1F-4DE1-A0A0-FAAB938497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F96E-D13E-4441-BBA8-4CC141951F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1F78-FD81-44FA-851D-321C2091BA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977-6179-47FC-A4EC-2C188DC1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F42-A093-4E61-9111-48D70E70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BE6-A04A-45EE-BA13-AD7700AE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F105-14D8-4C22-8B58-51D94793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65E-DECF-4C2F-B495-07256449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43E2-9FBF-4E20-95C4-F386C29A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0699-B2B8-4101-B2A4-9264F652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956-2272-4A95-A712-E33F6197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398-9AB8-4946-9C75-583BC292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A2A6-E1DC-4E21-A3CA-2AB44665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50C-474A-4175-B943-5D8EA97B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D13-5AF0-4D2E-B5A5-A692CBB2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3227-3F54-43D0-9341-2E4517B3E48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och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" name="Picture 4" descr="audio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071720" y="3071880"/>
            <a:ext cx="71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cc"/>
                </a:solidFill>
                <a:latin typeface="Arial"/>
              </a:rPr>
              <a:t>¿Qué es el soni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071720" y="3071880"/>
            <a:ext cx="7127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¿Qué características describen al son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or ejemp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Frecuencia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071720" y="3071880"/>
            <a:ext cx="71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cc"/>
                </a:solidFill>
                <a:latin typeface="Arial"/>
              </a:rPr>
              <a:t>¿Qué es la Músic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071720" y="3071880"/>
            <a:ext cx="71276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¿Qué características describen los aspectos de la mús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or ejemp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T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Rit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Ti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“Intenc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Randall Ledermann</cp:lastModifiedBy>
  <dcterms:modified xsi:type="dcterms:W3CDTF">2008-01-07T02:14:20Z</dcterms:modified>
  <cp:revision>47</cp:revision>
  <dc:subject/>
  <dc:title>Taller de Ciencias en la Música </dc:title>
</cp:coreProperties>
</file>