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6FAB-18D6-4FF8-9258-278017F74D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62C7-3D85-40B6-A234-6D0501A083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F2AB-299E-4977-BD40-4D5C39B45F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80C-F9C4-4AEE-BCBA-DE1BA38D91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3AA0-4BFE-4AE0-885D-8F15F43DC0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DED1-6C24-4570-ABCA-9D6FDBF873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52D5-AC6F-4664-9815-988E30C142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A2F-8EF2-498A-B25D-795EE6192C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ACAC-935E-46E4-8B35-23935CE6A5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5EE-F714-477B-9FF9-52AA617CD6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DED5-DBB4-44A7-BDC0-C963C4661E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CD2-4547-4CAB-A320-B01E6C74DC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DEA-0E61-42C8-9FBC-A666DA83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090-F16A-4B7D-AD0E-C68810A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B0B-AD23-40E0-8351-0E2D5E46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119-BB8E-4A32-AE71-9B2D9F81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FD6-A980-4DBD-9E49-A3A54E9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6EE-75E7-4A61-A458-EECBB1F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824-2FD6-4720-B28D-E0477041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AA9-90E8-4885-A35F-46E6DF4F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2F8-2896-4BA3-B92D-FF3AA2A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47F-0AA4-4AC2-AFCC-D72F8F3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B71-18CF-4A18-A7AC-B51F438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453-2F31-4240-B980-5265197A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0728-38FD-44B1-9886-AF61DFA6E0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o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ext Box 6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4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Picture 5" descr="escalera escher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uning pipe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efine una primera nota fundamental o I grado con una cuerda de cierta longitud ( Ej:  DO 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Pitágoras notó que hay dos intervalos que suenan particularmente “bien” o agradables al oído, que son la VIII y la V. Notó, también que la proporción de longitud de las cuerdas que daban estos intervalos eran exactas:  1/2  y  2/3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pitagoras monocordio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3443400"/>
          </a:xfrm>
          <a:prstGeom prst="rect">
            <a:avLst/>
          </a:prstGeom>
          <a:ln w="0">
            <a:noFill/>
          </a:ln>
        </p:spPr>
      </p:pic>
      <p:sp>
        <p:nvSpPr>
          <p:cNvPr id="58" name="6 CuadroTexto"/>
          <p:cNvSpPr/>
          <p:nvPr/>
        </p:nvSpPr>
        <p:spPr>
          <a:xfrm>
            <a:off x="285840" y="6000840"/>
            <a:ext cx="864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M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La relación “agradable” sólo se da para el tono en que fue construida la escal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6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Para el siguiente ejemplo usaremos DO como la fundamental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VIII (Do’)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está en relación  1:2    con la fundamental 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   está en relación  2:3    con la fundamental 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    está en relación   3:4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3/4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     está en relación   4:5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m (Mi</a:t>
            </a:r>
            <a:r>
              <a:rPr b="0" lang="es-CL" sz="1000" spc="-1" strike="noStrike">
                <a:solidFill>
                  <a:srgbClr val="ffffcc"/>
                </a:solidFill>
                <a:latin typeface="Arial"/>
              </a:rPr>
              <a:t>b) 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stá en relación   5:6    con la fundamental  =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bajo la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 (una IV bajo Sol )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2/3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4/3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 = DO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=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IV =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¿Es la distancia entre Do y Re igual a la distancia entre Re y Mi?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Picture 4" descr="teclados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Randall Ledermann</cp:lastModifiedBy>
  <dcterms:modified xsi:type="dcterms:W3CDTF">2008-01-06T16:20:35Z</dcterms:modified>
  <cp:revision>34</cp:revision>
  <dc:subject/>
  <dc:title>Taller de Ciencias en la Música </dc:title>
</cp:coreProperties>
</file>