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4395-5230-4613-8289-B7D50B64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D995-E373-4857-921B-6D6F2A91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1D22-160D-44FD-9162-771D60B0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71D5-0C1B-414B-AC8A-B6D2AA51B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5898-EA1D-4ED4-88DF-4423668B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5170-8D86-4529-B928-DC90E408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37DF-8AE7-4B18-B8EE-6637CCAD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7E64-8E19-42FB-BF15-D481CC1E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C031-5A65-4219-AB09-C0597938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4922-214F-462F-AF8D-76D727E4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D4F1-D75C-4277-A66A-41586652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EECD-55D2-4E46-AEE5-F774C2CE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0583-7F53-4EC8-976F-E071E5FC8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-61920"/>
            <a:ext cx="8915400" cy="68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5280" y="351000"/>
            <a:ext cx="7543800" cy="6507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09680" y="1752480"/>
            <a:ext cx="5335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43200" y="17524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93560" y="0"/>
            <a:ext cx="70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ación del sexo masculino en la especie hum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omosomas sexuales y fenotipos sexuales en la especie hum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stitución cromosómica            Fenot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6, XX                                      hembra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6,XY                                       macho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5,X                                         sind. de Tur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7,XXY                                   sind.Klinefe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8,XXXY                                sind.Klinefe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7,XXX                                        hemb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7,XYY                                        mac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eterminación del sexo en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Drosophila melanog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úmero  de                 Juegos de              Relación               Feno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romosomas X           autosomas (A)          X/A                     sex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                              2                          1,5              metahem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2                              2                          1              hembra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                              3                         0,67                  interse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1                              2                         0,5               macho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                              3                         0,33                metama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01840" y="-63360"/>
            <a:ext cx="6340320" cy="69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335240"/>
            <a:ext cx="74674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1963800"/>
            <a:ext cx="861048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95440" y="0"/>
            <a:ext cx="615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39880" y="0"/>
            <a:ext cx="59706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3880" y="12952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22860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286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1219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2286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3429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12952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22860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22860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10080" y="12952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10080" y="22860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248520" y="2286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86600" y="3352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2286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3352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848720" y="3429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54864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10280" y="54864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54864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924680" y="54864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5880" y="5486400"/>
            <a:ext cx="3812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556272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1447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2920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1828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1828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2940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53080" y="3048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1371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483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2438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771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248160" y="1828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32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3429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3429000"/>
            <a:ext cx="3812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3124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12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2438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244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388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12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3429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2428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6748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42670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42670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848720" y="42670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40384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34320" y="4038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012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773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1992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19920" y="44956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5257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4495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0773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42670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0" y="42670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4495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-228600" y="-731880"/>
            <a:ext cx="9372600" cy="852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332000"/>
            <a:ext cx="914400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654120"/>
            <a:ext cx="9144000" cy="55497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477080" y="333360"/>
            <a:ext cx="70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Herencia holándrica o ligada al cromosom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20:21:21Z</dcterms:created>
  <dc:creator>Facultad de Medicina</dc:creator>
  <dc:description/>
  <dc:language>en-US</dc:language>
  <cp:lastModifiedBy> </cp:lastModifiedBy>
  <dcterms:modified xsi:type="dcterms:W3CDTF">2008-01-03T02:54:54Z</dcterms:modified>
  <cp:revision>13</cp:revision>
  <dc:subject/>
  <dc:title>Presentación de PowerPoint</dc:title>
</cp:coreProperties>
</file>