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65EAD-4772-49A9-A4D9-C91A58BAB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8B1FD-721F-4B96-A37D-0ECBB9BC9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54689-0B83-4735-99D1-FD36F31DB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3C903-F649-4661-8D36-49C5D44A4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F8F8C-2736-4742-90A8-7A6CD26AA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E4F1F-8C81-4EE8-A09C-CCDC7C24A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E91AA-4FD0-4F79-AEB8-145FFD11C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CE39B-FB89-40E4-A2C5-82FBC1733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3F774-FEA9-4B9F-92F8-B84EF6605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628EF-6F60-42E2-8CE2-3884AC48A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9BEEE-DD6C-4A96-9AC9-25873AC23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95886-860F-459B-99A6-536ACAE79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290BB-21D5-4974-82AA-9FB1DDCD5B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01520"/>
            <a:ext cx="8686800" cy="665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333360"/>
            <a:ext cx="8534520" cy="74962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340000" y="0"/>
            <a:ext cx="46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ransducción  bacteria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ransformación bacteria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457200" y="1168560"/>
            <a:ext cx="6477120" cy="568944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6707520" y="2819520"/>
            <a:ext cx="190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sis bacteria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478920" y="3733920"/>
            <a:ext cx="244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NA bacteriano lib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92680" y="5751360"/>
            <a:ext cx="267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cteria transforma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798560" y="-762120"/>
            <a:ext cx="6440400" cy="736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527120" y="-228600"/>
            <a:ext cx="5362560" cy="845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397160" y="-47520"/>
            <a:ext cx="5808600" cy="766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486080" y="0"/>
            <a:ext cx="5706720" cy="746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887400"/>
            <a:ext cx="937260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28600" y="1833480"/>
            <a:ext cx="8915400" cy="256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057400" y="0"/>
            <a:ext cx="5343480" cy="701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91440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Conjugación entre</a:t>
            </a:r>
            <a:br>
              <a:rPr sz="3200"/>
            </a:br>
            <a:br>
              <a:rPr sz="3200"/>
            </a:b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   cepa Hfr   thr</a:t>
            </a:r>
            <a:r>
              <a:rPr b="1" lang="es-ES" sz="3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 leu</a:t>
            </a:r>
            <a:r>
              <a:rPr b="1" lang="es-ES" sz="3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 Str</a:t>
            </a:r>
            <a:r>
              <a:rPr b="1" lang="es-ES" sz="3200" spc="-1" strike="noStrike" baseline="30000">
                <a:solidFill>
                  <a:srgbClr val="000000"/>
                </a:solidFill>
                <a:latin typeface="Arial"/>
              </a:rPr>
              <a:t>S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      y</a:t>
            </a:r>
            <a:br>
              <a:rPr sz="3200"/>
            </a:br>
            <a:br>
              <a:rPr sz="3200"/>
            </a:b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                                 cepa F-  thr</a:t>
            </a:r>
            <a:r>
              <a:rPr b="1" lang="es-ES" sz="3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  leu</a:t>
            </a:r>
            <a:r>
              <a:rPr b="1" lang="es-ES" sz="3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   Str</a:t>
            </a:r>
            <a:r>
              <a:rPr b="1" lang="es-ES" sz="3200" spc="-1" strike="noStrike" baseline="30000">
                <a:solidFill>
                  <a:srgbClr val="000000"/>
                </a:solidFill>
                <a:latin typeface="Arial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24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99"/>
                </a:solidFill>
                <a:latin typeface="Arial"/>
              </a:rPr>
              <a:t>En un medio de cultivo mínimo, con estreptomicina, sólo sobrevivirán las bacterias recombinantes thr</a:t>
            </a:r>
            <a:r>
              <a:rPr b="1" lang="es-ES" sz="3200" spc="-1" strike="noStrike" baseline="30000">
                <a:solidFill>
                  <a:srgbClr val="003399"/>
                </a:solidFill>
                <a:latin typeface="Arial"/>
              </a:rPr>
              <a:t>+</a:t>
            </a:r>
            <a:r>
              <a:rPr b="1" lang="es-ES" sz="3200" spc="-1" strike="noStrike">
                <a:solidFill>
                  <a:srgbClr val="003399"/>
                </a:solidFill>
                <a:latin typeface="Arial"/>
              </a:rPr>
              <a:t>  leu</a:t>
            </a:r>
            <a:r>
              <a:rPr b="1" lang="es-ES" sz="3200" spc="-1" strike="noStrike" baseline="30000">
                <a:solidFill>
                  <a:srgbClr val="003399"/>
                </a:solidFill>
                <a:latin typeface="Arial"/>
              </a:rPr>
              <a:t>+</a:t>
            </a:r>
            <a:r>
              <a:rPr b="1" lang="es-ES" sz="3200" spc="-1" strike="noStrike">
                <a:solidFill>
                  <a:srgbClr val="003399"/>
                </a:solidFill>
                <a:latin typeface="Arial"/>
              </a:rPr>
              <a:t>   y resistentes a la estreptomic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1238400"/>
            <a:ext cx="9372600" cy="42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0T02:02:08Z</dcterms:created>
  <dc:creator> </dc:creator>
  <dc:description/>
  <dc:language>en-US</dc:language>
  <cp:lastModifiedBy>Fac. de Medicina</cp:lastModifiedBy>
  <dcterms:modified xsi:type="dcterms:W3CDTF">2008-01-04T13:04:46Z</dcterms:modified>
  <cp:revision>11</cp:revision>
  <dc:subject/>
  <dc:title>Diapositiva 1</dc:title>
</cp:coreProperties>
</file>