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gif" ContentType="image/gif"/>
  <Override PartName="/ppt/media/image8.jpeg" ContentType="image/jpeg"/>
  <Override PartName="/ppt/media/image2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20.gif" ContentType="image/gif"/>
  <Override PartName="/ppt/media/image3.gif" ContentType="image/gif"/>
  <Override PartName="/ppt/media/image21.gif" ContentType="image/gif"/>
  <Override PartName="/ppt/media/image19.gif" ContentType="image/gif"/>
  <Override PartName="/ppt/media/image7.png" ContentType="image/png"/>
  <Override PartName="/ppt/media/image4.gif" ContentType="image/gif"/>
  <Override PartName="/ppt/media/image1.jpeg" ContentType="image/jpeg"/>
  <Override PartName="/ppt/media/image17.gif" ContentType="image/gif"/>
  <Override PartName="/ppt/media/image16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9061-C49D-44A2-B83D-D1976F72F4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6303-688D-49FF-9808-0E03DFD148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34C8-FCDA-4F0A-B113-075D82AAE1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2F97-FAA3-4A6F-BB67-8D6BF14F56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6D46-77F9-4281-9024-47EBAD06F2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337B-1AA3-46ED-A2AC-383DAA2167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5819-B848-4066-94FC-B28918F861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6F00-101C-406E-8D14-B8C8B1DDA1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F362-17BF-4EA3-84D8-1056EFA556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9396-B84C-4493-8908-7FDE7B484E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E2AF-49F0-49F3-93AF-68C2C2A974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389A-D0DD-4A90-8813-B0BDF504D4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5306-9D3E-4FC3-A4DC-F785FFD203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406F-78E5-45C9-9C6D-87B9C57DFE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BE7A-09B6-4FFE-A292-91DFD7B47A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1211-CB4A-4C09-A5A2-746EFA67A3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27C8-96AC-4EF5-9BF7-BDA5D35FCD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9E22-86FE-4842-8C0F-AB32E066D6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D0C9-6CF9-4C3D-AEBD-29480000C4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30A1-5D21-415A-B198-BA90F3CF37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7EB9-0336-4A44-B1F0-40129DDBCA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A012-AF30-4399-93B6-88C220D8D98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418-DCAE-4B88-95E3-E89F42AD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E99-782C-48FB-A643-91C7D8C2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9DD-8428-4DA0-B1D4-EDC2615C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20F-3090-431F-B285-D8C845DB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6C9-86C4-4416-B691-5275B2FF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64E-CB01-46F5-8B00-0415FB29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CB9-4995-4C13-A6F9-FCF6EC43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270-20BC-4E21-BCE3-299331D1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61B-96E5-4A7A-9ADB-A7C2024D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FAE-06E8-4253-BA33-B1F32827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EC0-E8E6-47EC-A0C1-DE559A9A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819-34AE-4944-BAD6-6E850018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ADBD-B6B5-4B06-9D71-E0D7593C245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xtec.es/centres/a8019411/caixa/index_es.htm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" name="Picture 4" descr="audio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7" name="Picture 4" descr="onda con formulas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2297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395280" y="5157720"/>
            <a:ext cx="8207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laciones en las On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 = 1 / </a:t>
            </a:r>
            <a:r>
              <a:rPr b="0" lang="es-CL" sz="2400" spc="-1" strike="noStrike">
                <a:solidFill>
                  <a:srgbClr val="ffffff"/>
                </a:solidFill>
                <a:latin typeface="Monotype Corsiva"/>
              </a:rPr>
              <a:t>f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f</a:t>
            </a: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g(t)=sin(2·</a:t>
            </a:r>
            <a:r>
              <a:rPr b="0" i="1" lang="el-GR" sz="3200" spc="-1" strike="noStrike">
                <a:solidFill>
                  <a:srgbClr val="ffffff"/>
                </a:solidFill>
                <a:latin typeface="Monotype Corsiva"/>
              </a:rPr>
              <a:t>π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f·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presentación Circul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56000" y="1699920"/>
            <a:ext cx="2746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s ondas se representan matemáticamente como funciones trigonométricas (Seno y Coseno) o como números Reales e Imaginari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Picture 4" descr="complex"/>
          <p:cNvPicPr/>
          <p:nvPr/>
        </p:nvPicPr>
        <p:blipFill>
          <a:blip r:embed="rId1"/>
          <a:stretch/>
        </p:blipFill>
        <p:spPr>
          <a:xfrm>
            <a:off x="250920" y="1773360"/>
            <a:ext cx="619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scilacione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scilacion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lante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ttp://micro.magnet.fsu.edu/electromag/java/speak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icrófono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ttp://micro.magnet.fsu.edu/electromag/java/microphone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membrana (Tambor)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cuerda o bar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http://www.falstad.com/mathphysics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ul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" name="Picture 4" descr="pulse"/>
          <p:cNvPicPr/>
          <p:nvPr/>
        </p:nvPicPr>
        <p:blipFill>
          <a:blip r:embed="rId1"/>
          <a:stretch/>
        </p:blipFill>
        <p:spPr>
          <a:xfrm>
            <a:off x="3132000" y="220500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71640" y="580392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dem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ul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17" descr="pulse"/>
          <p:cNvPicPr/>
          <p:nvPr/>
        </p:nvPicPr>
        <p:blipFill>
          <a:blip r:embed="rId1"/>
          <a:stretch/>
        </p:blipFill>
        <p:spPr>
          <a:xfrm>
            <a:off x="3132000" y="220500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9"/>
          <p:cNvSpPr/>
          <p:nvPr/>
        </p:nvSpPr>
        <p:spPr>
          <a:xfrm>
            <a:off x="971640" y="580392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dem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fexió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Picture 6" descr="hard"/>
          <p:cNvPicPr/>
          <p:nvPr/>
        </p:nvPicPr>
        <p:blipFill>
          <a:blip r:embed="rId1"/>
          <a:stretch/>
        </p:blipFill>
        <p:spPr>
          <a:xfrm>
            <a:off x="3132000" y="206064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flexiones con cambio de densidad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Picture 6" descr="reflect2"/>
          <p:cNvPicPr/>
          <p:nvPr/>
        </p:nvPicPr>
        <p:blipFill>
          <a:blip r:embed="rId1"/>
          <a:stretch/>
        </p:blipFill>
        <p:spPr>
          <a:xfrm>
            <a:off x="395280" y="22766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reflect1"/>
          <p:cNvPicPr/>
          <p:nvPr/>
        </p:nvPicPr>
        <p:blipFill>
          <a:blip r:embed="rId2"/>
          <a:stretch/>
        </p:blipFill>
        <p:spPr>
          <a:xfrm>
            <a:off x="5364000" y="227664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95280" y="595008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ágina WEB de o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2840" y="145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l cruzarse dos o más ondas, éstas se “suman” (superponen). Esto produce distintos efecto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Picture 4" descr="superposición de ondas"/>
          <p:cNvPicPr/>
          <p:nvPr/>
        </p:nvPicPr>
        <p:blipFill>
          <a:blip r:embed="rId1"/>
          <a:stretch/>
        </p:blipFill>
        <p:spPr>
          <a:xfrm>
            <a:off x="684360" y="2349360"/>
            <a:ext cx="6119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Picture 5" descr="superposicion2"/>
          <p:cNvPicPr/>
          <p:nvPr/>
        </p:nvPicPr>
        <p:blipFill>
          <a:blip r:embed="rId1"/>
          <a:stretch/>
        </p:blipFill>
        <p:spPr>
          <a:xfrm>
            <a:off x="1619280" y="234792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el mismo sentid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Picture 6" descr="superposicion3"/>
          <p:cNvPicPr/>
          <p:nvPr/>
        </p:nvPicPr>
        <p:blipFill>
          <a:blip r:embed="rId1"/>
          <a:stretch/>
        </p:blipFill>
        <p:spPr>
          <a:xfrm>
            <a:off x="1042920" y="2274840"/>
            <a:ext cx="4465800" cy="4465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sentidos opuest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3" descr="audio"/>
          <p:cNvPicPr/>
          <p:nvPr/>
        </p:nvPicPr>
        <p:blipFill>
          <a:blip r:embed="rId1"/>
          <a:stretch/>
        </p:blipFill>
        <p:spPr>
          <a:xfrm>
            <a:off x="7402680" y="404640"/>
            <a:ext cx="93492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7" descr="superposicion4"/>
          <p:cNvPicPr/>
          <p:nvPr/>
        </p:nvPicPr>
        <p:blipFill>
          <a:blip r:embed="rId1"/>
          <a:stretch/>
        </p:blipFill>
        <p:spPr>
          <a:xfrm>
            <a:off x="611280" y="220500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os ondas de frecuencias ligeramente distinta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ma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3" descr="additive sintesis"/>
          <p:cNvPicPr/>
          <p:nvPr/>
        </p:nvPicPr>
        <p:blipFill>
          <a:blip r:embed="rId1"/>
          <a:stretch/>
        </p:blipFill>
        <p:spPr>
          <a:xfrm>
            <a:off x="611280" y="1844640"/>
            <a:ext cx="51847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5" descr="fft-2"/>
          <p:cNvPicPr/>
          <p:nvPr/>
        </p:nvPicPr>
        <p:blipFill>
          <a:blip r:embed="rId1"/>
          <a:stretch/>
        </p:blipFill>
        <p:spPr>
          <a:xfrm>
            <a:off x="684360" y="2349360"/>
            <a:ext cx="7619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4" descr="fft-3"/>
          <p:cNvPicPr/>
          <p:nvPr/>
        </p:nvPicPr>
        <p:blipFill>
          <a:blip r:embed="rId1"/>
          <a:stretch/>
        </p:blipFill>
        <p:spPr>
          <a:xfrm>
            <a:off x="684360" y="2492280"/>
            <a:ext cx="7619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fft-1"/>
          <p:cNvPicPr/>
          <p:nvPr/>
        </p:nvPicPr>
        <p:blipFill>
          <a:blip r:embed="rId1"/>
          <a:stretch/>
        </p:blipFill>
        <p:spPr>
          <a:xfrm>
            <a:off x="755640" y="3645000"/>
            <a:ext cx="7620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Síntesis por superposición de armónic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ttp://www.falstad.com/fouri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tro sitio de síntesis por Modelamiento Físic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ttp://www.cs.ubc.ca/spider/kvdoel/sound_demo6.htm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ropagación de Energía sin transferencia de materia: ond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13" descr="peoplewave"/>
          <p:cNvPicPr/>
          <p:nvPr/>
        </p:nvPicPr>
        <p:blipFill>
          <a:blip r:embed="rId1"/>
          <a:stretch/>
        </p:blipFill>
        <p:spPr>
          <a:xfrm>
            <a:off x="1187280" y="3645000"/>
            <a:ext cx="5904000" cy="1317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24000" y="2349360"/>
            <a:ext cx="72723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Página Web: La Caja de Mús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de Carlos García Peñalb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xtec.es/centres/a8019411/caixa/index_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http://www.kettering.edu/~drussell/Demo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stringpulse"/>
          <p:cNvPicPr/>
          <p:nvPr/>
        </p:nvPicPr>
        <p:blipFill>
          <a:blip r:embed="rId3"/>
          <a:stretch/>
        </p:blipFill>
        <p:spPr>
          <a:xfrm>
            <a:off x="1187280" y="5040360"/>
            <a:ext cx="590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 importante notar que las partículas no se desplazan, sino que vibran u oscilan. Osea, en una flauta no “sale” aire por el extremo….el aire se está moviendo dentro de la flauta a distintas velocidades o “frecuencia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2" name="Picture 4" descr="water"/>
          <p:cNvPicPr/>
          <p:nvPr/>
        </p:nvPicPr>
        <p:blipFill>
          <a:blip r:embed="rId1"/>
          <a:stretch/>
        </p:blipFill>
        <p:spPr>
          <a:xfrm>
            <a:off x="755640" y="3213000"/>
            <a:ext cx="74883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ndas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ynWater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dor de ondas producidas por gotas de agua en un estanqu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sunami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ción de un Tsunami que se propag desde Chile hasta Japó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ngitudinales: movimiento en el sentido de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" name="Picture 4" descr="Lwave"/>
          <p:cNvPicPr/>
          <p:nvPr/>
        </p:nvPicPr>
        <p:blipFill>
          <a:blip r:embed="rId1"/>
          <a:stretch/>
        </p:blipFill>
        <p:spPr>
          <a:xfrm>
            <a:off x="755640" y="4292640"/>
            <a:ext cx="7920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versales: movimiento perpendicular a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0" name="Picture 6" descr="Twave"/>
          <p:cNvPicPr/>
          <p:nvPr/>
        </p:nvPicPr>
        <p:blipFill>
          <a:blip r:embed="rId1"/>
          <a:stretch/>
        </p:blipFill>
        <p:spPr>
          <a:xfrm>
            <a:off x="395280" y="3284640"/>
            <a:ext cx="8353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090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mplitud     ( A ) es qué tan amplia es la oscilación. Corresponde al volúm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eríodo       ( T ) : cuántos segundos dura un ciclo de una ond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ongitud de Onda  ( </a:t>
            </a:r>
            <a:r>
              <a:rPr b="0" lang="el-GR" sz="2000" spc="-1" strike="noStrike">
                <a:solidFill>
                  <a:srgbClr val="ffffcc"/>
                </a:solidFill>
                <a:latin typeface="Arial"/>
                <a:ea typeface="Arial"/>
              </a:rPr>
              <a:t>λ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) : distancia (en metros) entre dos ciclo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3" name="Picture 4" descr="Onda"/>
          <p:cNvPicPr/>
          <p:nvPr/>
        </p:nvPicPr>
        <p:blipFill>
          <a:blip r:embed="rId1"/>
          <a:stretch/>
        </p:blipFill>
        <p:spPr>
          <a:xfrm>
            <a:off x="611280" y="4076640"/>
            <a:ext cx="7345440" cy="2475000"/>
          </a:xfrm>
          <a:prstGeom prst="rect">
            <a:avLst/>
          </a:prstGeom>
          <a:ln w="0">
            <a:noFill/>
          </a:ln>
        </p:spPr>
      </p:pic>
      <p:sp>
        <p:nvSpPr>
          <p:cNvPr id="74" name="Oval 6"/>
          <p:cNvSpPr/>
          <p:nvPr/>
        </p:nvSpPr>
        <p:spPr>
          <a:xfrm>
            <a:off x="2313000" y="423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2519280" y="4292640"/>
            <a:ext cx="197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843280" y="4365720"/>
            <a:ext cx="1439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6845400" y="4338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443640" y="5229360"/>
            <a:ext cx="8650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mpl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34434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56610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3672000" y="6093000"/>
            <a:ext cx="197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3995640" y="6165720"/>
            <a:ext cx="1440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íodo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recuencia  ( </a:t>
            </a:r>
            <a:r>
              <a:rPr b="0" lang="es-CL" sz="2400" spc="-1" strike="noStrike">
                <a:solidFill>
                  <a:srgbClr val="ffffcc"/>
                </a:solidFill>
                <a:latin typeface="Monotype Corsiva"/>
              </a:rPr>
              <a:t>f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) es cuántos ciclos ocurren en 1 segundo.   Se mide en Hertz (ciclos/segundo). Corresponde al ton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 es la velocidad de propagación de la onda…en el caso del sonido, es la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Picture 15" descr="onda con formulas"/>
          <p:cNvPicPr/>
          <p:nvPr/>
        </p:nvPicPr>
        <p:blipFill>
          <a:blip r:embed="rId1"/>
          <a:stretch/>
        </p:blipFill>
        <p:spPr>
          <a:xfrm>
            <a:off x="250920" y="4149720"/>
            <a:ext cx="86421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5T12:24:20Z</dcterms:modified>
  <cp:revision>36</cp:revision>
  <dc:subject/>
  <dc:title>Taller de Ciencias en la Música </dc:title>
</cp:coreProperties>
</file>