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0CC-BB26-4A8F-A5AA-0FACCE69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108-DEF3-418E-A77F-AF4CC20E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C2E-D5E2-4F4A-8480-F35F3099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95D-BDD8-4CC6-8CBC-3A3CFB1E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154-AADB-4B20-A892-1508E44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F78-1CC0-42A7-B88A-B9AF3F91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5DC-6576-41AB-95EF-42FEA21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F28-14D1-4E90-809D-67DF1E02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960-31F4-4B7E-9EBB-4B8F1E4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F95-3C31-4B38-9F1A-86232988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30B-81FD-4D21-8039-54ADB16C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1D1-F322-42D9-8B75-571DF6A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3AD9-BFCD-4FB3-AC69-D3EF051BFD30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udio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relación hay entre la Música y la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es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es que escucham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distinguimos un violín de una flau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Por qué hay sonidos “más musicales” que otr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lo hacen para sonar los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todo esto sirve al fabricar instrumentos musical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grabar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representar sonido con númer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“comprimir”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manipular digitalmente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Ve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close_up clarinet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rafico ondas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Sonido, Música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Picture 4" descr="Flautas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Picture 6" descr="Sitar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ipa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axo-Soprano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Membrana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ndas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artitura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4T05:24:55Z</dcterms:modified>
  <cp:revision>18</cp:revision>
  <dc:subject/>
  <dc:title>Taller de Ciencias en la Música </dc:title>
</cp:coreProperties>
</file>