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525-C95F-4F5F-8CC7-17CDEB90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E79-0D5C-4280-BDCA-E5B950F9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6AC-6757-4867-AA03-11B3CB34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0A7-59E9-40F2-A5FF-407EE51E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83E-0644-4277-A7B7-BE4D6E42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68D-F068-493A-8506-4E14C002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081-7CC3-4BFE-A62C-F2CE99BF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F80-B474-49D1-8ED7-50671C20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B7E-534E-4D07-B1CE-B15A039D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0A9-5197-42F1-9AF9-F2B04C67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CB2-C651-4DD7-A909-019C8772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982-809F-489B-BE58-010C3B26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0A37-A146-4D6D-A4E5-825EAB1D1A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Í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H1_2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Picture 19" descr="ossicle-qt[1]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i-ear-qt[1]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movie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Basilar_Membrane1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9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Rectangle 34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8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9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5148360" y="5261040"/>
              <a:ext cx="3456000" cy="32868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8604360" y="5084640"/>
              <a:ext cx="156960" cy="36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7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9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0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5292720" y="6381720"/>
              <a:ext cx="3311640" cy="4320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3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5479920" y="5257800"/>
              <a:ext cx="3102120" cy="2412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676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4" descr="cochlear-qt[1]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orti-qt[1]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t18h[1]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t1sh[1]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t8lh[1]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c-qtl[1]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c-qtr[1]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basilar-qt[1]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ossicle-qt[1]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i-ear-qt[1]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movie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5T12:29:00Z</dcterms:modified>
  <cp:revision>31</cp:revision>
  <dc:subject/>
  <dc:title>Taller de Ciencias en la Música </dc:title>
</cp:coreProperties>
</file>