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A1F89-DABB-44FD-B42B-4C15EF6A8B4B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394D6-CA50-4C11-9C45-8AFC593F828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21EE0-0C6B-4D59-9F2B-04DF60B7CE4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4B3B0-9F43-4104-8278-8411FDB60AB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75ED2-ED85-4FBB-AF32-9B344F987A2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9C6C-EC67-4FE0-9ACF-A73AA522D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E6C7-2AD3-4169-914E-EC3C8CCE8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9816-7DFB-4CF5-8558-D2E5F7009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D713-8D99-4E20-9C58-D0596D108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9041-2525-45CA-B011-C28113A45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B6D0-B99D-464B-8028-8653F252F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DEB6-B5B2-478E-AEC3-01AAA20CA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F1DC-5BE9-4AAE-B15A-71FB253FF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1883-3E94-4C4B-8C19-51A3B7FAF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CE30-E679-491A-AE92-BB12024A9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E062-2485-4CA2-9BB8-6806C4A1E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8ACE-868E-4DC9-8975-B5BD536A2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3A3E5-E362-4A07-A3D4-F61B3D0F044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179280" y="1484280"/>
            <a:ext cx="8713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8854920" y="1447920"/>
            <a:ext cx="73080" cy="730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Taller de Música en la Ciencia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563640" y="6093000"/>
            <a:ext cx="5360760" cy="55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nero dos mil nuev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2" name="Picture 4" descr="audio"/>
          <p:cNvPicPr/>
          <p:nvPr/>
        </p:nvPicPr>
        <p:blipFill>
          <a:blip r:embed="rId1"/>
          <a:stretch/>
        </p:blipFill>
        <p:spPr>
          <a:xfrm>
            <a:off x="1476360" y="1989000"/>
            <a:ext cx="386712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El Sonido y La Música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4" name="Picture 5" descr="Onda"/>
          <p:cNvPicPr/>
          <p:nvPr/>
        </p:nvPicPr>
        <p:blipFill>
          <a:blip r:embed="rId1"/>
          <a:stretch/>
        </p:blipFill>
        <p:spPr>
          <a:xfrm>
            <a:off x="7451640" y="189000"/>
            <a:ext cx="1224000" cy="12081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1071720" y="3071880"/>
            <a:ext cx="712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0" spc="-1" strike="noStrike">
                <a:solidFill>
                  <a:srgbClr val="ffffcc"/>
                </a:solidFill>
                <a:latin typeface="Arial"/>
              </a:rPr>
              <a:t>¿Qué es el sonido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El Sonido y La Música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7" name="Picture 5" descr="Onda"/>
          <p:cNvPicPr/>
          <p:nvPr/>
        </p:nvPicPr>
        <p:blipFill>
          <a:blip r:embed="rId1"/>
          <a:stretch/>
        </p:blipFill>
        <p:spPr>
          <a:xfrm>
            <a:off x="7451640" y="189000"/>
            <a:ext cx="1224000" cy="12081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"/>
          <p:cNvSpPr/>
          <p:nvPr/>
        </p:nvSpPr>
        <p:spPr>
          <a:xfrm>
            <a:off x="1071720" y="3071880"/>
            <a:ext cx="71276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¿Qué características describen al sonid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Por ejempl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-Amplit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-Frecuencia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El Sonido y La Música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0" name="Picture 5" descr="Onda"/>
          <p:cNvPicPr/>
          <p:nvPr/>
        </p:nvPicPr>
        <p:blipFill>
          <a:blip r:embed="rId1"/>
          <a:stretch/>
        </p:blipFill>
        <p:spPr>
          <a:xfrm>
            <a:off x="7451640" y="189000"/>
            <a:ext cx="1224000" cy="12081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1071720" y="3071880"/>
            <a:ext cx="712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0" spc="-1" strike="noStrike">
                <a:solidFill>
                  <a:srgbClr val="ffffcc"/>
                </a:solidFill>
                <a:latin typeface="Arial"/>
              </a:rPr>
              <a:t>¿Qué es la Música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El Sonido y La Música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3" name="Picture 5" descr="Onda"/>
          <p:cNvPicPr/>
          <p:nvPr/>
        </p:nvPicPr>
        <p:blipFill>
          <a:blip r:embed="rId1"/>
          <a:stretch/>
        </p:blipFill>
        <p:spPr>
          <a:xfrm>
            <a:off x="7451640" y="189000"/>
            <a:ext cx="1224000" cy="12081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6"/>
          <p:cNvSpPr/>
          <p:nvPr/>
        </p:nvSpPr>
        <p:spPr>
          <a:xfrm>
            <a:off x="1071720" y="3071880"/>
            <a:ext cx="712764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¿Qué características describen los aspectos de la músic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Por ejempl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-To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-Rit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-Timb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-“Intenció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6T16:27:35Z</dcterms:created>
  <dc:creator>Mecesup</dc:creator>
  <dc:description/>
  <dc:language>en-US</dc:language>
  <cp:lastModifiedBy>Editorial Zigzag</cp:lastModifiedBy>
  <dcterms:modified xsi:type="dcterms:W3CDTF">2009-01-04T05:25:06Z</dcterms:modified>
  <cp:revision>48</cp:revision>
  <dc:subject/>
  <dc:title>Taller de Ciencias en la Música </dc:title>
</cp:coreProperties>
</file>