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2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A180-276E-49F1-BE8F-B92EDEDD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ABA-5737-427B-B9AC-DE532945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B425-CCF7-4B6C-9898-4CD5BF94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EBFC-BF28-4149-883B-F777E115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F4F4-7D0A-4D5A-ADB8-9E4FEE7B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B1E8-F8DB-41CF-B304-88E22EBD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2839-8DD4-4515-9B1A-022AC180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E846-3A36-4D10-954C-B79AC9E5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D133-BCED-4107-84A0-3387F73F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8C4B-5DED-42C6-ABEF-C28DC179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20C2-E8EB-4E7E-B0BC-2100BA7E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3190-7EE2-4D97-8306-5316FBF8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7818-5197-4A5F-AD91-FE331CBB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0145-DFDE-4256-945B-4CE07C4C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0B52-832F-46D4-920B-80B9D85C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7533-9973-40E3-A5B9-9297C118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5D5B-1C94-47D0-9244-F930024D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97ED-658E-4CFF-9D84-00481E0A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3FEB-D692-4C4E-B312-DCC35180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CA4-3F3E-4463-920D-E4C10037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2021-118E-4BF1-AB0A-BAC7CB85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5B1D-E448-4C8D-8D90-852274A6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CCB-32EB-4577-8296-A2E87975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CBD1-A35A-4ABF-AC06-54017CAF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254B-7C6A-4EB8-9CA8-5675CC20BFA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28600" y="0"/>
            <a:ext cx="677880" cy="1523880"/>
            <a:chOff x="228600" y="0"/>
            <a:chExt cx="677880" cy="1523880"/>
          </a:xfrm>
        </p:grpSpPr>
        <p:sp>
          <p:nvSpPr>
            <p:cNvPr id="6" name="Rectangle 8"/>
            <p:cNvSpPr/>
            <p:nvPr/>
          </p:nvSpPr>
          <p:spPr>
            <a:xfrm>
              <a:off x="264960" y="592200"/>
              <a:ext cx="633600" cy="84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Picture 9" descr=""/>
            <p:cNvPicPr/>
            <p:nvPr/>
          </p:nvPicPr>
          <p:blipFill>
            <a:blip r:embed="rId2"/>
            <a:srcRect l="6136" t="0" r="7364" b="0"/>
            <a:stretch/>
          </p:blipFill>
          <p:spPr>
            <a:xfrm>
              <a:off x="228600" y="0"/>
              <a:ext cx="67788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B867-A2B9-40A6-9E31-FBA7A30A26D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IOTECNOLOGÍA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2009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A43E-E59F-457E-95AF-D74BC72F071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3580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f. Paola Ba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barba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oratorio de Biotecnología de pla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stitu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Investigaciones Agropecuarias INIA – La Pla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BCD5-1ECD-40F6-AEE8-69000B6C87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1 Título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CR para clon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6 Imagen" descr="invitrogen cloning.JPG"/>
          <p:cNvPicPr/>
          <p:nvPr/>
        </p:nvPicPr>
        <p:blipFill>
          <a:blip r:embed="rId1"/>
          <a:stretch/>
        </p:blipFill>
        <p:spPr>
          <a:xfrm>
            <a:off x="685800" y="1676520"/>
            <a:ext cx="5410080" cy="4971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6172200" y="1981080"/>
            <a:ext cx="2743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isten muchos vectores comerciales para clonar usando productos de PCR. Ej. TOPO o pGEM-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CR para identificación</a:t>
            </a:r>
            <a:br>
              <a:rPr sz="44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ando VN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6 Marcador de contenido" descr="VPNR.JPG"/>
          <p:cNvPicPr/>
          <p:nvPr/>
        </p:nvPicPr>
        <p:blipFill>
          <a:blip r:embed="rId1"/>
          <a:stretch/>
        </p:blipFill>
        <p:spPr>
          <a:xfrm>
            <a:off x="1828800" y="1284120"/>
            <a:ext cx="5791320" cy="5573880"/>
          </a:xfrm>
          <a:prstGeom prst="rect">
            <a:avLst/>
          </a:prstGeom>
          <a:ln w="0">
            <a:noFill/>
          </a:ln>
        </p:spPr>
      </p:pic>
      <p:sp>
        <p:nvSpPr>
          <p:cNvPr id="13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E8B5-A1CD-40D2-B270-D4477B590F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4 Marcador de contenido" descr="vntr.JPG"/>
          <p:cNvPicPr/>
          <p:nvPr/>
        </p:nvPicPr>
        <p:blipFill>
          <a:blip r:embed="rId1"/>
          <a:stretch/>
        </p:blipFill>
        <p:spPr>
          <a:xfrm>
            <a:off x="1114560" y="2133720"/>
            <a:ext cx="2771640" cy="3838320"/>
          </a:xfrm>
          <a:prstGeom prst="rect">
            <a:avLst/>
          </a:prstGeom>
          <a:ln w="0">
            <a:noFill/>
          </a:ln>
        </p:spPr>
      </p:pic>
      <p:sp>
        <p:nvSpPr>
          <p:cNvPr id="135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1DFA-853C-4C65-9C10-AF3ABEB8671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1 Título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CR para identificación</a:t>
            </a:r>
            <a:br>
              <a:rPr sz="44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ando VN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6 Rectángulo"/>
          <p:cNvSpPr/>
          <p:nvPr/>
        </p:nvSpPr>
        <p:spPr>
          <a:xfrm>
            <a:off x="1724040" y="2895480"/>
            <a:ext cx="228600" cy="2667240"/>
          </a:xfrm>
          <a:prstGeom prst="rect">
            <a:avLst/>
          </a:prstGeom>
          <a:noFill/>
          <a:ln cap="sq"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7 Rectángulo"/>
          <p:cNvSpPr/>
          <p:nvPr/>
        </p:nvSpPr>
        <p:spPr>
          <a:xfrm>
            <a:off x="2562120" y="2895480"/>
            <a:ext cx="228600" cy="2667240"/>
          </a:xfrm>
          <a:prstGeom prst="rect">
            <a:avLst/>
          </a:prstGeom>
          <a:noFill/>
          <a:ln cap="sq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9 Conector recto de flecha"/>
          <p:cNvCxnSpPr/>
          <p:nvPr/>
        </p:nvCxnSpPr>
        <p:spPr>
          <a:xfrm>
            <a:off x="1037880" y="4114800"/>
            <a:ext cx="305640" cy="2160"/>
          </a:xfrm>
          <a:prstGeom prst="straightConnector1">
            <a:avLst/>
          </a:prstGeom>
          <a:ln cap="sq" w="1260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140" name="10 Conector recto de flecha"/>
          <p:cNvCxnSpPr/>
          <p:nvPr/>
        </p:nvCxnSpPr>
        <p:spPr>
          <a:xfrm>
            <a:off x="1037880" y="5257800"/>
            <a:ext cx="305640" cy="2160"/>
          </a:xfrm>
          <a:prstGeom prst="straightConnector1">
            <a:avLst/>
          </a:prstGeom>
          <a:ln cap="sq" w="1260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41" name="Picture 2" descr="Image783"/>
          <p:cNvPicPr/>
          <p:nvPr/>
        </p:nvPicPr>
        <p:blipFill>
          <a:blip r:embed="rId2"/>
          <a:stretch/>
        </p:blipFill>
        <p:spPr>
          <a:xfrm>
            <a:off x="5181480" y="2057400"/>
            <a:ext cx="25495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cuenciación del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un fragmento de DNA determinado ¿cómo podemos determinar la secuencia de las moléculas que lo conform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204A-7C48-4D37-9759-714B700261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la reacción de síntesis de DNA por una DNA polimerasa en presencia de un partidor ma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la síntesis se incorpora desoxinucleótidos (dNTP) y didesoxinucleótidos (ddNT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EBAB-6230-407A-9AB3-49459D3F555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4 Imagen" descr="ddNTP-dNTP.gif"/>
          <p:cNvPicPr/>
          <p:nvPr/>
        </p:nvPicPr>
        <p:blipFill>
          <a:blip r:embed="rId1"/>
          <a:stretch/>
        </p:blipFill>
        <p:spPr>
          <a:xfrm>
            <a:off x="1447920" y="4343400"/>
            <a:ext cx="5545080" cy="1600200"/>
          </a:xfrm>
          <a:prstGeom prst="rect">
            <a:avLst/>
          </a:prstGeom>
          <a:ln w="0">
            <a:noFill/>
          </a:ln>
        </p:spPr>
      </p:pic>
      <p:sp>
        <p:nvSpPr>
          <p:cNvPr id="149" name="1 Título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cuenciación del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6 CuadroTexto"/>
          <p:cNvSpPr/>
          <p:nvPr/>
        </p:nvSpPr>
        <p:spPr>
          <a:xfrm>
            <a:off x="304920" y="6172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permite la incorporación de más nucleó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7 Flecha arriba"/>
          <p:cNvSpPr/>
          <p:nvPr/>
        </p:nvSpPr>
        <p:spPr>
          <a:xfrm>
            <a:off x="2971800" y="5562720"/>
            <a:ext cx="122400" cy="609480"/>
          </a:xfrm>
          <a:prstGeom prst="upArrow">
            <a:avLst>
              <a:gd name="adj1" fmla="val 50000"/>
              <a:gd name="adj2" fmla="val 49794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6 Marcador de contenido"/>
          <p:cNvSpPr/>
          <p:nvPr/>
        </p:nvSpPr>
        <p:spPr>
          <a:xfrm>
            <a:off x="5410080" y="4191120"/>
            <a:ext cx="34290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roducto de cada tubo se carga en un carril del g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fragmentos se separarán por tamañ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F87F-D281-421E-9DE6-F18C763DE85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1 Título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cuenciación del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5 Imagen" descr="Sequencing.gif"/>
          <p:cNvPicPr/>
          <p:nvPr/>
        </p:nvPicPr>
        <p:blipFill>
          <a:blip r:embed="rId1"/>
          <a:stretch/>
        </p:blipFill>
        <p:spPr>
          <a:xfrm>
            <a:off x="609480" y="1752480"/>
            <a:ext cx="4724640" cy="4724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2819520" y="1904760"/>
            <a:ext cx="58672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gregan ddGTP, ddATP, ddCTP, ddTTP en cada uno de los tubos que contienen el DNA que quiero secuenci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olimeriza la secuencia complementaria a partir del oligonucleótido marcado. Cuando incorpora un ddNTP se detiene la re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geniería de proteí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DEBA-303B-4030-A9DB-A3B8C1C1CCD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qué?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Mejoramiento de las propiedades de una enzima (actividad enzimática, p. ej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Identificación de relaciones estructura fu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?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Mutagénesis sitio dirig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Mutagénesi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joramiento de enzimas industriales por ingeniería de proteí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C86B-AD26-4D52-8705-EE4C53E4587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aumentar la termoestabilidad de una enzima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 Par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mentar la eficiencia catal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 Para c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biar la especificidad de sustrato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 Para modificar la 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tructura de la proteína y facilitar la purif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. Para eliminar la regulación alostérica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utagénesis sitio dirig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6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028B-DF0A-4C31-85EF-F9CB7480FD0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1365120" y="1981080"/>
          <a:ext cx="6102360" cy="45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65120" y="1981080"/>
                    <a:ext cx="610236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geniería de la lisozima para aumentar la resistencia  a la temp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EE8A-DEDA-441C-A33D-42C23A41A9B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3657600" y="2214720"/>
            <a:ext cx="5486400" cy="43862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52280" y="3056040"/>
            <a:ext cx="32004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Times New Roman"/>
              </a:rPr>
              <a:t>Lisozima del fago T4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rompe la pared de bacterias, para permitir la entrada del vi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m =42º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pósito de la Ingeniería de proteínas es la estabilización por introducción de puentes disulfuro (S-S) en aa cisteí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Nuevo Tm= 59º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289548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lonación usando un bacterióf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4 Marcador de contenido" descr="phage.gif"/>
          <p:cNvPicPr/>
          <p:nvPr/>
        </p:nvPicPr>
        <p:blipFill>
          <a:blip r:embed="rId1"/>
          <a:stretch/>
        </p:blipFill>
        <p:spPr>
          <a:xfrm>
            <a:off x="1447920" y="1909800"/>
            <a:ext cx="5867280" cy="4552920"/>
          </a:xfrm>
          <a:prstGeom prst="rect">
            <a:avLst/>
          </a:prstGeom>
          <a:ln w="0">
            <a:noFill/>
          </a:ln>
        </p:spPr>
      </p:pic>
      <p:sp>
        <p:nvSpPr>
          <p:cNvPr id="90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D9C7-63F6-46F7-804F-DD36697F810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5 Flecha izquierda"/>
          <p:cNvSpPr/>
          <p:nvPr/>
        </p:nvSpPr>
        <p:spPr>
          <a:xfrm>
            <a:off x="7162920" y="4572000"/>
            <a:ext cx="1143000" cy="304920"/>
          </a:xfrm>
          <a:prstGeom prst="leftArrow">
            <a:avLst>
              <a:gd name="adj1" fmla="val 50000"/>
              <a:gd name="adj2" fmla="val 49980"/>
            </a:avLst>
          </a:prstGeom>
          <a:solidFill>
            <a:srgbClr val="ffc000"/>
          </a:solidFill>
          <a:ln cap="sq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2362320"/>
            <a:ext cx="3429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fecto de la introducción de cisteínas en la secuencia de proteí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B0B0-7126-4DE9-A5CC-DFF88F51C6D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4038480" y="209520"/>
            <a:ext cx="452916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volución dirigida de proteí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8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A86E-9362-45DA-A57F-B32089BAD4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046160" y="1905120"/>
          <a:ext cx="7031160" cy="49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6160" y="1905120"/>
                    <a:ext cx="70311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8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D779-16D0-4B55-AE38-C5C836B3738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1201680" y="3735360"/>
            <a:ext cx="3727440" cy="2478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3"/>
          <a:stretch/>
        </p:blipFill>
        <p:spPr>
          <a:xfrm>
            <a:off x="5859360" y="3367080"/>
            <a:ext cx="2903760" cy="32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Object 2"/>
          <p:cNvGraphicFramePr/>
          <p:nvPr/>
        </p:nvGraphicFramePr>
        <p:xfrm>
          <a:off x="135000" y="154080"/>
          <a:ext cx="8610480" cy="3209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5000" y="154080"/>
                    <a:ext cx="861048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94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AFA9-BD30-42E5-B9F0-7D195E26A3C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1214280" y="673200"/>
          <a:ext cx="7409160" cy="613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673200"/>
                    <a:ext cx="7409160" cy="61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2"/>
          <p:cNvSpPr/>
          <p:nvPr/>
        </p:nvSpPr>
        <p:spPr>
          <a:xfrm>
            <a:off x="927000" y="76320"/>
            <a:ext cx="8064720" cy="10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Mutagénesis al azar y selección de proteínas mutadas mas activas a &gt; T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4 Marcador de contenido" descr="phage 2.gif"/>
          <p:cNvPicPr/>
          <p:nvPr/>
        </p:nvPicPr>
        <p:blipFill>
          <a:blip r:embed="rId1"/>
          <a:stretch/>
        </p:blipFill>
        <p:spPr>
          <a:xfrm>
            <a:off x="2971800" y="380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9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85F4-E85D-4596-BC9D-8FD7B606CEF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45720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empaquetamiento del DNA recombinante en la proteína del fago depende de secuencias específicas ubicadas en los extremos d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CR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acción de polimerización en cadena – Técnica que nos permite obtener muchas copias de un fragmento específico de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cuenci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écnica que nos permite obtener la secuencia de un fragmento de DNA determi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geniería de proteín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obtener proteínas con características mejo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tagénesis sitio dirig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tagénesis al a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 Título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mas a trat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CR … recordatorio de l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sumanasinc.com/webcontent/animations/content/pc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específico para la secuencia de los oligonucleótidos us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mplifica miles de veces el fragmento de DNA comprendido entre los oligonucleót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o nos permite identificar y manipular dichos fragm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BFC2-2C74-41F8-9748-52B2281C690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CR: Ap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agnóstico de patógenos en muestras biológicas, GMO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mplificación de fragmentos para clon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dentificación de individu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ter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joramiento gen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AC7C-B977-4F47-B64C-23D9800AFF1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CR en diagnós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75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tógeno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écnicas tradi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03A3-0BD3-4DE6-9F15-2B4E9B1BF66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4 Imagen" descr="salmonella.JPG"/>
          <p:cNvPicPr/>
          <p:nvPr/>
        </p:nvPicPr>
        <p:blipFill>
          <a:blip r:embed="rId1"/>
          <a:stretch/>
        </p:blipFill>
        <p:spPr>
          <a:xfrm>
            <a:off x="533520" y="2590920"/>
            <a:ext cx="3749400" cy="3890880"/>
          </a:xfrm>
          <a:prstGeom prst="rect">
            <a:avLst/>
          </a:prstGeom>
          <a:ln w="0">
            <a:noFill/>
          </a:ln>
        </p:spPr>
      </p:pic>
      <p:sp>
        <p:nvSpPr>
          <p:cNvPr id="107" name="2 Marcador de contenido"/>
          <p:cNvSpPr/>
          <p:nvPr/>
        </p:nvSpPr>
        <p:spPr>
          <a:xfrm>
            <a:off x="3505320" y="2514600"/>
            <a:ext cx="5333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Toma de mues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Cultivo y sub-cultivos bacteri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Identificación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6 Flecha abajo"/>
          <p:cNvSpPr/>
          <p:nvPr/>
        </p:nvSpPr>
        <p:spPr>
          <a:xfrm>
            <a:off x="6248520" y="3048120"/>
            <a:ext cx="228600" cy="5331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7 Flecha abajo"/>
          <p:cNvSpPr/>
          <p:nvPr/>
        </p:nvSpPr>
        <p:spPr>
          <a:xfrm>
            <a:off x="6248520" y="4495680"/>
            <a:ext cx="228600" cy="53352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8 Flecha curvada hacia arriba"/>
          <p:cNvSpPr/>
          <p:nvPr/>
        </p:nvSpPr>
        <p:spPr>
          <a:xfrm rot="16400400">
            <a:off x="7746840" y="4270320"/>
            <a:ext cx="1309680" cy="572760"/>
          </a:xfrm>
          <a:custGeom>
            <a:avLst/>
            <a:gdLst>
              <a:gd name="textAreaLeft" fmla="*/ 273600 w 1309680"/>
              <a:gd name="textAreaRight" fmla="*/ 964440 w 1309680"/>
              <a:gd name="textAreaTop" fmla="*/ 76680 h 572760"/>
              <a:gd name="textAreaBottom" fmla="*/ 496080 h 57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28" hR="21600" stAng="10800000" swAng="-5400000"/>
                <a:lnTo>
                  <a:pt x="11391" y="21600"/>
                </a:lnTo>
                <a:arcTo wR="9028" hR="21600" stAng="5400000" swAng="-3497559"/>
                <a:lnTo>
                  <a:pt x="21313" y="5400"/>
                </a:lnTo>
                <a:lnTo>
                  <a:pt x="19237" y="0"/>
                </a:lnTo>
                <a:lnTo>
                  <a:pt x="16586" y="5400"/>
                </a:lnTo>
                <a:lnTo>
                  <a:pt x="17768" y="5400"/>
                </a:lnTo>
                <a:arcTo wR="9028" hR="21600" stAng="1902441" swAng="3308079"/>
                <a:lnTo>
                  <a:pt x="10209" y="21414"/>
                </a:lnTo>
                <a:arcTo wR="9028" hR="21600" stAng="5589481" swAng="5210519"/>
                <a:close/>
              </a:path>
              <a:path fill="darkenLess" w="21600" h="21600">
                <a:moveTo>
                  <a:pt x="0" y="0"/>
                </a:moveTo>
                <a:arcTo wR="9028" hR="21600" stAng="10800000" swAng="-5400000"/>
                <a:lnTo>
                  <a:pt x="11391" y="21600"/>
                </a:lnTo>
                <a:arcTo wR="9028" hR="21600" stAng="5400000" swAng="189481"/>
                <a:lnTo>
                  <a:pt x="10209" y="21414"/>
                </a:lnTo>
                <a:arcTo wR="9028" hR="21600" stAng="5589481" swAng="5210519"/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9 CuadroTexto"/>
          <p:cNvSpPr/>
          <p:nvPr/>
        </p:nvSpPr>
        <p:spPr>
          <a:xfrm rot="19774800">
            <a:off x="4452480" y="4314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L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10 CuadroTexto"/>
          <p:cNvSpPr/>
          <p:nvPr/>
        </p:nvSpPr>
        <p:spPr>
          <a:xfrm rot="19774800">
            <a:off x="4332600" y="5351400"/>
            <a:ext cx="20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MUCHOS RE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11 CuadroTexto"/>
          <p:cNvSpPr/>
          <p:nvPr/>
        </p:nvSpPr>
        <p:spPr>
          <a:xfrm rot="19774800">
            <a:off x="6465960" y="546912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TRASA  EL TRA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26F6-17E0-482E-8E69-6FF512A2C95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1 Título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CR en diagnós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2 Marcador de contenido"/>
          <p:cNvSpPr/>
          <p:nvPr/>
        </p:nvSpPr>
        <p:spPr>
          <a:xfrm>
            <a:off x="685800" y="1981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tógeno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2 Marcador de contenido"/>
          <p:cNvSpPr/>
          <p:nvPr/>
        </p:nvSpPr>
        <p:spPr>
          <a:xfrm>
            <a:off x="762120" y="251460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Toma de mues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Extracción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P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Análisis resultados (Electroforesis o Tiempo Re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7 Flecha abajo"/>
          <p:cNvSpPr/>
          <p:nvPr/>
        </p:nvSpPr>
        <p:spPr>
          <a:xfrm>
            <a:off x="4876920" y="3048120"/>
            <a:ext cx="228600" cy="5331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8 Flecha abajo"/>
          <p:cNvSpPr/>
          <p:nvPr/>
        </p:nvSpPr>
        <p:spPr>
          <a:xfrm>
            <a:off x="4876920" y="4038480"/>
            <a:ext cx="228600" cy="53352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9 Flecha abajo"/>
          <p:cNvSpPr/>
          <p:nvPr/>
        </p:nvSpPr>
        <p:spPr>
          <a:xfrm>
            <a:off x="4876920" y="5029200"/>
            <a:ext cx="228600" cy="53352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10 CuadroTexto"/>
          <p:cNvSpPr/>
          <p:nvPr/>
        </p:nvSpPr>
        <p:spPr>
          <a:xfrm rot="19774800">
            <a:off x="1902600" y="360684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11 CuadroTexto"/>
          <p:cNvSpPr/>
          <p:nvPr/>
        </p:nvSpPr>
        <p:spPr>
          <a:xfrm rot="21061800">
            <a:off x="2412720" y="475596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12 CuadroTexto"/>
          <p:cNvSpPr/>
          <p:nvPr/>
        </p:nvSpPr>
        <p:spPr>
          <a:xfrm rot="450600">
            <a:off x="6419880" y="450216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S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CR para clo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4 Marcador de contenido" descr="cloning by pcr.JPG"/>
          <p:cNvPicPr/>
          <p:nvPr/>
        </p:nvPicPr>
        <p:blipFill>
          <a:blip r:embed="rId1"/>
          <a:stretch/>
        </p:blipFill>
        <p:spPr>
          <a:xfrm>
            <a:off x="839880" y="2057400"/>
            <a:ext cx="7326360" cy="4038480"/>
          </a:xfrm>
          <a:prstGeom prst="rect">
            <a:avLst/>
          </a:prstGeom>
          <a:ln w="0">
            <a:noFill/>
          </a:ln>
        </p:spPr>
      </p:pic>
      <p:sp>
        <p:nvSpPr>
          <p:cNvPr id="126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78D1-3E6F-4A4C-8277-3B2392B190A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7:47:27Z</dcterms:created>
  <dc:creator>Oriana Salazar</dc:creator>
  <dc:description/>
  <dc:language>en-US</dc:language>
  <cp:lastModifiedBy>dell</cp:lastModifiedBy>
  <dcterms:modified xsi:type="dcterms:W3CDTF">2009-01-21T07:59:35Z</dcterms:modified>
  <cp:revision>376</cp:revision>
  <dc:subject/>
  <dc:title>Genes: Qué son y dónde están?</dc:title>
</cp:coreProperties>
</file>