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0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B96-4372-49E6-9A3A-C0B359A4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64A-D29F-4F4D-9722-96D86C22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30D-2503-4509-9FE8-E58E7F08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548-6F90-4B9E-A915-8777B675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65B9-9335-4AFA-A5EB-D891E5B6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2D6F-8075-472A-AFDF-F55B57D8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FF4E-FCBA-4FFE-B0BE-E5AD1590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43E6-D5BD-4A80-9C5A-A47A8337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D65B-D33F-481F-AD9D-878FB27E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0ADD-3890-4F82-976F-972BA0D8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F48D-6A6D-4BF5-9998-C1F98383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3A8-05F8-4D2A-B2A4-619353BD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8B81-1CCF-4B0D-8681-62F9CD15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604F-488D-463F-A9E9-201266EC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DB1E-79C3-4A6B-BCD7-556553AE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36F9-4F6F-4204-85F9-C22FBB81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6670-F461-4F58-A7F8-3C0A30C4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801-426B-4B8D-B457-B5B1425D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E3A-066D-4CD8-8758-68DFE66F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EA1-DEB1-4439-B81C-B7147AEB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8BE-4110-4B7B-B5AF-5D7D7C11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CB3-836C-4D2A-A19B-1BEEAF6B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C7A-B345-46CC-8D3B-6FD5DAB9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501-A8B1-4F65-BD4B-7C6E5D83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98CD-A33D-4477-80AE-30CA46E4CB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0"/>
            <a:ext cx="677880" cy="1523880"/>
            <a:chOff x="228600" y="0"/>
            <a:chExt cx="677880" cy="1523880"/>
          </a:xfrm>
        </p:grpSpPr>
        <p:sp>
          <p:nvSpPr>
            <p:cNvPr id="6" name=""/>
            <p:cNvSpPr/>
            <p:nvPr/>
          </p:nvSpPr>
          <p:spPr>
            <a:xfrm>
              <a:off x="264600" y="591480"/>
              <a:ext cx="634320" cy="85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2"/>
            <a:srcRect l="6136" t="0" r="7364" b="0"/>
            <a:stretch/>
          </p:blipFill>
          <p:spPr>
            <a:xfrm>
              <a:off x="228600" y="0"/>
              <a:ext cx="6778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55BA-823D-4487-B718-82477300DF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2009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lase 1</a:t>
            </a:r>
            <a:br>
              <a:rPr sz="4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3 Ene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. Dra. Oriana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o de Ingeniería Bio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to. de Ingeniería 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. Ciencias Físicas y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0"/>
            <a:ext cx="895320" cy="2013120"/>
            <a:chOff x="228600" y="0"/>
            <a:chExt cx="895320" cy="2013120"/>
          </a:xfrm>
        </p:grpSpPr>
        <p:sp>
          <p:nvSpPr>
            <p:cNvPr id="88" name=""/>
            <p:cNvSpPr/>
            <p:nvPr/>
          </p:nvSpPr>
          <p:spPr>
            <a:xfrm>
              <a:off x="276120" y="781560"/>
              <a:ext cx="837720" cy="11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rcRect l="6136" t="0" r="7364" b="0"/>
            <a:stretch/>
          </p:blipFill>
          <p:spPr>
            <a:xfrm>
              <a:off x="228600" y="0"/>
              <a:ext cx="895320" cy="20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00200" y="304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partes del A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876920" y="3048120"/>
            <a:ext cx="3429000" cy="3809520"/>
            <a:chOff x="4876920" y="3048120"/>
            <a:chExt cx="3429000" cy="3809520"/>
          </a:xfrm>
        </p:grpSpPr>
        <p:graphicFrame>
          <p:nvGraphicFramePr>
            <p:cNvPr id="172" name=""/>
            <p:cNvGraphicFramePr/>
            <p:nvPr/>
          </p:nvGraphicFramePr>
          <p:xfrm>
            <a:off x="4876920" y="3448800"/>
            <a:ext cx="2825640" cy="340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3448800"/>
                      <a:ext cx="2825640" cy="340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4876920" y="304812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BASES NITROGENA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72560" y="3649680"/>
              <a:ext cx="725040" cy="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25360" y="3649680"/>
              <a:ext cx="1055160" cy="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447920" y="914400"/>
            <a:ext cx="5852880" cy="20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380880" y="3733920"/>
          <a:ext cx="3753000" cy="23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733920"/>
                    <a:ext cx="37530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F89-FF43-4E33-A23D-837ABB5F1C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914400" y="0"/>
          <a:ext cx="7467480" cy="68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7467480" cy="68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4419720" y="17524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22208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220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925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1676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5791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olinucleó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0"/>
            <a:ext cx="5499000" cy="3238560"/>
          </a:xfrm>
          <a:custGeom>
            <a:avLst/>
            <a:gdLst/>
            <a:ahLst/>
            <a:rect l="l" t="t" r="r" b="b"/>
            <a:pathLst>
              <a:path w="3464" h="2040">
                <a:moveTo>
                  <a:pt x="960" y="400"/>
                </a:moveTo>
                <a:cubicBezTo>
                  <a:pt x="836" y="420"/>
                  <a:pt x="712" y="440"/>
                  <a:pt x="576" y="496"/>
                </a:cubicBezTo>
                <a:cubicBezTo>
                  <a:pt x="440" y="552"/>
                  <a:pt x="232" y="608"/>
                  <a:pt x="144" y="736"/>
                </a:cubicBezTo>
                <a:cubicBezTo>
                  <a:pt x="56" y="864"/>
                  <a:pt x="0" y="1104"/>
                  <a:pt x="48" y="1264"/>
                </a:cubicBezTo>
                <a:cubicBezTo>
                  <a:pt x="96" y="1424"/>
                  <a:pt x="184" y="1640"/>
                  <a:pt x="432" y="1696"/>
                </a:cubicBezTo>
                <a:cubicBezTo>
                  <a:pt x="680" y="1752"/>
                  <a:pt x="1264" y="1576"/>
                  <a:pt x="1536" y="1600"/>
                </a:cubicBezTo>
                <a:cubicBezTo>
                  <a:pt x="1808" y="1624"/>
                  <a:pt x="1896" y="1776"/>
                  <a:pt x="2064" y="1840"/>
                </a:cubicBezTo>
                <a:cubicBezTo>
                  <a:pt x="2232" y="1904"/>
                  <a:pt x="2424" y="2040"/>
                  <a:pt x="2544" y="1984"/>
                </a:cubicBezTo>
                <a:cubicBezTo>
                  <a:pt x="2664" y="1928"/>
                  <a:pt x="2648" y="1672"/>
                  <a:pt x="2784" y="1504"/>
                </a:cubicBezTo>
                <a:cubicBezTo>
                  <a:pt x="2920" y="1336"/>
                  <a:pt x="3256" y="1200"/>
                  <a:pt x="3360" y="976"/>
                </a:cubicBezTo>
                <a:cubicBezTo>
                  <a:pt x="3464" y="752"/>
                  <a:pt x="3456" y="320"/>
                  <a:pt x="3408" y="160"/>
                </a:cubicBezTo>
                <a:cubicBezTo>
                  <a:pt x="3360" y="0"/>
                  <a:pt x="3336" y="8"/>
                  <a:pt x="3072" y="16"/>
                </a:cubicBezTo>
                <a:cubicBezTo>
                  <a:pt x="2808" y="24"/>
                  <a:pt x="2184" y="144"/>
                  <a:pt x="1824" y="208"/>
                </a:cubicBezTo>
                <a:cubicBezTo>
                  <a:pt x="1464" y="272"/>
                  <a:pt x="1188" y="336"/>
                  <a:pt x="912" y="400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28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1 nucleó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3678600">
            <a:off x="6286320" y="72360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8D2-7C90-4AE4-8179-36BA3BC373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250920"/>
            <a:ext cx="7162920" cy="621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CBA-6D1B-4E3C-8063-A46BF3DF80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EL ADN es una doble hél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5768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8F4-7A4D-4DE9-B3DF-A3CBEF80FE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Arial"/>
              </a:rPr>
              <a:t>El material genético: los cromoso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280120" y="1676520"/>
            <a:ext cx="3584520" cy="3886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962160" cy="351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0880" y="5943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Osaka"/>
              </a:rPr>
              <a:t>Células pro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579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Células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5DA-FA8F-4126-9C28-4F820AA180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362320" y="6172200"/>
            <a:ext cx="1066680" cy="304920"/>
          </a:xfrm>
          <a:prstGeom prst="rect">
            <a:avLst/>
          </a:prstGeom>
          <a:noFill/>
          <a:ln cap="sq"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6172200"/>
            <a:ext cx="990720" cy="380880"/>
          </a:xfrm>
          <a:prstGeom prst="rect">
            <a:avLst/>
          </a:pr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152388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GUA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52280"/>
            <a:ext cx="129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CIT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12408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AD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64832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URAC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0"/>
            <a:ext cx="129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CIT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152388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GUA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312408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AD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43800" y="464832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TI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905-642C-4598-B9EB-A23D5CDE42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429000" cy="3367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105520" y="762120"/>
            <a:ext cx="3429000" cy="3244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438280" y="4191120"/>
            <a:ext cx="0" cy="685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0" y="4114800"/>
            <a:ext cx="0" cy="685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5105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5105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2362320"/>
            <a:ext cx="609840" cy="5331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2438280"/>
            <a:ext cx="609480" cy="5335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E2D-E081-47E5-BBCB-350E1FF138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res tipos de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429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NA mensajero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2819520" cy="2274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0" y="5486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RNA de transferencia (t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0480" y="594216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RNA ribosomal (r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979640" cy="24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114800" y="1600200"/>
          <a:ext cx="240984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600200"/>
                    <a:ext cx="240984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02920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4E7-A233-43FC-ACFF-0EBE54F03F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90920" y="8380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Genes (AD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4191120"/>
            <a:ext cx="6248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Proteí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(función en catálisis y estructura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1981080"/>
            <a:ext cx="457200" cy="198144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1433520" cy="3476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24382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xpresión de los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96E-3455-4F14-B0AD-313D9E0744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0920" y="1344600"/>
            <a:ext cx="8381880" cy="5308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19120" y="210672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209680"/>
            <a:ext cx="2286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RE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3200400"/>
            <a:ext cx="2852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TRANSCRIP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4952880"/>
            <a:ext cx="2318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TRA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638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fu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15000" y="4038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ens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81680" y="1447920"/>
            <a:ext cx="175284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447920"/>
            <a:ext cx="213336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057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Arial"/>
              </a:rPr>
              <a:t>Proceso de expresión de los 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02B-1408-4CFE-9E7B-7A9B0D2787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Qué es la Biotecnolog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491160" cy="51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C6A-A90C-439D-88A1-C7E65D5E0D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1219320"/>
            <a:ext cx="9144000" cy="4449600"/>
            <a:chOff x="0" y="1219320"/>
            <a:chExt cx="9144000" cy="444960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0" y="1219320"/>
              <a:ext cx="9144000" cy="44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47920" y="1343160"/>
              <a:ext cx="601956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99"/>
                  </a:solidFill>
                  <a:latin typeface="Arial"/>
                </a:rPr>
                <a:t>TRANSCRIPCION: SINTESIS DE AR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00800" y="4238640"/>
              <a:ext cx="27432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Cadena de ARN crec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7120" y="2105280"/>
              <a:ext cx="2666880" cy="77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Hebra de DNA mol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95480" y="4695840"/>
              <a:ext cx="3048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Dirección de la síntesis de AR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DA1-3FAE-45E6-87D4-581B6D921F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438280" y="0"/>
          <a:ext cx="6270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0"/>
                    <a:ext cx="6270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2438280" y="1828800"/>
            <a:ext cx="6248520" cy="133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La hebra inferior del DNA es el molde para la síntesis de 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La RNA polimerasa hace una copia de la secuencia de DNA pero substituyendo timidina (T) por uridina (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4952880"/>
            <a:ext cx="556272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0"/>
            <a:ext cx="373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Transcripción del 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22100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hebra inferior del dúplex es usada como molde para sintetizar el RNA. Sin embargo, la secuencia de bases del RNA es la misma que la de la hebra superior, con U en lugar de 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95288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828800"/>
            <a:ext cx="26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ttp://www-class.unl.edu/biochem/gp2/m_biology/animation/gene/gene_a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46F-598F-49AE-B05F-EBDC1C956B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structura de un gen procari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686800" cy="38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198-FCAF-4C0D-A9DB-B886169B1C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structura de un gen eucari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914400" y="1905120"/>
          <a:ext cx="731520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1520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C8E-8491-4667-A75F-496CA7825A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352680" y="369720"/>
            <a:ext cx="5589720" cy="6488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175248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Genes de eucariontes son interrumpidos por secuencias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o codificantes (intr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1676520"/>
            <a:ext cx="22096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5486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RNA mad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3BA-B8B7-4B96-8416-B113604A02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62120" y="706320"/>
            <a:ext cx="7696080" cy="615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03F-ED06-4A7B-B692-5DA7F94D39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90720" y="1585800"/>
            <a:ext cx="7924680" cy="52722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 procariontes la transcripción y la traducción están acoplados en el tiempo y en el espaci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563-5AE2-442C-9844-BEC3F70511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Genes de procariontes están asociados en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Arial"/>
              </a:rPr>
              <a:t>oper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066680" y="1981080"/>
          <a:ext cx="7162920" cy="43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162920" cy="43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14A-848A-4E75-AB78-0B319AB2ED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66"/>
                </a:solidFill>
                <a:latin typeface="Arial"/>
              </a:rPr>
              <a:t>Operón lactosa de </a:t>
            </a:r>
            <a:r>
              <a:rPr b="1" i="1" lang="es-CL" sz="4000" spc="-1" strike="noStrike">
                <a:solidFill>
                  <a:srgbClr val="000066"/>
                </a:solidFill>
                <a:latin typeface="Arial"/>
              </a:rPr>
              <a:t>E. coli</a:t>
            </a:r>
            <a:br>
              <a:rPr sz="4000"/>
            </a:br>
            <a:r>
              <a:rPr b="1" i="1" lang="es-CL" sz="2400" spc="-1" strike="noStrike">
                <a:solidFill>
                  <a:srgbClr val="000066"/>
                </a:solidFill>
                <a:latin typeface="Arial"/>
              </a:rPr>
              <a:t>contiene genes de enzimas que degradan el dímero lact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782040" cy="415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369-3A7D-474C-8FFA-D68E64C010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09480" y="152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O DE EXPRESIÓN GÉNICA: DIFERENCIAS ENTRE PROCARIONTES Y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CEE-48A9-4537-A234-FBE5D00B9E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8120" y="2743200"/>
            <a:ext cx="2438280" cy="152388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1240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Ingeniería gené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172200" y="29718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2981000">
            <a:off x="5257440" y="175248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194000">
            <a:off x="5409720" y="4495320"/>
            <a:ext cx="381240" cy="990720"/>
          </a:xfrm>
          <a:prstGeom prst="downArrow">
            <a:avLst>
              <a:gd name="adj1" fmla="val 50000"/>
              <a:gd name="adj2" fmla="val 64967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481400">
            <a:off x="3200040" y="45720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539200">
            <a:off x="2245680" y="2855520"/>
            <a:ext cx="382680" cy="1065240"/>
          </a:xfrm>
          <a:prstGeom prst="downArrow">
            <a:avLst>
              <a:gd name="adj1" fmla="val 50000"/>
              <a:gd name="adj2" fmla="val 69591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1143000"/>
            <a:ext cx="2209680" cy="914400"/>
          </a:xfrm>
          <a:prstGeom prst="ellipse">
            <a:avLst/>
          </a:prstGeom>
          <a:solidFill>
            <a:srgbClr val="ff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12952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Proteínas recombi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2590920"/>
            <a:ext cx="1828800" cy="1523880"/>
          </a:xfrm>
          <a:prstGeom prst="ellipse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2819520"/>
            <a:ext cx="1905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Modificación genética de vías metabólicas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514600"/>
            <a:ext cx="1600200" cy="152388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9718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Terapia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334120"/>
            <a:ext cx="2133360" cy="121896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486400"/>
            <a:ext cx="1981080" cy="1219320"/>
          </a:xfrm>
          <a:prstGeom prst="ellipse">
            <a:avLst/>
          </a:prstGeom>
          <a:solidFill>
            <a:srgbClr val="99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562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Animales y plantas transgé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5715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Aplicaciones de Ingeniería genética para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14F-6476-4D98-9A86-913837E681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Temario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es moleculares de la genética (Prof Oriana Salaz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écnicas de Ingeniería Genética (Prof. Paola Bar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ciones de Ing. Genética (Prof. Oriana Salaz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6576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Osaka"/>
              </a:rPr>
              <a:t>En esta cl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Qué son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gen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y dónde está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Qué es e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AD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(o DNA)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Cóm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funciona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los ge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4B3-599B-4498-BECF-4CD0A592A8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90720" y="457200"/>
          <a:ext cx="75610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7561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8080" y="3124080"/>
          <a:ext cx="175284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124080"/>
                    <a:ext cx="175284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743200" y="2895480"/>
          <a:ext cx="1628640" cy="308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16286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419720" y="2895480"/>
          <a:ext cx="1628640" cy="308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2895480"/>
                    <a:ext cx="16286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248520" y="3048120"/>
          <a:ext cx="1752480" cy="284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3048120"/>
                    <a:ext cx="17524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486400" y="5715000"/>
          <a:ext cx="3114720" cy="54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5715000"/>
                    <a:ext cx="31147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066680" y="838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Osaka"/>
              </a:rPr>
              <a:t>Streptococcus pneumoni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133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Osaka"/>
              </a:rPr>
              <a:t>causan neum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2057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Osaka"/>
              </a:rPr>
              <a:t>No causan neum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217-9879-4C3A-BC77-1F9965EE2C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352680" y="18288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Osaka"/>
              </a:rPr>
              <a:t>Definición de un </a:t>
            </a:r>
            <a:r>
              <a:rPr b="1" lang="es-ES_tradnl" sz="3600" spc="-1" strike="noStrike">
                <a:solidFill>
                  <a:srgbClr val="cc0000"/>
                </a:solidFill>
                <a:latin typeface="Arial"/>
                <a:ea typeface="Osaka"/>
              </a:rPr>
              <a:t>“principio transformante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  <a:ea typeface="Osak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819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Osaka"/>
              </a:rPr>
              <a:t>Griff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6668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133720" y="3962520"/>
            <a:ext cx="5715000" cy="1371600"/>
            <a:chOff x="2133720" y="3962520"/>
            <a:chExt cx="5715000" cy="1371600"/>
          </a:xfrm>
        </p:grpSpPr>
        <p:sp>
          <p:nvSpPr>
            <p:cNvPr id="132" name=""/>
            <p:cNvSpPr/>
            <p:nvPr/>
          </p:nvSpPr>
          <p:spPr>
            <a:xfrm>
              <a:off x="2133720" y="4114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neumococos 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62720" y="4114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neumococos 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95680" y="3962520"/>
              <a:ext cx="914400" cy="76176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514600" y="5029200"/>
              <a:ext cx="762120" cy="304920"/>
              <a:chOff x="2514600" y="5029200"/>
              <a:chExt cx="762120" cy="304920"/>
            </a:xfrm>
          </p:grpSpPr>
          <p:sp>
            <p:nvSpPr>
              <p:cNvPr id="136" name=""/>
              <p:cNvSpPr/>
              <p:nvPr/>
            </p:nvSpPr>
            <p:spPr>
              <a:xfrm>
                <a:off x="2514600" y="5029200"/>
                <a:ext cx="380880" cy="304920"/>
              </a:xfrm>
              <a:prstGeom prst="ellipse">
                <a:avLst/>
              </a:prstGeom>
              <a:solidFill>
                <a:srgbClr val="ff66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95480" y="5029200"/>
                <a:ext cx="381240" cy="304920"/>
              </a:xfrm>
              <a:prstGeom prst="ellipse">
                <a:avLst/>
              </a:prstGeom>
              <a:solidFill>
                <a:srgbClr val="ff66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943600" y="4876920"/>
              <a:ext cx="762120" cy="304560"/>
              <a:chOff x="5943600" y="4876920"/>
              <a:chExt cx="762120" cy="304560"/>
            </a:xfrm>
          </p:grpSpPr>
          <p:sp>
            <p:nvSpPr>
              <p:cNvPr id="139" name=""/>
              <p:cNvSpPr/>
              <p:nvPr/>
            </p:nvSpPr>
            <p:spPr>
              <a:xfrm>
                <a:off x="5943600" y="4876920"/>
                <a:ext cx="380880" cy="304560"/>
              </a:xfrm>
              <a:prstGeom prst="ellipse">
                <a:avLst/>
              </a:prstGeom>
              <a:solidFill>
                <a:srgbClr val="008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24480" y="4876920"/>
                <a:ext cx="381240" cy="304560"/>
              </a:xfrm>
              <a:prstGeom prst="ellipse">
                <a:avLst/>
              </a:prstGeom>
              <a:solidFill>
                <a:srgbClr val="008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791320" y="4724280"/>
              <a:ext cx="1218960" cy="609840"/>
            </a:xfrm>
            <a:prstGeom prst="ellipse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ECF-5A24-4C29-9DCA-4EA8BB5245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990720" y="228600"/>
          <a:ext cx="766584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6658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334200" y="3276720"/>
          <a:ext cx="280980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4200" y="3276720"/>
                    <a:ext cx="28098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114800" y="5943600"/>
          <a:ext cx="23907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943600"/>
                    <a:ext cx="23907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05320" y="3200400"/>
          <a:ext cx="3352680" cy="234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200400"/>
                    <a:ext cx="335268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57200" y="3200400"/>
          <a:ext cx="3048120" cy="237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200400"/>
                    <a:ext cx="304812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D22-ECE6-437E-84A9-88DF9719A3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DEFINIENDO AL 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6002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s de una definició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Definición clásica</a:t>
            </a:r>
            <a:r>
              <a:rPr b="0" lang="es-ES_tradnl" sz="3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ff0066"/>
                </a:solidFill>
                <a:latin typeface="Arial"/>
              </a:rPr>
              <a:t>(Men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nición molecular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 gen es a un segmento lineal de ADN que contiene la información para sintetizar una molécula funcional, ya sea una proteína o un R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81952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6095880"/>
            <a:ext cx="739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0000"/>
                </a:solidFill>
                <a:latin typeface="Arial"/>
              </a:rPr>
              <a:t>Los genes están contenidos en el AD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533520"/>
            <a:ext cx="5791320" cy="9144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010280" y="838080"/>
            <a:ext cx="17748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205740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14600" y="39625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0033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0EE-6FE4-4B4D-A2C3-798D1A1C65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5513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lementos de la estructura de un 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17524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1980000"/>
            <a:ext cx="281952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0" rIns="1098000" tIns="180000" bIns="1800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1980000"/>
            <a:ext cx="312444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0" rIns="1098000" tIns="180000" bIns="1800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TER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3657600"/>
            <a:ext cx="266724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3200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3200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2057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Promoto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2133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Termin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D96-CB52-468A-9186-70A5C7AC3A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7:47:27Z</dcterms:created>
  <dc:creator>Oriana Salazar</dc:creator>
  <dc:description/>
  <dc:language>en-US</dc:language>
  <cp:lastModifiedBy>Ing Quimica</cp:lastModifiedBy>
  <dcterms:modified xsi:type="dcterms:W3CDTF">2009-01-13T13:25:19Z</dcterms:modified>
  <cp:revision>339</cp:revision>
  <dc:subject/>
  <dc:title>Genes: Qué son y dónde están?</dc:title>
</cp:coreProperties>
</file>