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36AE-73DA-4248-9741-6A3236C7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04E5-970D-495A-B1A8-D2289626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5396-A302-433C-9B10-DC3D5156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1107-F8A2-4B0D-BD65-E0DE7B43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70AF-E4E6-4E8F-81E6-2C850B71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EEF6-6EAB-4121-9184-7CDDCC49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E8C8-16D1-423C-9E48-F5402B3F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A030-0B4C-4DC3-A211-133EF2FC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CFFE-3194-47EE-866E-47930E5D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815D-3446-411B-AE6E-D7C656AA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CBA3-9DBE-4EEA-BE12-8C70F9E5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0016-8AA1-45AE-8482-ED6F0218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935E-1FF5-4B3E-A7E4-A091BB62A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uela de Verano Computación: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mputación II: Programación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 Comput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.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 usando los lenguajes Java y Mat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341360"/>
            <a:ext cx="805788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1 Arreglos de núm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2 Arreglos de obje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3 Búsqueda y orde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 Introducción a la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 Evaluación de Polinomios y 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 Cálculo de Raíces y Área Bajo la Cur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 Programación en Mat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Hor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203480" y="2309760"/>
          <a:ext cx="6440400" cy="381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3480" y="2309760"/>
                    <a:ext cx="644040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2 Pruebas (70%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93800" y="2041560"/>
          <a:ext cx="7345440" cy="388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2041560"/>
                    <a:ext cx="734544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3 tareas (3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57080" y="1986120"/>
          <a:ext cx="7223400" cy="369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986120"/>
                    <a:ext cx="7223400" cy="36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1-04T11:43:13Z</cp:lastPrinted>
  <dcterms:modified xsi:type="dcterms:W3CDTF">2011-01-04T18:27:38Z</dcterms:modified>
  <cp:revision>26</cp:revision>
  <dc:subject/>
  <dc:title>Un curso intensivo de Introducción a la Programación Orientada a Objetos en Java  para estudiantes de secundaria </dc:title>
</cp:coreProperties>
</file>