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A55-E1AA-4420-8B00-A0C54642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E23-82BD-4C12-B8CC-C47A4121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618-0E68-489D-9951-09AB1CC1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726-1131-4755-A2A3-30B3D56A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FBE-FBA2-4A36-9F88-3E9DA4C7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0D4-371C-49CF-97DC-863FA5B4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FD5-0010-447C-BB7A-344DFCFE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A995-1E2B-4E7C-BAE8-AC1627BF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A55-899F-4509-A1F6-3EBC39FE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DC1-2C59-4381-B527-32E61179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1E9-2E97-4F5C-9316-FA9788BE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5AA-E728-4BA1-8B1E-FD7B8EFD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254B89E4-6014-4B2D-8B8A-B9A5B047A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01-05T19:40:21Z</dcterms:modified>
  <cp:revision>94</cp:revision>
  <dc:subject/>
  <dc:title>Sin título de diapositiva</dc:title>
</cp:coreProperties>
</file>