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5D3-4FB9-42DA-89CD-EC5DB46D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3E37-07C9-40B0-9D52-897DF77C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4DD0-2FAE-4BBA-8BB4-0F09B77A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D4B4-4717-459B-A86F-78B9DA58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735-0655-40DC-8ADF-03B247AA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0682-2B3F-437F-80DB-9A82B8D9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1B33-24B2-4736-A6DA-1E1BE408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7412-C990-44D4-8AF1-07D93948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752-AAD2-409C-A137-2C2FE728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28C-B87A-4F16-9CC4-8AA69A4E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B852-1F16-45D2-B08C-FD6A1908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489D-67A4-4F54-B1A1-AA01D491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7AB2-16DA-4950-80A8-E35C367EC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06600"/>
          <a:ext cx="80899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6600"/>
                    <a:ext cx="80899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3360" y="620640"/>
          <a:ext cx="8202600" cy="579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202600" cy="579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03360" y="620640"/>
          <a:ext cx="81057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1057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03360" y="620640"/>
          <a:ext cx="8034120" cy="57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34120" cy="57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12720" y="506520"/>
          <a:ext cx="819324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506520"/>
                    <a:ext cx="819324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62120" y="546120"/>
          <a:ext cx="792468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6120"/>
                    <a:ext cx="792468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5120" y="612720"/>
          <a:ext cx="8383680" cy="591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612720"/>
                    <a:ext cx="8383680" cy="59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06600" y="642960"/>
          <a:ext cx="8188200" cy="55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42960"/>
                    <a:ext cx="81882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79520" y="595440"/>
          <a:ext cx="846936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595440"/>
                    <a:ext cx="846936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88880" y="390600"/>
          <a:ext cx="820260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390600"/>
                    <a:ext cx="820260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9120" y="469800"/>
          <a:ext cx="847404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47404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96880" y="596880"/>
          <a:ext cx="8242200" cy="591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96880"/>
                    <a:ext cx="82422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568440"/>
          <a:ext cx="822636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68440"/>
                    <a:ext cx="822636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619200"/>
          <a:ext cx="83246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3246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557280"/>
          <a:ext cx="828828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2882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20840" y="803160"/>
          <a:ext cx="8288280" cy="520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803160"/>
                    <a:ext cx="8288280" cy="52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42960" y="593640"/>
          <a:ext cx="791676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93640"/>
                    <a:ext cx="7916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6-05-09T15:34:00Z</cp:lastPrinted>
  <dcterms:modified xsi:type="dcterms:W3CDTF">2011-01-07T11:21:42Z</dcterms:modified>
  <cp:revision>21</cp:revision>
  <dc:subject/>
  <dc:title>Sin título de diapositiva</dc:title>
</cp:coreProperties>
</file>