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6990-8101-429F-B652-EF9275A6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EB3-36AF-42B3-A02B-A73DD803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C41-0AB1-4118-A4C5-A9154F55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334-ABF9-4E5C-B502-116FE2AC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6C8-69CF-484C-ADC3-9EF8EF63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C85-7492-4791-8514-FA64C1D2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1F0-8FDA-4752-B908-4097C688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9EC-5FDE-47B3-97F5-783C48DC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565-ED50-4F13-8B5C-29B0EB71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799-8767-4B01-B605-77E8ABDB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71A1-889A-4BBE-8267-B9BEDD1F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6433-A3B9-42C2-9862-A19B3811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FA30-6A08-4267-A201-2F5D64FBB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30360" y="479520"/>
          <a:ext cx="7980120" cy="6729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479520"/>
                    <a:ext cx="798012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35040" y="571680"/>
          <a:ext cx="81406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571680"/>
                    <a:ext cx="81406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31640" y="495360"/>
          <a:ext cx="8560080" cy="63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56008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9760" y="482760"/>
          <a:ext cx="8346960" cy="611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346960" cy="61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07960" y="482760"/>
          <a:ext cx="83440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07960" y="482760"/>
          <a:ext cx="8344080" cy="64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9760" y="482760"/>
          <a:ext cx="8229600" cy="638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229600" cy="63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77720" y="461880"/>
          <a:ext cx="8367840" cy="648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461880"/>
                    <a:ext cx="8367840" cy="64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03200" y="457200"/>
          <a:ext cx="81900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57200"/>
                    <a:ext cx="81900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5800" y="550800"/>
          <a:ext cx="828360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50800"/>
                    <a:ext cx="828360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01760" y="461880"/>
          <a:ext cx="81612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461880"/>
                    <a:ext cx="81612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484360" y="37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98320" y="384120"/>
          <a:ext cx="8237880" cy="66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" y="384120"/>
                    <a:ext cx="823788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flipV="1">
            <a:off x="450072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96000" y="450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73120" y="495360"/>
          <a:ext cx="8143920" cy="796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495360"/>
                    <a:ext cx="8143920" cy="79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22440" y="431640"/>
          <a:ext cx="8305560" cy="608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431640"/>
                    <a:ext cx="830556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95360" y="444600"/>
          <a:ext cx="853452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4600"/>
                    <a:ext cx="853452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9349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grabar n líneas en orden inve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Writer b=new Print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ileWriter(archivo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n-1; i&gt;=0; --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println( lineas[i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1-01-10T13:15:54Z</dcterms:modified>
  <cp:revision>39</cp:revision>
  <dc:subject/>
  <dc:title>Sin título de diapositiva</dc:title>
</cp:coreProperties>
</file>