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2CC-378C-4606-988B-FF3F9A21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CDE-8E10-4F91-AE0F-022F67D6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381-2E5F-4FE0-B5F8-E19799BC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3C9-49CB-442B-8425-53D1CA4D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A34-D301-4204-A169-0CB158B1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2C0-F13D-4C24-A396-B45C060F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F89-BA1E-4AF5-81C8-666970BA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3D8-0B6C-4338-9934-F9763D3B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0D0-4CB2-42B5-8BF7-0A763DFE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389-0794-446C-A6F9-E14A4438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5BF-F56B-4757-9E6F-E71B6346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B13-406F-4C17-A728-7C315AA8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98D0-F7AF-427E-B2B3-E1FF3A6E4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11-01-12T13:45:34Z</dcterms:modified>
  <cp:revision>22</cp:revision>
  <dc:subject/>
  <dc:title>Sin título de diapositiva</dc:title>
</cp:coreProperties>
</file>