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3980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3CC455-8F16-4155-A14F-15C864A965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893A8E-30E2-4F21-96E2-1BC1549C3A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939158-BD08-475C-8361-16B9208C33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F9F-26E0-4569-BBA5-45117752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1A0-F1C7-47D8-A04A-29050485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7F4-35EB-4EA7-9DD2-F733632D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9E8-DA97-40A2-8109-0DCE2D4B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0DB-B735-4A7F-990F-2E79D3C6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0A5-0F4E-4E7F-BD1E-1F24B6F9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755-11F6-4D17-9EAE-3E146974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663-EB60-4310-8C6D-BE605218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011-372E-4BD5-B757-00C4603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6A8-CD1E-4CA8-85BE-AA2F752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06E-3D62-4925-8A6B-82D4D9E6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3C5-936C-481A-B895-AAE0FFE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BEF8-C1E5-4209-8831-E9AE3C26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798480" y="2025720"/>
          <a:ext cx="7153200" cy="37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025720"/>
                    <a:ext cx="715320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738360" y="2025720"/>
          <a:ext cx="7048440" cy="35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025720"/>
                    <a:ext cx="7048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AutoShape 27"/>
          <p:cNvCxnSpPr>
            <a:stCxn id="69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28"/>
          <p:cNvCxnSpPr>
            <a:stCxn id="70" idx="0"/>
            <a:endCxn id="56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1200240" y="2313000"/>
          <a:ext cx="6419880" cy="379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313000"/>
                    <a:ext cx="641988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7T19:32:36Z</dcterms:modified>
  <cp:revision>31</cp:revision>
  <dc:subject/>
  <dc:title>Un curso intensivo de Introducción a la Programación Orientada a Objetos en Java  para estudiantes de secundaria </dc:title>
</cp:coreProperties>
</file>