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960" y="0"/>
            <a:ext cx="29671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7400" y="731520"/>
            <a:ext cx="4975200" cy="37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13640"/>
            <a:ext cx="29671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960" y="9413640"/>
            <a:ext cx="29671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F017-896D-489B-BA61-0BCD2BD00FC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5964-C4BE-4B33-AC87-5F783F17BF8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8928-2000-4543-98F1-0C846BB19E3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4633-DE28-4456-BC25-1A480929E1D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1F5D-7B9E-4FF0-85FF-6EDDCB8EC93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817D-5A90-4D90-ACE3-2E4D3431996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CA25-709F-45C6-B510-4B59DE37B8C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C75D-C357-41D5-AB86-34EA4A82EFF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C8A2-C472-4431-893F-4FE547C9244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B26F-719C-4764-A59B-2DF483DBD95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7396-7599-4237-AA47-1FC52039FBB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4F17-AA91-4703-96EB-F57ABC6D45C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59D4-8A8D-4B2B-887E-A2092057E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7012-B15B-4FD5-BF92-53C95A12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6841-2747-4134-94BB-DEACB3D33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DE32-DD81-43C4-A415-BF1DED27A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90D1-15C4-4E2E-8FCB-2FA6E617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4E03-5D7B-4AFF-8864-AAE72B46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6243-69D7-4027-8386-73074BB6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13EF-160E-4861-A897-0D71FFDF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009C-9DDE-4E76-86E0-E1180FBE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C72E-E6DF-4F0D-9BF2-D6B02138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C9AF-BB4A-4CA2-B3FB-6FBCE736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371A-1B93-4015-B69B-BE7D327F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3EA9-6B66-428B-A196-EEAAE821A4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542880" y="655560"/>
          <a:ext cx="8205840" cy="598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655560"/>
                    <a:ext cx="8205840" cy="59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31640" y="371520"/>
          <a:ext cx="8737920" cy="780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371520"/>
                    <a:ext cx="8737920" cy="78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371520" y="407880"/>
          <a:ext cx="8759880" cy="779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407880"/>
                    <a:ext cx="8759880" cy="77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519120" y="493560"/>
          <a:ext cx="8253360" cy="757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93560"/>
                    <a:ext cx="8253360" cy="757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469800" y="407880"/>
          <a:ext cx="8390160" cy="585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7880"/>
                    <a:ext cx="8390160" cy="585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469800" y="482760"/>
          <a:ext cx="8550360" cy="698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50360" cy="69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469800" y="482760"/>
          <a:ext cx="8550360" cy="698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50360" cy="69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469800" y="482760"/>
          <a:ext cx="8514000" cy="703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14000" cy="70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469800" y="482760"/>
          <a:ext cx="8612280" cy="777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12280" cy="77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469800" y="482760"/>
          <a:ext cx="8588520" cy="778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88520" cy="77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395280" y="395280"/>
          <a:ext cx="8637480" cy="768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95280"/>
                    <a:ext cx="8637480" cy="76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444600" y="457200"/>
          <a:ext cx="8663040" cy="622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57200"/>
                    <a:ext cx="866304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Python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print,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input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a instrucción en una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put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766800" y="839880"/>
          <a:ext cx="7783560" cy="509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839880"/>
                    <a:ext cx="7783560" cy="50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179280" y="473040"/>
            <a:ext cx="864072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º y lo guarda en la variable ind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444600" y="482760"/>
          <a:ext cx="8513640" cy="652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513640" cy="65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324000" y="1007640"/>
            <a:ext cx="856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que lee un nº desde el teclado y lo entrega como resul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611280" y="549360"/>
          <a:ext cx="8304120" cy="822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549360"/>
                    <a:ext cx="8304120" cy="822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alvarez</dc:creator>
  <dc:description/>
  <dc:language>en-US</dc:language>
  <cp:lastModifiedBy>jalvarez</cp:lastModifiedBy>
  <cp:lastPrinted>2006-03-07T16:10:21Z</cp:lastPrinted>
  <dcterms:modified xsi:type="dcterms:W3CDTF">2012-01-07T19:37:47Z</dcterms:modified>
  <cp:revision>101</cp:revision>
  <dc:subject/>
  <dc:title>Sin título de diapositiva</dc:title>
</cp:coreProperties>
</file>