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00B1A17-103F-4E42-B2FD-79FABF7D2EA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BE1C1E1-946B-4039-9800-19CBA303A6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DA40531-93E9-4F42-BA97-9E31D6B831C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BFF3D51-F982-4855-AFE4-A5B3B116D71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BE7-0A38-403B-85CB-97702A49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C322-CA83-419F-8713-51C89B76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50E5-A22D-4019-AB07-21A40BC1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2C63-A2D2-46DF-82C4-9DD71680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92CE-2F28-403D-91FF-89369865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2D77-CD3E-4EBE-97AD-12251870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7ED7-6162-4219-B81D-3BAE548B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C28-9577-403C-BE2F-D0D902D7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1A2-CD9B-4F28-B60E-8ABC76C6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7191-A94C-426B-B3A1-79AA088A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DD02-4E06-4032-9003-03028C11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9406-521B-4156-BAFD-B84B14B8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CBAF-8B46-4828-9C14-120EC4A28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uela de Verano 2012: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utación II: Programación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 Comput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 usando los lenguajes Java y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907920"/>
            <a:ext cx="8057880" cy="556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 Vent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 Grá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 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 Tab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 Diccionarios/Tup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 Búsqu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 Orde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8 Estructuras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9 Matlab (3 cla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Horario: lunes a jue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08:30 Laboratorio con ayud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0:15 Clase con profe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2:00 Laboratorio con ayud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sde 14 hrs: laboratorio libre (sin ayd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iernes: laboratorio libre todo el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2 pruebas (7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iércoles 18 de en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Jueves 26 de en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3 tareas (3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3"/>
          <p:cNvGraphicFramePr/>
          <p:nvPr/>
        </p:nvGraphicFramePr>
        <p:xfrm>
          <a:off x="758880" y="1986120"/>
          <a:ext cx="7211880" cy="368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8880" y="1986120"/>
                    <a:ext cx="7211880" cy="36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1-04T11:43:13Z</cp:lastPrinted>
  <dcterms:modified xsi:type="dcterms:W3CDTF">2012-01-09T10:48:17Z</dcterms:modified>
  <cp:revision>28</cp:revision>
  <dc:subject/>
  <dc:title>Un curso intensivo de Introducción a la Programación Orientada a Objetos en Java  para estudiantes de secundaria </dc:title>
</cp:coreProperties>
</file>