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9E8-C005-40B3-9EAF-DB7E6D9C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C7A-132A-4985-8A89-A90B42E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72D-D0D5-4CDE-AB9F-E79CE88F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69D-0542-491D-ACF6-A052868E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E14-43AE-47EA-9A84-864D0FAA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FC6-E5C7-4482-A588-909513B1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4DC-E7D5-4DCE-82F6-B1F18A5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FC9-061D-46BE-AC4A-1E5CD8CF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92C-6A14-4F38-A934-323C2F0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91D-F781-4EA7-AAE3-A207044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CF9-BA51-4DA2-80A5-829AE9AD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41A-2EFC-4883-B327-2D99490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754F-69A9-49EF-B923-277ABD34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180,16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1-04-19T12:54:49Z</dcterms:modified>
  <cp:revision>97</cp:revision>
  <dc:subject/>
  <dc:title>Sin título de diapositiva</dc:title>
</cp:coreProperties>
</file>