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7C6D1-A148-4547-9062-3B85F2DE9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F5439-879D-42F6-91DB-ACEBD3C44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D6E18-B517-4B40-824E-9979E13C9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89B28-536D-43D7-BE52-3BBF50459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CA527-4343-4209-84B4-3B91574AD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D4DC0-DAA6-46D4-AAD3-F66DEDD00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91166-80D8-4EBF-98E3-C7B57E459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09F0F-B79F-4FBF-85BA-16EC32223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FF972-0B85-4946-BA89-5F3D8127A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B0305-7840-4B18-B801-738ABF8E1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B6E0C-36E9-4644-9116-F62888037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3FB7C-FCFD-442A-AC8B-513880CBE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56559-50D1-4063-9AB1-8FE84321E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C201A-70F8-4BCB-9DFE-8848A055D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8DA33-8EF7-42EE-9BAC-92E013130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60FCC-300C-4628-8C44-D2950F576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C7A0E-4AB3-494D-B9B3-A63D807D3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57281-6AB7-4D60-B554-566E50F31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09454-D322-4568-9920-731670294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71D7E-B82B-403F-BB81-D7E98E81D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AD192-053D-402D-8027-723475073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4AB8F-D8FB-42BD-A285-EC211664E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96092-F932-4836-8421-8AE1B5A28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41B1-A6FB-4EF4-8F81-D704EA658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CE3B-56DF-4219-8A83-5CD46AD041A3}"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0D3C-747B-4E4F-8116-1507638C2A9C}"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mel@ciq.uchile.c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16000" y="1142640"/>
            <a:ext cx="5327640" cy="331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Narrow"/>
              </a:rPr>
              <a:t>Programa Farmacodinamia</a:t>
            </a:r>
            <a:br>
              <a:rPr sz="3200"/>
            </a:br>
            <a:r>
              <a:rPr b="0" i="1" lang="es-ES" sz="3200" spc="-1" strike="noStrike">
                <a:solidFill>
                  <a:srgbClr val="ffffff"/>
                </a:solidFill>
                <a:latin typeface="Arial Narrow"/>
              </a:rPr>
              <a:t>Carrera Química y Farmacia</a:t>
            </a:r>
            <a:br>
              <a:rPr sz="3200"/>
            </a:br>
            <a:br>
              <a:rPr sz="3200"/>
            </a:br>
            <a:r>
              <a:rPr b="0" i="1" lang="es-ES" sz="3200" spc="-1" strike="noStrike">
                <a:solidFill>
                  <a:srgbClr val="ffffff"/>
                </a:solidFill>
                <a:latin typeface="Arial Narrow"/>
              </a:rPr>
              <a:t>Semestre Primavera 2010</a:t>
            </a:r>
            <a:br>
              <a:rPr sz="3200"/>
            </a:br>
            <a:r>
              <a:rPr b="0" i="1" lang="es-ES" sz="3200" spc="-1" strike="noStrike">
                <a:solidFill>
                  <a:srgbClr val="ffffff"/>
                </a:solidFill>
                <a:latin typeface="Arial Narrow"/>
              </a:rPr>
              <a:t>María Eugenia Letelier M</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571480" y="428400"/>
            <a:ext cx="6357960" cy="6143400"/>
          </a:xfrm>
          <a:prstGeom prst="rect">
            <a:avLst/>
          </a:prstGeom>
          <a:noFill/>
          <a:ln w="0">
            <a:noFill/>
          </a:ln>
        </p:spPr>
        <p:txBody>
          <a:bodyPr anchor="t">
            <a:normAutofit/>
          </a:bodyPr>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La evaluación asignada a la revisión bibliográfica y a las preguntas de selección múltiple, será la misma para cada uno de los alumnos del grupo.</a:t>
            </a:r>
            <a:r>
              <a:rPr b="0" lang="es-ES" sz="2200" spc="-1" strike="noStrike">
                <a:solidFill>
                  <a:srgbClr val="150383"/>
                </a:solidFill>
                <a:latin typeface="Arial Narrow"/>
              </a:rPr>
              <a:t> </a:t>
            </a:r>
            <a:endParaRPr b="0" lang="en-US" sz="2200" spc="-1" strike="noStrike">
              <a:solidFill>
                <a:srgbClr val="000000"/>
              </a:solidFill>
              <a:latin typeface="Calibri"/>
            </a:endParaRPr>
          </a:p>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50383"/>
                </a:solidFill>
                <a:latin typeface="Arial Narrow"/>
              </a:rPr>
              <a:t>La trabajos deberán ser entregados el día de la presentación oral del tema elegido y figura en el Calendario de Actividades. </a:t>
            </a:r>
            <a:r>
              <a:rPr b="1" i="1" lang="es-ES" sz="2200" spc="-1" strike="noStrike">
                <a:solidFill>
                  <a:srgbClr val="150383"/>
                </a:solidFill>
                <a:latin typeface="Arial Narrow"/>
              </a:rPr>
              <a:t>El atraso en la entrega hará perder a los alumnos 1 punto del promedio del trabajo por cada día de atraso.</a:t>
            </a:r>
            <a:endParaRPr b="0" lang="en-US" sz="2200" spc="-1" strike="noStrike">
              <a:solidFill>
                <a:srgbClr val="000000"/>
              </a:solidFill>
              <a:latin typeface="Calibri"/>
            </a:endParaRPr>
          </a:p>
          <a:p>
            <a:pPr marL="343080" indent="-343080" algn="just">
              <a:lnSpc>
                <a:spcPct val="11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Laboratorios</a:t>
            </a:r>
            <a:endParaRPr b="0" lang="en-US" sz="2200" spc="-1" strike="noStrike">
              <a:solidFill>
                <a:srgbClr val="000000"/>
              </a:solidFill>
              <a:latin typeface="Calibri"/>
            </a:endParaRPr>
          </a:p>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0" lang="es-ES" sz="2200" spc="-1" strike="noStrike">
                <a:solidFill>
                  <a:srgbClr val="150383"/>
                </a:solidFill>
                <a:latin typeface="Arial Narrow"/>
              </a:rPr>
              <a:t>Se realizarán 3 laboratorios, cuyos temas estarán relacionados con los contenidos del curso. Estas actividades serán evaluadas por controles que se realiarán al inicio de cada laboratorio y una prueba global que se realizará al final de ellos. </a:t>
            </a:r>
            <a:endParaRPr b="0" lang="en-US" sz="2200" spc="-1" strike="noStrike">
              <a:solidFill>
                <a:srgbClr val="000000"/>
              </a:solidFill>
              <a:latin typeface="Calibri"/>
            </a:endParaRPr>
          </a:p>
          <a:p>
            <a:pPr marL="343080" indent="-343080" algn="just">
              <a:lnSpc>
                <a:spcPct val="11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642760" y="333000"/>
            <a:ext cx="6286680" cy="6048360"/>
          </a:xfrm>
          <a:prstGeom prst="rect">
            <a:avLst/>
          </a:prstGeom>
          <a:noFill/>
          <a:ln w="0">
            <a:noFill/>
          </a:ln>
        </p:spPr>
        <p:txBody>
          <a:bodyPr anchor="t">
            <a:normAutofit/>
          </a:bodyPr>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EVALUACIONES</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Prueba A1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30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Prueba A2</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30 %</a:t>
            </a:r>
            <a:r>
              <a:rPr b="0" lang="es-ES_tradnl"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Controles Laboratorio</a:t>
            </a:r>
            <a:r>
              <a:rPr b="0" lang="es-ES_tradnl" sz="2400" spc="-1" strike="noStrike">
                <a:solidFill>
                  <a:srgbClr val="150383"/>
                </a:solidFill>
                <a:latin typeface="Arial Narrow"/>
              </a:rPr>
              <a:t>	</a:t>
            </a:r>
            <a:r>
              <a:rPr b="0" lang="es-ES_tradnl" sz="2400" spc="-1" strike="noStrike">
                <a:solidFill>
                  <a:srgbClr val="150383"/>
                </a:solidFill>
                <a:latin typeface="Arial Narrow"/>
              </a:rPr>
              <a:t>20 %</a:t>
            </a:r>
            <a:r>
              <a:rPr b="0" lang="es-ES_tradnl"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Trabajo bibliográfico</a:t>
            </a:r>
            <a:r>
              <a:rPr b="0" lang="es-ES_tradnl" sz="2400" spc="-1" strike="noStrike">
                <a:solidFill>
                  <a:srgbClr val="150383"/>
                </a:solidFill>
                <a:latin typeface="Arial Narrow"/>
              </a:rPr>
              <a:t>	</a:t>
            </a:r>
            <a:r>
              <a:rPr b="0" lang="es-ES_tradnl" sz="2400" spc="-1" strike="noStrike" u="sng">
                <a:solidFill>
                  <a:srgbClr val="150383"/>
                </a:solidFill>
                <a:uFillTx/>
                <a:latin typeface="Arial Narrow"/>
              </a:rPr>
              <a:t>20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Symbol"/>
                <a:ea typeface="Symbol"/>
              </a:rPr>
              <a:t></a:t>
            </a:r>
            <a:r>
              <a:rPr b="0" lang="es-ES_tradnl" sz="2400" spc="-1" strike="noStrike">
                <a:solidFill>
                  <a:srgbClr val="150383"/>
                </a:solidFill>
                <a:latin typeface="Arial Narrow"/>
              </a:rPr>
              <a:t>100%  Nota Presentación</a:t>
            </a:r>
            <a:r>
              <a:rPr b="0" lang="es-MX"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Examen</a:t>
            </a:r>
            <a:r>
              <a:rPr b="0" lang="es-MX" sz="2400" spc="-1" strike="noStrike">
                <a:solidFill>
                  <a:srgbClr val="150383"/>
                </a:solidFill>
                <a:latin typeface="Arial Narrow"/>
              </a:rPr>
              <a:t>	</a:t>
            </a:r>
            <a:r>
              <a:rPr b="0" lang="es-MX" sz="2400" spc="-1" strike="noStrike">
                <a:solidFill>
                  <a:srgbClr val="150383"/>
                </a:solidFill>
                <a:latin typeface="Arial Narrow"/>
              </a:rPr>
              <a:t>	</a:t>
            </a:r>
            <a:r>
              <a:rPr b="0" lang="es-MX" sz="2400" spc="-1" strike="noStrike">
                <a:solidFill>
                  <a:srgbClr val="150383"/>
                </a:solidFill>
                <a:latin typeface="Arial Narrow"/>
              </a:rPr>
              <a:t>40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Nota de Presentación </a:t>
            </a:r>
            <a:r>
              <a:rPr b="0" lang="es-MX" sz="2400" spc="-1" strike="noStrike">
                <a:solidFill>
                  <a:srgbClr val="150383"/>
                </a:solidFill>
                <a:latin typeface="Arial Narrow"/>
              </a:rPr>
              <a:t>	</a:t>
            </a:r>
            <a:r>
              <a:rPr b="0" lang="es-MX" sz="2400" spc="-1" strike="noStrike" u="sng">
                <a:solidFill>
                  <a:srgbClr val="150383"/>
                </a:solidFill>
                <a:uFillTx/>
                <a:latin typeface="Arial Narrow"/>
              </a:rPr>
              <a:t>60%</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Symbol"/>
                <a:ea typeface="Symbol"/>
              </a:rPr>
              <a:t></a:t>
            </a:r>
            <a:r>
              <a:rPr b="0" lang="es-ES_tradnl" sz="2400" spc="-1" strike="noStrike">
                <a:solidFill>
                  <a:srgbClr val="150383"/>
                </a:solidFill>
                <a:latin typeface="Arial Narrow"/>
              </a:rPr>
              <a:t>100%  Nota Present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643120" y="571680"/>
            <a:ext cx="6215040" cy="5665680"/>
          </a:xfrm>
          <a:prstGeom prst="rect">
            <a:avLst/>
          </a:prstGeom>
          <a:noFill/>
          <a:ln w="0">
            <a:noFill/>
          </a:ln>
        </p:spPr>
        <p:txBody>
          <a:bodyPr anchor="t">
            <a:normAutofit/>
          </a:bodyPr>
          <a:p>
            <a:pPr marL="343080" indent="-3430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150383"/>
                </a:solidFill>
                <a:latin typeface="Arial Narrow"/>
              </a:rPr>
              <a:t>REGLAMENTO DE EVALUACION DE LA FACULTAD</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Cambio respecto del año 2006.</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 la nota de la prueba PRE es 4,0 o superior y el promedio resultante después de la sustitución es igual o superior a la nota 4,0, el o la estudiante quedará aprobado) en la asignatura con la evaluación correspondiente al promedio, a menos que solicite rendir examen.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 la condición anterior no se cumple, el o la estudiante deberá dar examen, aún cuando su promedio sea superior a 4,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428560" y="814320"/>
            <a:ext cx="6429240" cy="5400720"/>
          </a:xfrm>
          <a:prstGeom prst="rect">
            <a:avLst/>
          </a:prstGeom>
          <a:noFill/>
          <a:ln w="0">
            <a:noFill/>
          </a:ln>
        </p:spPr>
        <p:txBody>
          <a:bodyPr anchor="t">
            <a:normAutofit/>
          </a:bodyPr>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Inasistencias</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 inasistencia a una prueba A no requiere ser justificada. A cambio, deberá rendir la prueba PRE. Quien haya estado ausente en la prueba PRE sólo tendrá derecho al examen.</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n embargo, si las inasistencias de un estudiante, justificadas o no, a actividades obligatorias (laboratorios o seminarios) superan un 50% o si ha faltado a dos pruebas A, pueden ser causal de reprobación de la asignatura, porque se considera que estuvo ajeno al desarrollo del curs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499840" y="763560"/>
            <a:ext cx="6286680" cy="5329440"/>
          </a:xfrm>
          <a:prstGeom prst="rect">
            <a:avLst/>
          </a:prstGeom>
          <a:noFill/>
          <a:ln w="0">
            <a:noFill/>
          </a:ln>
        </p:spPr>
        <p:txBody>
          <a:bodyPr anchor="t">
            <a:normAutofit/>
          </a:bodyPr>
          <a:p>
            <a:pPr marL="343080" indent="-343080" algn="just">
              <a:lnSpc>
                <a:spcPct val="12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50383"/>
                </a:solidFill>
                <a:latin typeface="Arial Narrow"/>
              </a:rPr>
              <a:t>	</a:t>
            </a:r>
            <a:r>
              <a:rPr b="0" lang="es-ES" sz="2200" spc="-1" strike="noStrike">
                <a:solidFill>
                  <a:srgbClr val="150383"/>
                </a:solidFill>
                <a:latin typeface="Arial Narrow"/>
              </a:rPr>
              <a:t>En cada asignatura se darán a conocer las condiciones de asistencia. </a:t>
            </a:r>
            <a:r>
              <a:rPr b="1" lang="es-ES" sz="2200" spc="-1" strike="noStrike">
                <a:solidFill>
                  <a:srgbClr val="150383"/>
                </a:solidFill>
                <a:latin typeface="Arial Narrow"/>
              </a:rPr>
              <a:t>Sin exclusión la asistencia a laboratorios, prácticos y seminarios es obligatoria</a:t>
            </a:r>
            <a:r>
              <a:rPr b="0" lang="es-ES" sz="2200" spc="-1" strike="noStrike">
                <a:solidFill>
                  <a:srgbClr val="150383"/>
                </a:solidFill>
                <a:latin typeface="Arial Narrow"/>
              </a:rPr>
              <a:t>. La obligatoriedad  de asistencia a clases y tolerancia de inasistencias las dará a conocer el profesor encargado de acuerdo con las exigencias de la asignatura. </a:t>
            </a:r>
            <a:endParaRPr b="0" lang="en-US" sz="2200" spc="-1" strike="noStrike">
              <a:solidFill>
                <a:srgbClr val="000000"/>
              </a:solidFill>
              <a:latin typeface="Calibri"/>
            </a:endParaRPr>
          </a:p>
          <a:p>
            <a:pPr marL="343080" indent="-343080" algn="just">
              <a:lnSpc>
                <a:spcPct val="12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1" lang="es-ES" sz="2200" spc="-1" strike="noStrike">
                <a:solidFill>
                  <a:srgbClr val="150383"/>
                </a:solidFill>
                <a:latin typeface="Arial Narrow"/>
              </a:rPr>
              <a:t>Eximición:</a:t>
            </a:r>
            <a:endParaRPr b="0" lang="en-US" sz="2200" spc="-1" strike="noStrike">
              <a:solidFill>
                <a:srgbClr val="000000"/>
              </a:solidFill>
              <a:latin typeface="Calibri"/>
            </a:endParaRPr>
          </a:p>
          <a:p>
            <a:pPr marL="343080" indent="-343080" algn="just">
              <a:lnSpc>
                <a:spcPct val="120000"/>
              </a:lnSpc>
              <a:spcBef>
                <a:spcPts val="649"/>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1" lang="es-ES" sz="2200" spc="-1" strike="noStrike">
                <a:solidFill>
                  <a:srgbClr val="150383"/>
                </a:solidFill>
                <a:latin typeface="Arial Narrow"/>
              </a:rPr>
              <a:t>La nota de eximición será promedio 5. Este beneficio será entregado sólo a los alumnos que no tengan inasistencias a pruebas globales y/o parciales</a:t>
            </a:r>
            <a:r>
              <a:rPr b="1" lang="es-ES" sz="2600" spc="-1" strike="noStrike">
                <a:solidFill>
                  <a:srgbClr val="150383"/>
                </a:solidFill>
                <a:latin typeface="Arial Narrow"/>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571480" y="1217520"/>
            <a:ext cx="6143400" cy="4997520"/>
          </a:xfrm>
          <a:prstGeom prst="rect">
            <a:avLst/>
          </a:prstGeom>
          <a:noFill/>
          <a:ln w="0">
            <a:noFill/>
          </a:ln>
        </p:spPr>
        <p:txBody>
          <a:bodyPr anchor="t">
            <a:normAutofit/>
          </a:bodyPr>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HORARIOS</a:t>
            </a: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CLASES: </a:t>
            </a:r>
            <a:r>
              <a:rPr b="1" lang="es-ES" sz="2000" spc="-1" strike="noStrike">
                <a:solidFill>
                  <a:srgbClr val="150383"/>
                </a:solidFill>
                <a:latin typeface="Arial Narrow"/>
              </a:rPr>
              <a:t>	</a:t>
            </a:r>
            <a:r>
              <a:rPr b="1" lang="es-ES" sz="2000" spc="-1" strike="noStrike">
                <a:solidFill>
                  <a:srgbClr val="150383"/>
                </a:solidFill>
                <a:latin typeface="Arial Narrow"/>
              </a:rPr>
              <a:t>Miércoles 14:00 - 15:40 hrs, Sala O2</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SEMINARIOS: </a:t>
            </a:r>
            <a:r>
              <a:rPr b="1" lang="es-ES" sz="2000" spc="-1" strike="noStrike">
                <a:solidFill>
                  <a:srgbClr val="150383"/>
                </a:solidFill>
                <a:latin typeface="Arial Narrow"/>
              </a:rPr>
              <a:t>	</a:t>
            </a:r>
            <a:r>
              <a:rPr b="1" lang="es-ES" sz="2000" spc="-1" strike="noStrike">
                <a:solidFill>
                  <a:srgbClr val="150383"/>
                </a:solidFill>
                <a:latin typeface="Arial Narrow"/>
              </a:rPr>
              <a:t>Viernes  14:50 -  17:30 hrs, Sala O1 </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LABORATORIOS:  </a:t>
            </a:r>
            <a:r>
              <a:rPr b="1" lang="es-ES" sz="2000" spc="-1" strike="noStrike">
                <a:solidFill>
                  <a:srgbClr val="150383"/>
                </a:solidFill>
                <a:latin typeface="Arial Narrow"/>
              </a:rPr>
              <a:t>	</a:t>
            </a:r>
            <a:r>
              <a:rPr b="1" lang="es-ES" sz="2000" spc="-1" strike="noStrike">
                <a:solidFill>
                  <a:srgbClr val="150383"/>
                </a:solidFill>
                <a:latin typeface="Arial Narrow"/>
              </a:rPr>
              <a:t>Viernes 14:00 - 17:30 hrs</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	</a:t>
            </a:r>
            <a:r>
              <a:rPr b="1" lang="es-ES" sz="2000" spc="-1" strike="noStrike">
                <a:solidFill>
                  <a:srgbClr val="150383"/>
                </a:solidFill>
                <a:latin typeface="Arial Narrow"/>
              </a:rPr>
              <a:t>Laboratorio Multiuso</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50383"/>
                </a:solidFill>
                <a:latin typeface="Arial Narrow"/>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3800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50383"/>
                </a:solidFill>
                <a:latin typeface="Arial Narrow"/>
                <a:ea typeface="Arial"/>
              </a:rPr>
              <a:t>Calendario de Actividades</a:t>
            </a:r>
            <a:endParaRPr b="0" lang="en-US" sz="2800" spc="-1" strike="noStrike">
              <a:solidFill>
                <a:srgbClr val="000000"/>
              </a:solidFill>
              <a:latin typeface="Calibri"/>
            </a:endParaRPr>
          </a:p>
        </p:txBody>
      </p:sp>
      <p:graphicFrame>
        <p:nvGraphicFramePr>
          <p:cNvPr id="98" name=""/>
          <p:cNvGraphicFramePr/>
          <p:nvPr/>
        </p:nvGraphicFramePr>
        <p:xfrm>
          <a:off x="2571840" y="1344600"/>
          <a:ext cx="6357960" cy="6370560"/>
        </p:xfrm>
        <a:graphic>
          <a:graphicData uri="http://schemas.openxmlformats.org/drawingml/2006/table">
            <a:tbl>
              <a:tblPr/>
              <a:tblGrid>
                <a:gridCol w="1144440"/>
                <a:gridCol w="2860560"/>
                <a:gridCol w="2352960"/>
              </a:tblGrid>
              <a:tr h="703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SEMA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CLASES TEÓRICA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CLASES TEÓRICAS Y CONTRO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67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ea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Asistencia OBLIGATO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Presentación del curs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50383"/>
                          </a:solidFill>
                          <a:latin typeface="Arial Narrow"/>
                        </a:rPr>
                        <a:t>Introducción a la Farmacolog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Mi. 4/08 - Sala O2 - 14:00 a 15:4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2 horas) M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50383"/>
                          </a:solidFill>
                          <a:latin typeface="Arial Narrow"/>
                        </a:rPr>
                        <a:t>Vías Generales de Administración de Fármac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Vi. 6/08 - Sala O1 - 14:00 a 17:3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3 horas) ME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r>
                        <a:rPr b="0" lang="pt-BR" sz="2000" spc="-1" strike="noStrike">
                          <a:solidFill>
                            <a:srgbClr val="150383"/>
                          </a:solidFill>
                          <a:latin typeface="Arial Narrow"/>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6"/>
          <p:cNvSpPr/>
          <p:nvPr/>
        </p:nvSpPr>
        <p:spPr>
          <a:xfrm>
            <a:off x="428760" y="1285920"/>
            <a:ext cx="5400720" cy="16333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uebas A, PRE y EXAMEN:</a:t>
            </a:r>
            <a:r>
              <a:rPr b="0" lang="es-CL" sz="2400" spc="-1" strike="noStrike">
                <a:solidFill>
                  <a:srgbClr val="ffffff"/>
                </a:solidFill>
                <a:latin typeface="Arial"/>
              </a:rPr>
              <a:t>  </a:t>
            </a:r>
            <a:r>
              <a:rPr b="0" lang="es-CL" sz="2400" spc="-1" strike="noStrike">
                <a:solidFill>
                  <a:srgbClr val="ffffff"/>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or confirmar por Secretaría de Estudios</a:t>
            </a:r>
            <a:r>
              <a:rPr b="1" lang="es-ES" sz="2400" spc="-1" strike="noStrike">
                <a:solidFill>
                  <a:srgbClr val="ffffff"/>
                </a:solidFill>
                <a:latin typeface="Arial"/>
              </a:rPr>
              <a:t>.</a:t>
            </a:r>
            <a:r>
              <a:rPr b="0" lang="es-ES"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WordArt 8"/>
          <p:cNvSpPr txBox="1"/>
          <p:nvPr/>
        </p:nvSpPr>
        <p:spPr>
          <a:xfrm>
            <a:off x="1285920" y="4429080"/>
            <a:ext cx="1785960" cy="642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Narrow"/>
              </a:rPr>
              <a:t>EXITO</a:t>
            </a:r>
            <a:endParaRPr b="0" lang="en-US" sz="3200" spc="1" strike="noStrike">
              <a:ln w="9360">
                <a:solidFill>
                  <a:srgbClr val="000000"/>
                </a:solidFill>
                <a:miter/>
              </a:ln>
              <a:solidFill>
                <a:srgbClr val="ffffff"/>
              </a:solidFill>
              <a:latin typeface="Arial Narrow"/>
              <a:ea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2901960" y="571680"/>
            <a:ext cx="5527800" cy="57592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Coordinadora y Docente </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aría Eugenia Letelier Muñoz</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ede Olivos 5º Piso Of. 505 y/o</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boratorio de Farmacología y Toxicología A</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ff"/>
                </a:solidFill>
                <a:uFillTx/>
                <a:latin typeface="Arial Narrow"/>
                <a:hlinkClick r:id="rId1"/>
              </a:rPr>
              <a:t>mel@ciq.uchile.cl</a:t>
            </a:r>
            <a:r>
              <a:rPr b="0" lang="es-ES" sz="2400" spc="-1" strike="noStrike">
                <a:solidFill>
                  <a:srgbClr val="150383"/>
                </a:solidFill>
                <a:latin typeface="Arial Narrow"/>
              </a:rPr>
              <a:t> – Teléfono: 9782885</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Profesores</a:t>
            </a:r>
            <a:r>
              <a:rPr b="0" lang="es-ES" sz="2400" spc="-1" strike="noStrike">
                <a:solidFill>
                  <a:srgbClr val="150383"/>
                </a:solidFill>
                <a:latin typeface="Arial Narrow"/>
              </a:rPr>
              <a:t> </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oledad Bollo</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aría Eugenia Letelier M.</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Ayudant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iliana Peredo 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Karla Cortés Jop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643120" y="571320"/>
            <a:ext cx="6215040" cy="5715000"/>
          </a:xfrm>
          <a:prstGeom prst="rect">
            <a:avLst/>
          </a:prstGeom>
          <a:noFill/>
          <a:ln w="0">
            <a:noFill/>
          </a:ln>
        </p:spPr>
        <p:txBody>
          <a:bodyPr anchor="t">
            <a:normAutofit/>
          </a:bodyPr>
          <a:p>
            <a:pPr marL="343080" indent="-343080" algn="just">
              <a:lnSpc>
                <a:spcPct val="11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Objetivos Generale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Introducir al alumno en los conceptos Faarmacocinéticos y Farmacodinámicos que nos permiten explicar los efectos farmacológicos de lo Fármaco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Ellos nos permiten explicar la acción terapéutica  de distintas patologías que afectan los distintos órganos y sistema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Estos conceptos son precedidos por una breve presentación de la etiopatología de las mismas</a:t>
            </a:r>
            <a:r>
              <a:rPr b="0" lang="es-ES" sz="2400" spc="-1" strike="noStrike">
                <a:solidFill>
                  <a:srgbClr val="150383"/>
                </a:solidFill>
                <a:latin typeface="Arial Narrow"/>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571840" y="404280"/>
            <a:ext cx="6286320" cy="5977080"/>
          </a:xfrm>
          <a:prstGeom prst="rect">
            <a:avLst/>
          </a:prstGeom>
          <a:noFill/>
          <a:ln w="0">
            <a:noFill/>
          </a:ln>
        </p:spPr>
        <p:txBody>
          <a:bodyPr anchor="t">
            <a:normAutofit/>
          </a:bodyPr>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Objetivos específicos</a:t>
            </a: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1.</a:t>
            </a:r>
            <a:r>
              <a:rPr b="1" lang="es-ES_tradnl" sz="2400" spc="-1" strike="noStrike">
                <a:solidFill>
                  <a:srgbClr val="150383"/>
                </a:solidFill>
                <a:latin typeface="Arial Narrow"/>
              </a:rPr>
              <a:t>	</a:t>
            </a:r>
            <a:r>
              <a:rPr b="1" lang="es-ES_tradnl" sz="2400" spc="-1" strike="noStrike">
                <a:solidFill>
                  <a:srgbClr val="150383"/>
                </a:solidFill>
                <a:latin typeface="Arial Narrow"/>
              </a:rPr>
              <a:t>Objetivos específicos de conocimientos:</a:t>
            </a: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Introducción a la Farmacología</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Vías de Administra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 </a:t>
            </a:r>
            <a:r>
              <a:rPr b="0" lang="es-ES" sz="2400" spc="-1" strike="noStrike">
                <a:solidFill>
                  <a:srgbClr val="150383"/>
                </a:solidFill>
                <a:latin typeface="Arial Narrow"/>
              </a:rPr>
              <a:t>Absor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Distribu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etabolismo</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Excre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Receptores</a:t>
            </a:r>
            <a:endParaRPr b="0" lang="en-US" sz="2400" spc="-1" strike="noStrike">
              <a:solidFill>
                <a:srgbClr val="000000"/>
              </a:solidFill>
              <a:latin typeface="Calibri"/>
            </a:endParaRPr>
          </a:p>
          <a:p>
            <a:pPr lvl="1" marL="185760" indent="-64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a:t>
            </a:r>
            <a:r>
              <a:rPr b="0" lang="es-ES" sz="2400" spc="-1" strike="noStrike">
                <a:solidFill>
                  <a:srgbClr val="150383"/>
                </a:solidFill>
                <a:latin typeface="Arial Narrow"/>
              </a:rPr>
              <a:t> El cumplimiento de estos objetivos se evaluará mediante pruebas globales de selección múltiple tipo A y pruebas parciales de desarrollo de cada uno de los temas desarroll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643120" y="406080"/>
            <a:ext cx="6215040" cy="6165720"/>
          </a:xfrm>
          <a:prstGeom prst="rect">
            <a:avLst/>
          </a:prstGeom>
          <a:noFill/>
          <a:ln w="0">
            <a:noFill/>
          </a:ln>
        </p:spPr>
        <p:txBody>
          <a:bodyPr anchor="t">
            <a:normAutofit/>
          </a:bodyPr>
          <a:p>
            <a:pPr marL="357120" indent="-357120">
              <a:lnSpc>
                <a:spcPct val="70000"/>
              </a:lnSpc>
              <a:spcBef>
                <a:spcPts val="649"/>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150383"/>
                </a:solidFill>
                <a:latin typeface="Arial Narrow"/>
              </a:rPr>
              <a:t>2. </a:t>
            </a:r>
            <a:r>
              <a:rPr b="1" lang="es-ES_tradnl" sz="2600" spc="-1" strike="noStrike">
                <a:solidFill>
                  <a:srgbClr val="150383"/>
                </a:solidFill>
                <a:latin typeface="Arial Narrow"/>
              </a:rPr>
              <a:t>Objetivos específicos de habilidades</a:t>
            </a:r>
            <a:endParaRPr b="0" lang="en-US" sz="2600" spc="-1" strike="noStrike">
              <a:solidFill>
                <a:srgbClr val="000000"/>
              </a:solidFill>
              <a:latin typeface="Calibri"/>
            </a:endParaRPr>
          </a:p>
          <a:p>
            <a:pPr marL="357120" indent="-357120">
              <a:lnSpc>
                <a:spcPct val="70000"/>
              </a:lnSpc>
              <a:spcBef>
                <a:spcPts val="649"/>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7120" indent="-357120" algn="just">
              <a:lnSpc>
                <a:spcPct val="10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I</a:t>
            </a:r>
            <a:r>
              <a:rPr b="0" lang="es-CL" sz="2400" spc="-1" strike="noStrike">
                <a:solidFill>
                  <a:srgbClr val="150383"/>
                </a:solidFill>
                <a:latin typeface="Arial Narrow"/>
              </a:rPr>
              <a:t>ntroducir al alumno en los conceptos básicos del estudio del fármaco, desde un punto de vista farmacocinético, es decir, los conceptos relacionados con lo factores que afectan al fármaco cuando éste ingresa al organismo.</a:t>
            </a:r>
            <a:endParaRPr b="0" lang="en-US" sz="2400" spc="-1" strike="noStrike">
              <a:solidFill>
                <a:srgbClr val="000000"/>
              </a:solidFill>
              <a:latin typeface="Calibri"/>
            </a:endParaRPr>
          </a:p>
          <a:p>
            <a:pPr marL="357120" indent="-357120" algn="just">
              <a:lnSpc>
                <a:spcPct val="10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150383"/>
                </a:solidFill>
                <a:latin typeface="Arial Narrow"/>
              </a:rPr>
              <a:t>Ser capaces de revisar literatura científica internacional atingente a los contenidos del curso, entenderla, exponerla y en la medida de las posibilidades criticarla.</a:t>
            </a:r>
            <a:endParaRPr b="0" lang="en-US" sz="2400" spc="-1" strike="noStrike">
              <a:solidFill>
                <a:srgbClr val="000000"/>
              </a:solidFill>
              <a:latin typeface="Calibri"/>
            </a:endParaRPr>
          </a:p>
          <a:p>
            <a:pPr marL="357120" indent="-357120" algn="just">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 </a:t>
            </a:r>
            <a:r>
              <a:rPr b="0" lang="es-ES" sz="2400" spc="-1" strike="noStrike">
                <a:solidFill>
                  <a:srgbClr val="150383"/>
                </a:solidFill>
                <a:latin typeface="Arial Narrow"/>
              </a:rPr>
              <a:t>Este tipo de objetivos se evaluará mediante un trabajo bibliográfico que realizarán los alumn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714400" y="260280"/>
            <a:ext cx="6143400" cy="6408720"/>
          </a:xfrm>
          <a:prstGeom prst="rect">
            <a:avLst/>
          </a:prstGeom>
          <a:noFill/>
          <a:ln w="0">
            <a:noFill/>
          </a:ln>
        </p:spPr>
        <p:txBody>
          <a:bodyPr anchor="t">
            <a:normAutofit/>
          </a:bodyPr>
          <a:p>
            <a:pPr marL="357120" indent="-357120">
              <a:lnSpc>
                <a:spcPct val="7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3. </a:t>
            </a:r>
            <a:r>
              <a:rPr b="1" lang="es-ES" sz="2400" spc="-1" strike="noStrike">
                <a:solidFill>
                  <a:srgbClr val="150383"/>
                </a:solidFill>
                <a:latin typeface="Arial Narrow"/>
              </a:rPr>
              <a:t>	</a:t>
            </a:r>
            <a:r>
              <a:rPr b="1" lang="es-ES_tradnl" sz="2400" spc="-1" strike="noStrike">
                <a:solidFill>
                  <a:srgbClr val="150383"/>
                </a:solidFill>
                <a:latin typeface="Arial Narrow"/>
              </a:rPr>
              <a:t>Objetivos específicos de actitudes:</a:t>
            </a:r>
            <a:endParaRPr b="0" lang="en-US" sz="2400" spc="-1" strike="noStrike">
              <a:solidFill>
                <a:srgbClr val="000000"/>
              </a:solidFill>
              <a:latin typeface="Calibri"/>
            </a:endParaRPr>
          </a:p>
          <a:p>
            <a:pPr marL="357120" indent="-357120">
              <a:lnSpc>
                <a:spcPct val="11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El alumno debe:</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Asumir responsablemente todas las actividades a desarrollar en la asignatura.</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Comprender y valorar la importancia de la aplicación de los objetivos del curso en la formación y el desempeño profesional.</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Desarrollar una posición positiva respecto a su rol social en la sociedad como profesional de la salud.</a:t>
            </a:r>
            <a:endParaRPr b="0" lang="en-US" sz="2400" spc="-1" strike="noStrike">
              <a:solidFill>
                <a:srgbClr val="000000"/>
              </a:solidFill>
              <a:latin typeface="Calibri"/>
            </a:endParaRPr>
          </a:p>
          <a:p>
            <a:pPr marL="357120" indent="-357120" algn="just">
              <a:lnSpc>
                <a:spcPct val="11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 </a:t>
            </a:r>
            <a:r>
              <a:rPr b="0" lang="es-ES" sz="2400" spc="-1" strike="noStrike">
                <a:solidFill>
                  <a:srgbClr val="150383"/>
                </a:solidFill>
                <a:latin typeface="Arial Narrow"/>
              </a:rPr>
              <a:t>El logro de los objetivos dependerá de la actitud con que los alumnos enfrenten la Asignatura y está apoyado por el logro de los objetivos específicos 1 y 2 anterio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2571480" y="404280"/>
            <a:ext cx="6357960" cy="6264360"/>
          </a:xfrm>
          <a:prstGeom prst="rect">
            <a:avLst/>
          </a:prstGeom>
          <a:noFill/>
          <a:ln w="0">
            <a:noFill/>
          </a:ln>
        </p:spPr>
        <p:txBody>
          <a:bodyPr anchor="t">
            <a:normAutofit/>
          </a:bodyPr>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METODOLOGÍA</a:t>
            </a:r>
            <a:endParaRPr b="0" lang="en-US" sz="2400" spc="-1" strike="noStrike">
              <a:solidFill>
                <a:srgbClr val="000000"/>
              </a:solidFill>
              <a:latin typeface="Calibri"/>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50383"/>
                </a:solidFill>
                <a:latin typeface="Arial Narrow"/>
              </a:rPr>
              <a:t>	</a:t>
            </a:r>
            <a:r>
              <a:rPr b="1" lang="es-MX" sz="2400" spc="-1" strike="noStrike">
                <a:solidFill>
                  <a:srgbClr val="150383"/>
                </a:solidFill>
                <a:latin typeface="Arial Narrow"/>
              </a:rPr>
              <a:t>Clases Teóricas:</a:t>
            </a:r>
            <a:r>
              <a:rPr b="0" lang="es-MX" sz="2400" spc="-1" strike="noStrike">
                <a:solidFill>
                  <a:srgbClr val="150383"/>
                </a:solidFill>
                <a:latin typeface="Arial Narrow"/>
              </a:rPr>
              <a:t>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Exposición esquemática y resumida de los aspectos          fundamentales del tema.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150383"/>
                </a:solidFill>
                <a:latin typeface="Arial Narrow"/>
              </a:rPr>
              <a:t>En ningún caso, las clases constituyen una exposición exhaustiva de la materia.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Se entregará bibliografía complementaria que los alumnos deberán revisar para un completo manejo de los contenidos del curso. </a:t>
            </a:r>
            <a:endParaRPr b="0" lang="en-US" sz="2400" spc="-1" strike="noStrike">
              <a:solidFill>
                <a:srgbClr val="000000"/>
              </a:solidFill>
              <a:latin typeface="Calibri"/>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499840" y="379080"/>
            <a:ext cx="6357960" cy="6335640"/>
          </a:xfrm>
          <a:prstGeom prst="rect">
            <a:avLst/>
          </a:prstGeom>
          <a:noFill/>
          <a:ln w="0">
            <a:noFill/>
          </a:ln>
        </p:spPr>
        <p:txBody>
          <a:bodyPr anchor="t">
            <a:normAutofit/>
          </a:bodyPr>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50383"/>
                </a:solidFill>
                <a:latin typeface="Arial Narrow"/>
              </a:rPr>
              <a:t>Trabajo bibliográfico:</a:t>
            </a:r>
            <a:r>
              <a:rPr b="0" lang="es-MX" sz="2400" spc="-1" strike="noStrike">
                <a:solidFill>
                  <a:srgbClr val="150383"/>
                </a:solidFill>
                <a:latin typeface="Arial Narrow"/>
              </a:rPr>
              <a:t>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Grupos de 5 alumnos cada uno, sortearán un tema general relacionado con los contenidos del curso.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os alumnos harán una revisión bibliográfica del tema específico seleccionado, que deberá estar basado en la revisión de al menos 5 y no más de 10 publicaciones científicas (papers, reviews, etc).</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Esta revisión será presentada </a:t>
            </a:r>
            <a:r>
              <a:rPr b="0" i="1" lang="es-ES" sz="2400" spc="-1" strike="noStrike">
                <a:solidFill>
                  <a:srgbClr val="150383"/>
                </a:solidFill>
                <a:latin typeface="Arial Narrow"/>
              </a:rPr>
              <a:t>in extenso</a:t>
            </a:r>
            <a:r>
              <a:rPr b="0" lang="es-ES" sz="2400" spc="-1" strike="noStrike">
                <a:solidFill>
                  <a:srgbClr val="150383"/>
                </a:solidFill>
                <a:latin typeface="Arial Narrow"/>
              </a:rPr>
              <a:t> en un documento escrito que no sobrepase las 15 páginas tamaño carta, formato Word 98 o superior, letra arial, tamaño 11, interlineado 1,5. La bibliografía utilizada deberá estar citada al final del texto de acuerdo a un formato uniform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2571480" y="785880"/>
            <a:ext cx="6357960" cy="5500800"/>
          </a:xfrm>
          <a:prstGeom prst="rect">
            <a:avLst/>
          </a:prstGeom>
          <a:noFill/>
          <a:ln w="0">
            <a:noFill/>
          </a:ln>
        </p:spPr>
        <p:txBody>
          <a:bodyPr anchor="t">
            <a:normAutofit/>
          </a:bodyPr>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El grupo deberá entregar además, 20 preguntas de selección múltiple del tema elegido igualmente impresas y copiadas en el CD.</a:t>
            </a:r>
            <a:r>
              <a:rPr b="0" lang="es-ES" sz="2400" spc="-1" strike="noStrike">
                <a:solidFill>
                  <a:srgbClr val="150383"/>
                </a:solidFill>
                <a:latin typeface="Arial Narrow"/>
              </a:rPr>
              <a:t> </a:t>
            </a:r>
            <a:r>
              <a:rPr b="1" i="1" lang="es-ES" sz="2400" spc="-1" strike="noStrike">
                <a:solidFill>
                  <a:srgbClr val="150383"/>
                </a:solidFill>
                <a:latin typeface="Arial Narrow"/>
              </a:rPr>
              <a:t>Estas preguntas deben tener 5 alternativas y se debe indicar la alternativa correcta.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Además, este trabajo deberá ser presentado oralmente ante el curso, presentación que durará 15 min más 10 min de preguntas.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 revisión bibliográfica, las preguntas de selección múltiple y la presentación oral serán evaluadas separadamente y tendrán igual ponderación.</a:t>
            </a:r>
            <a:endParaRPr b="0" lang="en-US" sz="2400" spc="-1" strike="noStrike">
              <a:solidFill>
                <a:srgbClr val="000000"/>
              </a:solidFill>
              <a:latin typeface="Calibri"/>
            </a:endParaRPr>
          </a:p>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16:08:14Z</dcterms:created>
  <dc:creator>María Eugenia Letelier Muñoz</dc:creator>
  <dc:description/>
  <dc:language>en-US</dc:language>
  <cp:lastModifiedBy>Paula</cp:lastModifiedBy>
  <dcterms:modified xsi:type="dcterms:W3CDTF">2010-07-27T22:46:44Z</dcterms:modified>
  <cp:revision>35</cp:revision>
  <dc:subject/>
  <dc:title>  Presentación Programa Farmacología I Carrera Química y Farmacia Semestre Otoño 2007</dc:title>
</cp:coreProperties>
</file>