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C63A-806C-4583-8195-F440A8F9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6CAD-F56C-4D28-912B-BF0070A0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B894-E179-4BCB-8E12-371A0B88F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D38-6201-4BAD-A5AA-19B70139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7984-F41A-4546-8A84-FFAF56EB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3236-D2CB-4B1B-9082-B6AD0605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FEFA-FFF5-4E49-97E4-8189F7E4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C9E0-EE9E-4483-9B5B-75448CD0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4A0C2-1F0E-4D30-B8DF-20F03128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21A6-6ACC-472B-B3D7-149C37F6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B40B-BA5E-406A-A483-37E7F573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3DA-4150-4F5B-BFC8-D1EB3834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2287-A00B-4D9D-AE5C-46F014D3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7A95-E784-4931-8453-664AE522C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31713-A255-46E7-A29B-9A1437301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DE5C5-3D05-4EBF-90C1-39E92F03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64B8-569A-4444-823D-99E8584C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BECF-8AE4-475C-96D4-D97D3BD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060-1A14-4B46-9201-768CCBDB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02D-D742-447A-A2A2-741A101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47A9-0C2C-4AFB-B0A6-E69A724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A56-7978-44A7-BFFC-3E4D35B38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99F1-FD9B-487C-AA45-E5459BF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E96-F867-42FE-B772-477901D3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E99E-D3D8-4EDB-958A-44AF7CC4AD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" name="Group 38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7" name="Group 39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3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" name="Group 41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0" name="Freeform 42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9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afb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Freeform 1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2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Group 22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Freeform 23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24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5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" name="Freeform 2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2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Freeform 3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31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4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6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7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" name="Group 38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117" name="Group 39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118" name="Freeform 40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3b8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41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120" name="Freeform 42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3"/>
                <p:cNvSpPr/>
                <p:nvPr/>
              </p:nvSpPr>
              <p:spPr>
                <a:xfrm rot="18427200">
                  <a:off x="8025480" y="51516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44"/>
                <p:cNvSpPr/>
                <p:nvPr/>
              </p:nvSpPr>
              <p:spPr>
                <a:xfrm rot="18427200">
                  <a:off x="7723440" y="277200"/>
                  <a:ext cx="8024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45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46"/>
                <p:cNvSpPr/>
                <p:nvPr/>
              </p:nvSpPr>
              <p:spPr>
                <a:xfrm rot="18427200">
                  <a:off x="8420760" y="141264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7"/>
                <p:cNvSpPr/>
                <p:nvPr/>
              </p:nvSpPr>
              <p:spPr>
                <a:xfrm rot="18427200">
                  <a:off x="8339400" y="126828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8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9"/>
                <p:cNvSpPr/>
                <p:nvPr/>
              </p:nvSpPr>
              <p:spPr>
                <a:xfrm rot="18427200">
                  <a:off x="7865280" y="213120"/>
                  <a:ext cx="28404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3b812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" name="Line 50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E194-7790-4233-8AA3-4BBA7DA5D57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000" spc="-1" strike="noStrike">
                <a:solidFill>
                  <a:srgbClr val="006633"/>
                </a:solidFill>
                <a:latin typeface="Garamond"/>
              </a:rPr>
              <a:t>FARMACOLOGIA II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071440" y="3142800"/>
            <a:ext cx="6553080" cy="23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imavera 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ordinadora: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edad Bo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 5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15640" y="1052280"/>
            <a:ext cx="7077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pués de cada capítulo se tomará un control escr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 1 o 2 preguntas de desarro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realizará al inicio de la clase sigui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ntroles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1 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Prueba A2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3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xamen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40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1 CuadroTexto"/>
          <p:cNvSpPr/>
          <p:nvPr/>
        </p:nvSpPr>
        <p:spPr>
          <a:xfrm>
            <a:off x="1851120" y="6273720"/>
            <a:ext cx="561636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ueden faltar a 1 control sin justificación  ó si los dan todos eliminar la peor n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244520" y="528480"/>
            <a:ext cx="6654960" cy="58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4:29:02Z</dcterms:created>
  <dc:creator>SOLEDAD BOLLO</dc:creator>
  <dc:description/>
  <dc:language>en-US</dc:language>
  <cp:lastModifiedBy>Universidad de Chile</cp:lastModifiedBy>
  <dcterms:modified xsi:type="dcterms:W3CDTF">2011-11-18T22:25:31Z</dcterms:modified>
  <cp:revision>91</cp:revision>
  <dc:subject/>
  <dc:title>Sistema Endocrino</dc:title>
</cp:coreProperties>
</file>