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993-5AD2-49C1-B2E0-1709AD85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964C-EEFE-4B2B-8A7B-321CEA09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087-FF06-4824-9A80-FCA465B6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F31C-0ED8-4B54-9882-0C191CB3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A1F1-D1E0-47D7-957C-962BF355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7698-81B6-464E-B32E-28416D15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04AA-F5D1-4FAA-ACE4-CB55E16B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1974-DC78-4750-B87E-D60579A9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83D2-82DC-494C-B485-10E6DD50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52CE0-9D9B-41F0-82B4-0BFB8183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26A1-E0A5-4456-8429-AF5EF26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9562-08D0-48D9-8836-A2F52F9EE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9694-E0CE-448D-836E-B80E36D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121D-FBF1-4E1D-B22C-00B62C32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41D7-AA80-40B6-AA17-53C56888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96B4-4F72-4908-8103-70E9FAC0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08D-5332-49DE-8A9C-D0A9303B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C19-51D6-4D3B-B71C-58A52CFE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B03-8FF1-469C-A5F5-B7EEAEE1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FB6-2B41-443D-B38D-7E6551A5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AC4-59EC-45CA-ADF7-E514586D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75C-0FB0-467B-8577-55E4AA8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D662-2684-46FE-BAEE-3691844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806-9F0E-49AC-A9E8-C5B8C80E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7844-1CDE-47DF-ABF5-1B5BC4AAA8CC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3079-066D-477D-AF66-986176EEE7A1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armacología Cardiovascul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   Riñon  y Coraz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I  Vasos Sanguíne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Diu 01"/>
          <p:cNvPicPr/>
          <p:nvPr/>
        </p:nvPicPr>
        <p:blipFill>
          <a:blip r:embed="rId1"/>
          <a:stretch/>
        </p:blipFill>
        <p:spPr>
          <a:xfrm>
            <a:off x="1714680" y="1428840"/>
            <a:ext cx="5911560" cy="522108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4"/>
          <p:cNvSpPr/>
          <p:nvPr/>
        </p:nvSpPr>
        <p:spPr>
          <a:xfrm rot="20148000">
            <a:off x="5314680" y="3894120"/>
            <a:ext cx="947520" cy="355680"/>
          </a:xfrm>
          <a:prstGeom prst="rightArrow">
            <a:avLst>
              <a:gd name="adj1" fmla="val 50000"/>
              <a:gd name="adj2" fmla="val 400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AutoShape 5"/>
          <p:cNvSpPr/>
          <p:nvPr/>
        </p:nvSpPr>
        <p:spPr>
          <a:xfrm rot="20106600">
            <a:off x="6992640" y="4538520"/>
            <a:ext cx="689040" cy="381240"/>
          </a:xfrm>
          <a:prstGeom prst="leftArrow">
            <a:avLst>
              <a:gd name="adj1" fmla="val 50000"/>
              <a:gd name="adj2" fmla="val 35026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7 Flecha derecha"/>
          <p:cNvSpPr/>
          <p:nvPr/>
        </p:nvSpPr>
        <p:spPr>
          <a:xfrm rot="1516800">
            <a:off x="4959360" y="2478240"/>
            <a:ext cx="977760" cy="3571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6 Marco"/>
          <p:cNvSpPr/>
          <p:nvPr/>
        </p:nvSpPr>
        <p:spPr>
          <a:xfrm>
            <a:off x="5286240" y="3214800"/>
            <a:ext cx="1000440" cy="357120"/>
          </a:xfrm>
          <a:custGeom>
            <a:avLst/>
            <a:gdLst>
              <a:gd name="textAreaLeft" fmla="*/ 44640 w 1000440"/>
              <a:gd name="textAreaRight" fmla="*/ 955800 w 100044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00125" h="357187">
                <a:moveTo>
                  <a:pt x="0" y="0"/>
                </a:moveTo>
                <a:lnTo>
                  <a:pt x="1000125" y="0"/>
                </a:lnTo>
                <a:lnTo>
                  <a:pt x="1000125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955477" y="312539"/>
                </a:lnTo>
                <a:lnTo>
                  <a:pt x="955477" y="44648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Economizadores de K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 y 9    Spironolact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Antagoniza a Aldostero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. Recamb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(cel.prin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de K+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(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el.intercal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0  Amilorida, Triamtereno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Inhib.Canales de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1600" spc="-1" strike="noStrike">
                <a:solidFill>
                  <a:srgbClr val="ffffff"/>
                </a:solidFill>
                <a:latin typeface="Times New Roman"/>
              </a:rPr>
              <a:t>(Independientes de Aldosterona)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del epitelio re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excr.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H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Ahorradores de Potasi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vitar pérdida excesiva de potasio ( K&lt;&lt;Na/extra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rrestan alcalosis metabólica de otros diurétic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dyuvantes de diuréticos más potentes en la H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horradores de Potasio / E.Adv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kalemia.Con función renal alterada o exc.ingest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les K de fárma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idosis Hiperclorém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piro : Trastornos G.I.  Contraindicada en úlcera pèpt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inecomastia / Irregularidades menstru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Otros Diu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1.-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anitol, Urea, Gluco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(Glicerina e Isosorbide oftal.ora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cia  es  f [dosis]   iv.  (infus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3"/>
          <p:cNvSpPr/>
          <p:nvPr/>
        </p:nvSpPr>
        <p:spPr>
          <a:xfrm rot="20071200">
            <a:off x="2555640" y="1372680"/>
            <a:ext cx="220680" cy="640080"/>
          </a:xfrm>
          <a:prstGeom prst="downArrow">
            <a:avLst>
              <a:gd name="adj1" fmla="val 42037"/>
              <a:gd name="adj2" fmla="val 36243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3143160" y="4800600"/>
            <a:ext cx="514440" cy="380880"/>
          </a:xfrm>
          <a:prstGeom prst="rightArrow">
            <a:avLst>
              <a:gd name="adj1" fmla="val 50000"/>
              <a:gd name="adj2" fmla="val 30015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4 Elipse"/>
          <p:cNvSpPr/>
          <p:nvPr/>
        </p:nvSpPr>
        <p:spPr>
          <a:xfrm>
            <a:off x="1214280" y="2714760"/>
            <a:ext cx="50040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5 Flecha izquierda"/>
          <p:cNvSpPr/>
          <p:nvPr/>
        </p:nvSpPr>
        <p:spPr>
          <a:xfrm rot="1716000">
            <a:off x="1890360" y="2940120"/>
            <a:ext cx="581040" cy="288720"/>
          </a:xfrm>
          <a:prstGeom prst="leftArrow">
            <a:avLst>
              <a:gd name="adj1" fmla="val 50000"/>
              <a:gd name="adj2" fmla="val 4991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6 Flecha arriba"/>
          <p:cNvSpPr/>
          <p:nvPr/>
        </p:nvSpPr>
        <p:spPr>
          <a:xfrm>
            <a:off x="5286240" y="5786280"/>
            <a:ext cx="214560" cy="500400"/>
          </a:xfrm>
          <a:prstGeom prst="upArrow">
            <a:avLst>
              <a:gd name="adj1" fmla="val 50000"/>
              <a:gd name="adj2" fmla="val 49981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Mecanismo  Diuréticos Osmót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úbulo proximal y Asa descendente delgada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“ perme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l agua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fecto  sobre Grad. Osm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Osmol.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eabs. H2O.   Con dilución de 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4:  La  diluc.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0 :     Manitol        vasodil.  arteriola  afere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 FPR y VFG)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reabs. 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5 Flecha derecha"/>
          <p:cNvSpPr/>
          <p:nvPr/>
        </p:nvSpPr>
        <p:spPr>
          <a:xfrm>
            <a:off x="3132000" y="573408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Uso de Diuréticos Osmó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rofilaxis de la insuficiencia renal aguda(IRA) y daño tubular. Mantienen diuresis y evitan anuria en casos de : politraumatismos, cirugías  CV de alta complejidad, ictericias graves o transfusiones incompatibles (aún a bajas vF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ntoxicaciones agudas (barbitúricos, salicilatos, bromuros), forzar la diuresis y eliminar fármacos.  Impedir precipitación de fármacos y toxin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edema cerebral o presión intracraneana. De origen traumático o quirúrgico. Reducción volumen y presión del LC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r presión  intraocular, previo a cirugía glaucoma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Osmóticos / E.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o agudo del líquido extracelular , expansión plasmática o hipervol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pulmona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aindicado en  edema   asociado  a   I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hidratación e hipernatrem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Xantinas y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Diu 01"/>
          <p:cNvPicPr/>
          <p:nvPr/>
        </p:nvPicPr>
        <p:blipFill>
          <a:blip r:embed="rId1"/>
          <a:stretch/>
        </p:blipFill>
        <p:spPr>
          <a:xfrm>
            <a:off x="1285920" y="1249200"/>
            <a:ext cx="6000840" cy="538956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3"/>
          <p:cNvSpPr/>
          <p:nvPr/>
        </p:nvSpPr>
        <p:spPr>
          <a:xfrm rot="20305200">
            <a:off x="6892920" y="281592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AutoShape 4"/>
          <p:cNvSpPr/>
          <p:nvPr/>
        </p:nvSpPr>
        <p:spPr>
          <a:xfrm rot="19578000">
            <a:off x="6678360" y="517824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1785960" y="3357720"/>
            <a:ext cx="609480" cy="304560"/>
          </a:xfrm>
          <a:prstGeom prst="leftArrow">
            <a:avLst>
              <a:gd name="adj1" fmla="val 50000"/>
              <a:gd name="adj2" fmla="val 50030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6 Elipse"/>
          <p:cNvSpPr/>
          <p:nvPr/>
        </p:nvSpPr>
        <p:spPr>
          <a:xfrm>
            <a:off x="1143000" y="3214800"/>
            <a:ext cx="357120" cy="4284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2"/>
          <p:cNvSpPr/>
          <p:nvPr/>
        </p:nvSpPr>
        <p:spPr>
          <a:xfrm rot="658800">
            <a:off x="2914560" y="1915920"/>
            <a:ext cx="223920" cy="495000"/>
          </a:xfrm>
          <a:prstGeom prst="downArrow">
            <a:avLst>
              <a:gd name="adj1" fmla="val 50000"/>
              <a:gd name="adj2" fmla="val 5526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2.- Xantin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0    -  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odilatación   arteriolar  renal  con ↑ FP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estimulan coraz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tio  1   -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absorción tubular de  Na  y  C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3.- Acuarét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meclociclina (deriv.tetraciclina)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1 y 12     Antagonista de ADH  en  R-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diu 06"/>
          <p:cNvPicPr/>
          <p:nvPr/>
        </p:nvPicPr>
        <p:blipFill>
          <a:blip r:embed="rId1"/>
          <a:stretch/>
        </p:blipFill>
        <p:spPr>
          <a:xfrm>
            <a:off x="3132000" y="404640"/>
            <a:ext cx="5586480" cy="60883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230040" y="380880"/>
            <a:ext cx="26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Times New Roman"/>
              </a:rPr>
              <a:t>Acuarét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5 Elipse"/>
          <p:cNvSpPr/>
          <p:nvPr/>
        </p:nvSpPr>
        <p:spPr>
          <a:xfrm>
            <a:off x="3000240" y="2357280"/>
            <a:ext cx="995400" cy="56700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/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4 Flecha curvada hacia la izquierda"/>
          <p:cNvSpPr/>
          <p:nvPr/>
        </p:nvSpPr>
        <p:spPr>
          <a:xfrm>
            <a:off x="7429680" y="2500200"/>
            <a:ext cx="928440" cy="2000520"/>
          </a:xfrm>
          <a:custGeom>
            <a:avLst/>
            <a:gdLst>
              <a:gd name="textAreaLeft" fmla="*/ 124200 w 928440"/>
              <a:gd name="textAreaRight" fmla="*/ 804240 w 928440"/>
              <a:gd name="textAreaTop" fmla="*/ 412920 h 2000520"/>
              <a:gd name="textAreaBottom" fmla="*/ 1471680 h 200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3479010"/>
                <a:lnTo>
                  <a:pt x="5400" y="21317"/>
                </a:lnTo>
                <a:lnTo>
                  <a:pt x="0" y="19093"/>
                </a:lnTo>
                <a:lnTo>
                  <a:pt x="5400" y="16303"/>
                </a:lnTo>
                <a:lnTo>
                  <a:pt x="5400" y="17556"/>
                </a:lnTo>
                <a:arcTo wR="21600" hR="8920" stAng="3479010" swAng="-3277658"/>
                <a:lnTo>
                  <a:pt x="21385" y="10174"/>
                </a:lnTo>
                <a:arcTo wR="21600" hR="8920" stAng="-201352" swAng="-5198648"/>
                <a:close/>
              </a:path>
              <a:path fill="darkenLess" w="21600" h="21600">
                <a:moveTo>
                  <a:pt x="0" y="0"/>
                </a:moveTo>
                <a:arcTo wR="21600" hR="8920" stAng="-5400000" swAng="5400000"/>
                <a:lnTo>
                  <a:pt x="21600" y="11428"/>
                </a:lnTo>
                <a:arcTo wR="21600" hR="8920" stAng="0" swAng="-201352"/>
                <a:lnTo>
                  <a:pt x="21385" y="10174"/>
                </a:lnTo>
                <a:arcTo wR="21600" hR="8920" stAng="-201352" swAng="-5198648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6 Marco"/>
          <p:cNvSpPr/>
          <p:nvPr/>
        </p:nvSpPr>
        <p:spPr>
          <a:xfrm>
            <a:off x="6588000" y="1916280"/>
            <a:ext cx="2160720" cy="576000"/>
          </a:xfrm>
          <a:prstGeom prst="pie">
            <a:avLst/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eclocicl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                      </a:t>
            </a:r>
            <a:r>
              <a:rPr b="1" lang="es-ES" sz="40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Inotrópi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UCÓSIDOS      CARDÍACOS  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RDIOTÓN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OTROS  INÓTROP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cciones Farmacológic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c000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Velocidad  de 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eríodo  Refractario  Efe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atism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Acción sobre miocardi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Incremento del desarrollo de tensió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143000" y="6858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Times New Roman"/>
              </a:rPr>
              <a:t>1.1.-</a:t>
            </a: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 Nivel de A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755640" y="2133720"/>
            <a:ext cx="7543800" cy="4267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ññññññññl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429000" y="3276720"/>
            <a:ext cx="2362320" cy="19810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ff"/>
                </a:solidFill>
                <a:latin typeface="Times New Roman"/>
              </a:rPr>
              <a:t>ATP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5791320" y="41911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438280" y="4191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 flipH="1">
            <a:off x="5790960" y="4724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2438280" y="472428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127160" y="385128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77840" y="38005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781680" y="4343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MX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6781680" y="4038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523880" y="29718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6553080" y="28954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6781680" y="2895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6"/>
          <p:cNvSpPr/>
          <p:nvPr/>
        </p:nvSpPr>
        <p:spPr>
          <a:xfrm flipH="1" flipV="1">
            <a:off x="5791320" y="4723920"/>
            <a:ext cx="76176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6400800" y="55627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Glucósi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4284720" y="2205000"/>
            <a:ext cx="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4859280" y="220500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428472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4859280" y="530064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d-43"/>
          <p:cNvPicPr/>
          <p:nvPr/>
        </p:nvPicPr>
        <p:blipFill>
          <a:blip r:embed="rId1"/>
          <a:stretch/>
        </p:blipFill>
        <p:spPr>
          <a:xfrm>
            <a:off x="1371600" y="241200"/>
            <a:ext cx="640080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-2"/>
          <p:cNvPicPr/>
          <p:nvPr/>
        </p:nvPicPr>
        <p:blipFill>
          <a:blip r:embed="rId1"/>
          <a:stretch/>
        </p:blipFill>
        <p:spPr>
          <a:xfrm>
            <a:off x="684360" y="765000"/>
            <a:ext cx="7772400" cy="5029200"/>
          </a:xfrm>
          <a:prstGeom prst="rect">
            <a:avLst/>
          </a:prstGeom>
          <a:ln w="0">
            <a:noFill/>
          </a:ln>
        </p:spPr>
      </p:pic>
      <p:sp>
        <p:nvSpPr>
          <p:cNvPr id="134" name="2 Marco"/>
          <p:cNvSpPr/>
          <p:nvPr/>
        </p:nvSpPr>
        <p:spPr>
          <a:xfrm>
            <a:off x="5572080" y="2857680"/>
            <a:ext cx="2786040" cy="1214280"/>
          </a:xfrm>
          <a:custGeom>
            <a:avLst/>
            <a:gdLst>
              <a:gd name="textAreaLeft" fmla="*/ 108000 w 2786040"/>
              <a:gd name="textAreaRight" fmla="*/ 2678040 w 2786040"/>
              <a:gd name="textAreaTop" fmla="*/ 108000 h 1214280"/>
              <a:gd name="textAreaBottom" fmla="*/ 1106280 h 1214280"/>
            </a:gdLst>
            <a:ahLst/>
            <a:rect l="textAreaLeft" t="textAreaTop" r="textAreaRight" b="textAreaBottom"/>
            <a:pathLst>
              <a:path w="2786063" h="1214438">
                <a:moveTo>
                  <a:pt x="0" y="0"/>
                </a:moveTo>
                <a:lnTo>
                  <a:pt x="2786063" y="0"/>
                </a:lnTo>
                <a:lnTo>
                  <a:pt x="2786063" y="1214438"/>
                </a:lnTo>
                <a:lnTo>
                  <a:pt x="0" y="1214438"/>
                </a:lnTo>
                <a:close/>
                <a:moveTo>
                  <a:pt x="108267" y="108267"/>
                </a:moveTo>
                <a:lnTo>
                  <a:pt x="108267" y="1106171"/>
                </a:lnTo>
                <a:lnTo>
                  <a:pt x="2677796" y="1106171"/>
                </a:lnTo>
                <a:lnTo>
                  <a:pt x="2677796" y="108267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1.2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Consecue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Inhibición de la Na/K-ATPa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nsecuencia Primar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lación     ( N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/ K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&gt; 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 la señal desencadenan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cundariamente modi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quilibrio del ( Ca</a:t>
            </a:r>
            <a:r>
              <a:rPr b="0" lang="es-ES" sz="2400" spc="-1" strike="noStrike" baseline="30000">
                <a:solidFill>
                  <a:srgbClr val="ffffff"/>
                </a:solidFill>
                <a:latin typeface="Times New Roman"/>
              </a:rPr>
              <a:t>+2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7391520" y="2743200"/>
            <a:ext cx="1218960" cy="358128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626760 h 3581280"/>
              <a:gd name="textAreaBottom" fmla="*/ 259668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cardio-rena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Diuré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con Efecto Inótropo Posi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4"/>
          <p:cNvSpPr/>
          <p:nvPr/>
        </p:nvSpPr>
        <p:spPr>
          <a:xfrm>
            <a:off x="5867280" y="981000"/>
            <a:ext cx="576360" cy="719280"/>
          </a:xfrm>
          <a:custGeom>
            <a:avLst/>
            <a:gdLst>
              <a:gd name="textAreaLeft" fmla="*/ 77040 w 576360"/>
              <a:gd name="textAreaRight" fmla="*/ 499320 w 576360"/>
              <a:gd name="textAreaTop" fmla="*/ 125640 h 719280"/>
              <a:gd name="textAreaBottom" fmla="*/ 52164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4643280" y="2060640"/>
            <a:ext cx="792360" cy="792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4859280" y="3500280"/>
            <a:ext cx="433440" cy="865440"/>
          </a:xfrm>
          <a:custGeom>
            <a:avLst/>
            <a:gdLst>
              <a:gd name="textAreaLeft" fmla="*/ 57960 w 433440"/>
              <a:gd name="textAreaRight" fmla="*/ 375480 w 433440"/>
              <a:gd name="textAreaTop" fmla="*/ 151200 h 865440"/>
              <a:gd name="textAreaBottom" fmla="*/ 62748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1.3.-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Acción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Fuerza Resume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57240"/>
            <a:ext cx="7772400" cy="4238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da depolarización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TPasa Sarcolema </a:t>
            </a:r>
            <a:r>
              <a:rPr b="0" lang="es-MX" sz="24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 (Na/K)i  &gt; 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cambiador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arcolema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Mitocondrial         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Pasa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tículo Sarcoplásmico          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Ca  0+1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c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]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&gt; N   en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{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.Sar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}              Miofibrilla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na/Tropomiosina/Troponina: T, I,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iosina/ATP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859280" y="4653000"/>
            <a:ext cx="719280" cy="288720"/>
          </a:xfrm>
          <a:custGeom>
            <a:avLst/>
            <a:gdLst>
              <a:gd name="textAreaLeft" fmla="*/ 11232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4 Flecha izquierda"/>
          <p:cNvSpPr/>
          <p:nvPr/>
        </p:nvSpPr>
        <p:spPr>
          <a:xfrm>
            <a:off x="5867280" y="422100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5 Rectángulo redondeado"/>
          <p:cNvSpPr/>
          <p:nvPr/>
        </p:nvSpPr>
        <p:spPr>
          <a:xfrm>
            <a:off x="6429240" y="20001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6 Flecha derecha"/>
          <p:cNvSpPr/>
          <p:nvPr/>
        </p:nvSpPr>
        <p:spPr>
          <a:xfrm>
            <a:off x="4429080" y="214308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-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cciones sobre 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Tejido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recuenc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Velocidad  de 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eríodo  Refractario  Efe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xcitab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tomatismo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1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Disminución Frecuenc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fecto Directo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Potencial Umb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educción vDDL o  pend. Fase 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umento del PDM del marcapas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Indirecto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Sensibilización  Rm del nodo 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ejoramiento Fuerza-Bainbridge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716360" y="1916280"/>
            <a:ext cx="3886200" cy="4419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1187280" y="1916280"/>
            <a:ext cx="3529080" cy="4392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           Frecuencia  vs  D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Farmacológ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 Dir / Indir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Pot. Um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ot.Diast.M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recuenc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odo  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76360" y="198900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OSIS May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fecto en ATP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n :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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K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ra</a:t>
            </a:r>
            <a:r>
              <a:rPr b="0" lang="es-MX" sz="20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D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vD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tomatismo 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ocos Ectópic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1643040" y="1000080"/>
            <a:ext cx="936720" cy="360360"/>
          </a:xfrm>
          <a:custGeom>
            <a:avLst/>
            <a:gdLst>
              <a:gd name="textAreaLeft" fmla="*/ 146160 w 936720"/>
              <a:gd name="textAreaRight" fmla="*/ 819720 w 936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2.2.-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erapéuticas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do SA: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leve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r.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ricula / Purkinje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óxicas] :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Todos los  niveles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pendiente fase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os ectópic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00080" y="468000"/>
            <a:ext cx="6562800" cy="98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utomatis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8" name="Picture 3" descr="Tox-automatismo"/>
          <p:cNvPicPr/>
          <p:nvPr/>
        </p:nvPicPr>
        <p:blipFill>
          <a:blip r:embed="rId1"/>
          <a:stretch/>
        </p:blipFill>
        <p:spPr>
          <a:xfrm>
            <a:off x="1116000" y="1268280"/>
            <a:ext cx="69120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3.-</a:t>
            </a:r>
            <a:r>
              <a:rPr b="0" lang="es-ES" sz="3500" spc="-1" strike="noStrike">
                <a:solidFill>
                  <a:srgbClr val="ffcc66"/>
                </a:solidFill>
                <a:latin typeface="Arial"/>
              </a:rPr>
              <a:t>   Velocidad de Conducción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Picture 5" descr="v de Conducción"/>
          <p:cNvPicPr/>
          <p:nvPr/>
        </p:nvPicPr>
        <p:blipFill>
          <a:blip r:embed="rId1"/>
          <a:stretch/>
        </p:blipFill>
        <p:spPr>
          <a:xfrm>
            <a:off x="755640" y="1557360"/>
            <a:ext cx="76327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49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4.-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Período refractario efectivo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2" name="Picture 7" descr="P"/>
          <p:cNvPicPr/>
          <p:nvPr/>
        </p:nvPicPr>
        <p:blipFill>
          <a:blip r:embed="rId1"/>
          <a:stretch/>
        </p:blipFill>
        <p:spPr>
          <a:xfrm>
            <a:off x="755640" y="1484280"/>
            <a:ext cx="7632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C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cción Cardíac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6"/>
                </a:solidFill>
                <a:latin typeface="Arial"/>
              </a:rPr>
              <a:t>2.5.-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Excitabilid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4" name="Picture 3" descr="Excitabilidad"/>
          <p:cNvPicPr/>
          <p:nvPr/>
        </p:nvPicPr>
        <p:blipFill>
          <a:blip r:embed="rId1"/>
          <a:stretch/>
        </p:blipFill>
        <p:spPr>
          <a:xfrm>
            <a:off x="1332000" y="162864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3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fectos Adversos/Tóxic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Cardíac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ítmias progresivas en  f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lasmática] 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xtasístoles  ventriculares  y  Auricula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 A-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 con  Bloqu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Paroxística  Auricul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aquicardia  Ventricular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Fibrilación  Vent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4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teracciones de lo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EN EFE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orción G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iácidos, Kaolin-Pect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ilidad GI s/H+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Metoclopram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 Metab.Hepático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Fenitoína.Fenilbutazona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Barbitúricos,Spironolact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UMENTAN EFEC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Mot.GI  y </a:t>
            </a:r>
            <a:r>
              <a:rPr b="1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 Abs.G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ntagonistas Muscarín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los Desplazan de Proteínas Plasmática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Quinidi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 que Depletan K</a:t>
            </a:r>
            <a:r>
              <a:rPr b="1" lang="es-MX" sz="1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iuréticos, Anfoteric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5.-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asociada a Fibrilación  Auric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Taquicardia Compensatoria de la I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ajar la Frecuencia Ventricular de las arritmias auriculares de alta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nsformar Arritmias y Taquicardias Supra Ventriculares a ritmo sinus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sis usuales de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4360" y="2492280"/>
          <a:ext cx="7186320" cy="2857680"/>
        </p:xfrm>
        <a:graphic>
          <a:graphicData uri="http://schemas.openxmlformats.org/drawingml/2006/table">
            <a:tbl>
              <a:tblPr/>
              <a:tblGrid>
                <a:gridCol w="2395440"/>
                <a:gridCol w="2395440"/>
                <a:gridCol w="239544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ox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aque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gitaliza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-1,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-1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ten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iari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5-0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5-0,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0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Arial"/>
              </a:rPr>
              <a:t>6.-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ntraindicaciones G.C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stornos (o fármacos) que  reduzcan conducción AV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loqueo AV     y       Síndrome de WP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Miocardiopatía Hipertróf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farto Agudo Miocárd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POC con Hipoxem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CC del Hipertenso con alta postcarg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500" spc="-1" strike="noStrike">
                <a:solidFill>
                  <a:srgbClr val="ffcc66"/>
                </a:solidFill>
                <a:latin typeface="Arial"/>
              </a:rPr>
              <a:t>OTROS  INÓTROPOS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GONIST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  FOSFODIESTER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66"/>
                </a:solidFill>
                <a:latin typeface="Arial"/>
              </a:rPr>
              <a:t>Agonistas  </a:t>
            </a:r>
            <a:r>
              <a:rPr b="1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1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p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obutam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1064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gonistas-</a:t>
            </a:r>
            <a:r>
              <a:rPr b="0" lang="el-GR" sz="4400" spc="-1" strike="noStrike">
                <a:solidFill>
                  <a:srgbClr val="ffcc66"/>
                </a:solidFill>
                <a:latin typeface="Arial"/>
              </a:rPr>
              <a:t>β</a:t>
            </a: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Picture 2" descr="d-30"/>
          <p:cNvPicPr/>
          <p:nvPr/>
        </p:nvPicPr>
        <p:blipFill>
          <a:blip r:embed="rId1"/>
          <a:stretch/>
        </p:blipFill>
        <p:spPr>
          <a:xfrm>
            <a:off x="2000160" y="1428840"/>
            <a:ext cx="5794560" cy="6337080"/>
          </a:xfrm>
          <a:prstGeom prst="rect">
            <a:avLst/>
          </a:prstGeom>
          <a:ln w="0">
            <a:noFill/>
          </a:ln>
        </p:spPr>
      </p:pic>
      <p:sp>
        <p:nvSpPr>
          <p:cNvPr id="192" name="3 Flecha curvada hacia la izquierda"/>
          <p:cNvSpPr/>
          <p:nvPr/>
        </p:nvSpPr>
        <p:spPr>
          <a:xfrm>
            <a:off x="5429160" y="1143000"/>
            <a:ext cx="642960" cy="1000080"/>
          </a:xfrm>
          <a:custGeom>
            <a:avLst/>
            <a:gdLst>
              <a:gd name="textAreaLeft" fmla="*/ 86040 w 642960"/>
              <a:gd name="textAreaRight" fmla="*/ 556920 w 642960"/>
              <a:gd name="textAreaTop" fmla="*/ 185400 h 1000080"/>
              <a:gd name="textAreaBottom" fmla="*/ 71748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3310415"/>
                <a:lnTo>
                  <a:pt x="5400" y="21345"/>
                </a:lnTo>
                <a:lnTo>
                  <a:pt x="0" y="17768"/>
                </a:lnTo>
                <a:lnTo>
                  <a:pt x="5400" y="13681"/>
                </a:lnTo>
                <a:lnTo>
                  <a:pt x="5400" y="15778"/>
                </a:lnTo>
                <a:arcTo wR="21600" hR="8017" stAng="3310415" swAng="-3028213"/>
                <a:lnTo>
                  <a:pt x="21088" y="9752"/>
                </a:lnTo>
                <a:arcTo wR="21600" hR="8017" stAng="-282202" swAng="-5117798"/>
                <a:close/>
              </a:path>
              <a:path fill="darkenLess" w="21600" h="21600">
                <a:moveTo>
                  <a:pt x="0" y="0"/>
                </a:moveTo>
                <a:arcTo wR="21600" hR="8017" stAng="-5400000" swAng="5400000"/>
                <a:lnTo>
                  <a:pt x="21600" y="11487"/>
                </a:lnTo>
                <a:arcTo wR="21600" hR="8017" stAng="0" swAng="-282202"/>
                <a:lnTo>
                  <a:pt x="21088" y="9752"/>
                </a:lnTo>
                <a:arcTo wR="21600" hR="8017" stAng="-282202" swAng="-511779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7168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R-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1                 Fuerza   &gt;&gt;    frecu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n  R-Dopamina  D1                            Vasodilat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echo  renal  (preferente cortez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Mesenté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ron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ereb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osis altas vasocontricción                   R-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3 Flecha derecha"/>
          <p:cNvSpPr/>
          <p:nvPr/>
        </p:nvSpPr>
        <p:spPr>
          <a:xfrm>
            <a:off x="2000160" y="24289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6" name="5 Conector recto de flecha"/>
          <p:cNvCxnSpPr/>
          <p:nvPr/>
        </p:nvCxnSpPr>
        <p:spPr>
          <a:xfrm>
            <a:off x="3714840" y="3214800"/>
            <a:ext cx="6433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7" name="7 Conector recto de flecha"/>
          <p:cNvCxnSpPr/>
          <p:nvPr/>
        </p:nvCxnSpPr>
        <p:spPr>
          <a:xfrm>
            <a:off x="4071600" y="5785920"/>
            <a:ext cx="78660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Antiarrítmic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a  bajas  dos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2-4 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1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5-10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0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g/kg/min                  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y shock cardiogén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6286680" y="2500200"/>
            <a:ext cx="1368360" cy="1214640"/>
          </a:xfrm>
          <a:custGeom>
            <a:avLst/>
            <a:gdLst>
              <a:gd name="textAreaLeft" fmla="*/ 183240 w 1368360"/>
              <a:gd name="textAreaRight" fmla="*/ 1185120 w 136836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909771"/>
                <a:lnTo>
                  <a:pt x="6390" y="21262"/>
                </a:lnTo>
                <a:lnTo>
                  <a:pt x="0" y="17280"/>
                </a:lnTo>
                <a:lnTo>
                  <a:pt x="6390" y="12622"/>
                </a:lnTo>
                <a:lnTo>
                  <a:pt x="6390" y="14782"/>
                </a:lnTo>
                <a:arcTo wR="21600" hR="7560" stAng="2909771" swAng="-255233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Dop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2 Rectángulo"/>
          <p:cNvSpPr/>
          <p:nvPr/>
        </p:nvSpPr>
        <p:spPr>
          <a:xfrm>
            <a:off x="755640" y="1989000"/>
            <a:ext cx="6500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acciones cardiovasculares de la dopamina son dosis   dependientes. La infusión endovenosa contínua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2 a 5 ug/kg/min. aumenta la contractilidad miocárd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el volumen minuto y el flujo sanguíneo renal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con pequeños camb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la frecuencia cardíaca y con reducción de la resistencia periférica tota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 esta dosis se incrementa la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iuresi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en los pacientes con ICC, lo que se debe a la combinación de efectos inotrópicos y vasodilatador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obutamin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V  o  Infusión     2,5-15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g/Kg/m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g-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&gt;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</a:t>
            </a: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Inótropo (+)</a:t>
            </a:r>
            <a:r>
              <a:rPr b="0" lang="es-MX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n   taq.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1    y    vasocontricción  </a:t>
            </a:r>
            <a:r>
              <a:rPr b="0" lang="es-MX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(resist.vasc. no se modific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ICC refractaria  y  shock cardiogé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n falla ventricular aguda se asocia a Nit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cocardiograma  con  Dobutami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ffcc66"/>
                </a:solidFill>
                <a:latin typeface="Arial"/>
              </a:rPr>
              <a:t>Inhibidores  de  Fosfodiesterasa</a:t>
            </a:r>
            <a:endParaRPr b="0" lang="en-US" sz="3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Bipiridín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067280" y="2637000"/>
            <a:ext cx="547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m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Mil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snari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imobendan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Carbaze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ulmaz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vosimendá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ig"/>
          <p:cNvPicPr/>
          <p:nvPr/>
        </p:nvPicPr>
        <p:blipFill>
          <a:blip r:embed="rId1"/>
          <a:stretch/>
        </p:blipFill>
        <p:spPr>
          <a:xfrm>
            <a:off x="468360" y="620640"/>
            <a:ext cx="8115120" cy="54864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6300720" y="3933720"/>
            <a:ext cx="432000" cy="43200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4880 h 432000"/>
              <a:gd name="textAreaBottom" fmla="*/ 330120 h 432000"/>
            </a:gdLst>
            <a:ahLst/>
            <a:rect l="textAreaLeft" t="textAreaTop" r="textAreaRight" b="textAreaBottom"/>
            <a:pathLst>
              <a:path w="431800" h="431800">
                <a:moveTo>
                  <a:pt x="0" y="164932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2"/>
                </a:lnTo>
                <a:lnTo>
                  <a:pt x="298365" y="266866"/>
                </a:lnTo>
                <a:lnTo>
                  <a:pt x="349334" y="431799"/>
                </a:lnTo>
                <a:lnTo>
                  <a:pt x="215900" y="329864"/>
                </a:lnTo>
                <a:lnTo>
                  <a:pt x="82466" y="431799"/>
                </a:lnTo>
                <a:lnTo>
                  <a:pt x="133435" y="26686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7093080" y="2565360"/>
            <a:ext cx="503280" cy="3589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37160 h 358920"/>
              <a:gd name="textAreaBottom" fmla="*/ 274320 h 358920"/>
            </a:gdLst>
            <a:ahLst/>
            <a:rect l="textAreaLeft" t="textAreaTop" r="textAreaRight" b="textAreaBottom"/>
            <a:pathLst>
              <a:path w="503238" h="358775">
                <a:moveTo>
                  <a:pt x="1" y="137039"/>
                </a:moveTo>
                <a:lnTo>
                  <a:pt x="192221" y="137040"/>
                </a:lnTo>
                <a:lnTo>
                  <a:pt x="251619" y="0"/>
                </a:lnTo>
                <a:lnTo>
                  <a:pt x="311017" y="137040"/>
                </a:lnTo>
                <a:lnTo>
                  <a:pt x="503237" y="137039"/>
                </a:lnTo>
                <a:lnTo>
                  <a:pt x="347727" y="221734"/>
                </a:lnTo>
                <a:lnTo>
                  <a:pt x="407128" y="358774"/>
                </a:lnTo>
                <a:lnTo>
                  <a:pt x="251619" y="274078"/>
                </a:lnTo>
                <a:lnTo>
                  <a:pt x="96110" y="358774"/>
                </a:lnTo>
                <a:lnTo>
                  <a:pt x="155511" y="221734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6948360" y="3141720"/>
            <a:ext cx="648000" cy="574560"/>
          </a:xfrm>
          <a:custGeom>
            <a:avLst/>
            <a:gdLst>
              <a:gd name="textAreaLeft" fmla="*/ 200160 w 648000"/>
              <a:gd name="textAreaRight" fmla="*/ 447840 w 648000"/>
              <a:gd name="textAreaTop" fmla="*/ 219600 h 574560"/>
              <a:gd name="textAreaBottom" fmla="*/ 438840 h 574560"/>
            </a:gdLst>
            <a:ahLst/>
            <a:rect l="textAreaLeft" t="textAreaTop" r="textAreaRight" b="textAreaBottom"/>
            <a:pathLst>
              <a:path w="647700" h="574675">
                <a:moveTo>
                  <a:pt x="1" y="219506"/>
                </a:moveTo>
                <a:lnTo>
                  <a:pt x="247401" y="219507"/>
                </a:lnTo>
                <a:lnTo>
                  <a:pt x="323850" y="0"/>
                </a:lnTo>
                <a:lnTo>
                  <a:pt x="400299" y="219507"/>
                </a:lnTo>
                <a:lnTo>
                  <a:pt x="647699" y="219506"/>
                </a:lnTo>
                <a:lnTo>
                  <a:pt x="447548" y="355167"/>
                </a:lnTo>
                <a:lnTo>
                  <a:pt x="524001" y="574673"/>
                </a:lnTo>
                <a:lnTo>
                  <a:pt x="323850" y="439010"/>
                </a:lnTo>
                <a:lnTo>
                  <a:pt x="123699" y="574673"/>
                </a:lnTo>
                <a:lnTo>
                  <a:pt x="200152" y="35516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6012000" y="5157720"/>
            <a:ext cx="504720" cy="503280"/>
          </a:xfrm>
          <a:custGeom>
            <a:avLst/>
            <a:gdLst>
              <a:gd name="textAreaLeft" fmla="*/ 155880 w 504720"/>
              <a:gd name="textAreaRight" fmla="*/ 348840 w 50472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4825" h="503237">
                <a:moveTo>
                  <a:pt x="1" y="192219"/>
                </a:moveTo>
                <a:lnTo>
                  <a:pt x="192827" y="192220"/>
                </a:lnTo>
                <a:lnTo>
                  <a:pt x="252413" y="0"/>
                </a:lnTo>
                <a:lnTo>
                  <a:pt x="311998" y="192220"/>
                </a:lnTo>
                <a:lnTo>
                  <a:pt x="504824" y="192219"/>
                </a:lnTo>
                <a:lnTo>
                  <a:pt x="348824" y="311016"/>
                </a:lnTo>
                <a:lnTo>
                  <a:pt x="408412" y="503235"/>
                </a:lnTo>
                <a:lnTo>
                  <a:pt x="252413" y="384436"/>
                </a:lnTo>
                <a:lnTo>
                  <a:pt x="96413" y="503235"/>
                </a:lnTo>
                <a:lnTo>
                  <a:pt x="156001" y="31101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7 Llamada de flecha hacia arriba"/>
          <p:cNvSpPr/>
          <p:nvPr/>
        </p:nvSpPr>
        <p:spPr>
          <a:xfrm>
            <a:off x="3500280" y="4357800"/>
            <a:ext cx="928800" cy="1571400"/>
          </a:xfrm>
          <a:prstGeom prst="upArrowCallout">
            <a:avLst>
              <a:gd name="adj1" fmla="val 20354"/>
              <a:gd name="adj2" fmla="val 17926"/>
              <a:gd name="adj3" fmla="val 20287"/>
              <a:gd name="adj4" fmla="val 131135"/>
            </a:avLst>
          </a:pr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nhib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9 Flecha curvada hacia abajo"/>
          <p:cNvSpPr/>
          <p:nvPr/>
        </p:nvSpPr>
        <p:spPr>
          <a:xfrm>
            <a:off x="3786120" y="3357720"/>
            <a:ext cx="1214640" cy="642960"/>
          </a:xfrm>
          <a:custGeom>
            <a:avLst/>
            <a:gdLst>
              <a:gd name="textAreaLeft" fmla="*/ 243360 w 1214640"/>
              <a:gd name="textAreaRight" fmla="*/ 89100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6" hR="21600" stAng="10800000" swAng="5400000"/>
                <a:lnTo>
                  <a:pt x="11514" y="0"/>
                </a:lnTo>
                <a:arcTo wR="8656" hR="21600" stAng="-5400000" swAng="3432369"/>
                <a:lnTo>
                  <a:pt x="21325" y="16200"/>
                </a:lnTo>
                <a:lnTo>
                  <a:pt x="18741" y="21600"/>
                </a:lnTo>
                <a:lnTo>
                  <a:pt x="15607" y="16200"/>
                </a:lnTo>
                <a:lnTo>
                  <a:pt x="17037" y="16200"/>
                </a:lnTo>
                <a:arcTo wR="8656" hR="21600" stAng="-1967631" swAng="-3202118"/>
                <a:lnTo>
                  <a:pt x="10085" y="296"/>
                </a:lnTo>
                <a:arcTo wR="8656" hR="21600" stAng="-5630252" swAng="-5169748"/>
                <a:close/>
              </a:path>
              <a:path fill="darkenLess" w="21600" h="21600">
                <a:moveTo>
                  <a:pt x="0" y="21600"/>
                </a:moveTo>
                <a:arcTo wR="8656" hR="21600" stAng="10800000" swAng="5400000"/>
                <a:lnTo>
                  <a:pt x="8656" y="0"/>
                </a:lnTo>
                <a:arcTo wR="8656" hR="21600" stAng="-5400000" swAng="230252"/>
                <a:lnTo>
                  <a:pt x="10085" y="296"/>
                </a:lnTo>
                <a:arcTo wR="8656" hR="21600" stAng="-5630252" swAng="-5169748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hibidores de Fosfodiester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FDE tipo III se encuentra en músculo cardíaco y en músculo li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u inhibición aumenta el AMP-c y con esto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Aumenta desarrollo de 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 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gasto cardíaco, reducción pres.pulmonar  y la resist.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riférica total.         Sin grandes cambios en frecuencia y pres.arteri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URÉTICOS   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D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nodilatación   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Reducen 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atación Arteriolas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Reducen 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en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HIBIDORES DE LA  E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AGT-II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resistencia periférica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Dis.Post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ducen secreción Aldosteron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Dis.Precar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3 Abrir corchete"/>
          <p:cNvSpPr/>
          <p:nvPr/>
        </p:nvSpPr>
        <p:spPr>
          <a:xfrm>
            <a:off x="928800" y="4500720"/>
            <a:ext cx="71280" cy="1000080"/>
          </a:xfrm>
          <a:custGeom>
            <a:avLst/>
            <a:gdLst>
              <a:gd name="textAreaLeft" fmla="*/ 20880 w 71280"/>
              <a:gd name="textAreaRight" fmla="*/ 71640 w 71280"/>
              <a:gd name="textAreaTop" fmla="*/ 2880 h 1000080"/>
              <a:gd name="textAreaBottom" fmla="*/ 99720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5"/>
                  <a:pt x="0" y="129"/>
                </a:cubicBezTo>
                <a:lnTo>
                  <a:pt x="0" y="21471"/>
                </a:lnTo>
                <a:cubicBezTo>
                  <a:pt x="0" y="21536"/>
                  <a:pt x="108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Fármacos No Inótropos 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en  IC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Antagonistas de  Angiotensina 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n   R - AT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o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ander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rbe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alsart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200" spc="-1" strike="noStrike">
                <a:solidFill>
                  <a:srgbClr val="ffffff"/>
                </a:solidFill>
                <a:latin typeface="Times New Roman"/>
              </a:rPr>
              <a:t>FI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13920"/>
            <a:ext cx="7772400" cy="16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Fármacos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Inótrop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razón Automátic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Tejido Excitocond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Ritmo y Con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allas del Rit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ANTIARRÍTM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7286760" y="1500120"/>
            <a:ext cx="1093680" cy="1584360"/>
          </a:xfrm>
          <a:custGeom>
            <a:avLst/>
            <a:gdLst>
              <a:gd name="textAreaLeft" fmla="*/ 146520 w 1093680"/>
              <a:gd name="textAreaRight" fmla="*/ 947160 w 1093680"/>
              <a:gd name="textAreaTop" fmla="*/ 273600 h 1584360"/>
              <a:gd name="textAreaBottom" fmla="*/ 11660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2661134"/>
                <a:lnTo>
                  <a:pt x="7200" y="21173"/>
                </a:lnTo>
                <a:lnTo>
                  <a:pt x="0" y="17280"/>
                </a:lnTo>
                <a:lnTo>
                  <a:pt x="7200" y="12533"/>
                </a:lnTo>
                <a:lnTo>
                  <a:pt x="7200" y="14505"/>
                </a:lnTo>
                <a:arcTo wR="21600" hR="7466" stAng="2661134" swAng="-2269171"/>
                <a:lnTo>
                  <a:pt x="20504" y="9814"/>
                </a:lnTo>
                <a:arcTo wR="21600" hR="7466" stAng="-391963" swAng="-5008037"/>
                <a:close/>
              </a:path>
              <a:path fill="darkenLess" w="21600" h="21600">
                <a:moveTo>
                  <a:pt x="0" y="0"/>
                </a:moveTo>
                <a:arcTo wR="21600" hR="7466" stAng="-5400000" swAng="5400000"/>
                <a:lnTo>
                  <a:pt x="21600" y="12162"/>
                </a:lnTo>
                <a:arcTo wR="21600" hR="7466" stAng="0" swAng="-391963"/>
                <a:lnTo>
                  <a:pt x="20504" y="9814"/>
                </a:lnTo>
                <a:arcTo wR="21600" hR="7466" stAng="-391963" swAng="-5008037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fig-4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Antiarrítm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ffff"/>
                </a:solidFill>
                <a:latin typeface="Times New Roman"/>
              </a:rPr>
              <a:t>Antidisrrítmico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d-3"/>
          <p:cNvPicPr/>
          <p:nvPr/>
        </p:nvPicPr>
        <p:blipFill>
          <a:blip r:embed="rId1"/>
          <a:stretch/>
        </p:blipFill>
        <p:spPr>
          <a:xfrm>
            <a:off x="1828800" y="380880"/>
            <a:ext cx="5892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-13-a"/>
          <p:cNvPicPr/>
          <p:nvPr/>
        </p:nvPicPr>
        <p:blipFill>
          <a:blip r:embed="rId1"/>
          <a:stretch/>
        </p:blipFill>
        <p:spPr>
          <a:xfrm>
            <a:off x="395280" y="1197000"/>
            <a:ext cx="84596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Arritmias / Dis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rterioescler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lusión  coronaria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Reperfu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squemia miocárdica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Arritm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 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Tipos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Au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lu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Ventricular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xtrasíst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aquicar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ibril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s de Arritm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3859200" cy="41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eneración 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r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utomática 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ment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óma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sencadenada 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nomalía Con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Impul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8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Bloqu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entr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1143000" y="19051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6 Conector recto"/>
          <p:cNvSpPr/>
          <p:nvPr/>
        </p:nvSpPr>
        <p:spPr>
          <a:xfrm>
            <a:off x="5357880" y="3571920"/>
            <a:ext cx="20718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8 Conector recto"/>
          <p:cNvSpPr/>
          <p:nvPr/>
        </p:nvSpPr>
        <p:spPr>
          <a:xfrm>
            <a:off x="7429680" y="3571920"/>
            <a:ext cx="0" cy="1716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10 Conector recto"/>
          <p:cNvSpPr/>
          <p:nvPr/>
        </p:nvSpPr>
        <p:spPr>
          <a:xfrm flipH="1">
            <a:off x="5357880" y="3573360"/>
            <a:ext cx="1440" cy="17146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13 Conector recto"/>
          <p:cNvSpPr/>
          <p:nvPr/>
        </p:nvSpPr>
        <p:spPr>
          <a:xfrm>
            <a:off x="5357880" y="5286240"/>
            <a:ext cx="2071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19 Conector recto"/>
          <p:cNvSpPr/>
          <p:nvPr/>
        </p:nvSpPr>
        <p:spPr>
          <a:xfrm>
            <a:off x="1500120" y="3643200"/>
            <a:ext cx="3214800" cy="1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21 Conector recto"/>
          <p:cNvSpPr/>
          <p:nvPr/>
        </p:nvSpPr>
        <p:spPr>
          <a:xfrm flipH="1">
            <a:off x="4714920" y="3645000"/>
            <a:ext cx="1440" cy="2498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23 Conector recto"/>
          <p:cNvSpPr/>
          <p:nvPr/>
        </p:nvSpPr>
        <p:spPr>
          <a:xfrm flipH="1">
            <a:off x="1498680" y="3643200"/>
            <a:ext cx="1440" cy="2502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29 Conector recto"/>
          <p:cNvSpPr/>
          <p:nvPr/>
        </p:nvSpPr>
        <p:spPr>
          <a:xfrm>
            <a:off x="1500120" y="6143760"/>
            <a:ext cx="314316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</a:t>
            </a:r>
            <a:br>
              <a:rPr sz="4400"/>
            </a:b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                Grupo II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caín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opira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xile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o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    </a:t>
            </a: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e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Lorcaín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ropra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m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ind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pren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ebuto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lasificación de Antiarrítmicos Grupo III             Grupo IV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mioda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ret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lper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tal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lofi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anol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Vera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ltiaz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alo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eprid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ipam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Corazón Bomb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ocardio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sarrollo Tensión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Pérdida de Fuer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ármacos       INÓTROP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858000" y="1285920"/>
            <a:ext cx="1454040" cy="1584360"/>
          </a:xfrm>
          <a:custGeom>
            <a:avLst/>
            <a:gdLst>
              <a:gd name="textAreaLeft" fmla="*/ 194760 w 1454040"/>
              <a:gd name="textAreaRight" fmla="*/ 1259280 w 14540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.A.  Grupo I     vs     Cinétic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Interacción con Can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4296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a              Cinética   Interme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Quinid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b                 Cinética   Rá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Lidocaí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Grupo I c                  Cinética   Len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ropafen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-1"/>
          <p:cNvPicPr/>
          <p:nvPr/>
        </p:nvPicPr>
        <p:blipFill>
          <a:blip r:embed="rId1"/>
          <a:stretch/>
        </p:blipFill>
        <p:spPr>
          <a:xfrm>
            <a:off x="2313000" y="295200"/>
            <a:ext cx="45165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 b   /  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tipo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Lidocaí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muy rápido del  Canal Na+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í   en diástole están disoc. del Canal  y   no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 y  Q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r lo tanto son eficaces para Suprimir Aumentos Rápidos de Frecuencia (extrasísto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b / Cinética Rápid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ventr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.Ventricular :  Fase aguda  y  crónica  postinfart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irugía cardíaca, intox. digitálica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66"/>
                </a:solidFill>
                <a:latin typeface="Arial"/>
              </a:rPr>
              <a:t>Grupo  I a   /  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    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Quinidi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erada potencia como modulador  Canal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baj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Inhibe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súbitos de frecu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Dosis alt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conducción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 directo depresor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SA :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Frecuencia Sinusal  y  Ectóp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aurìcula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,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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E  y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utomatismo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nodo AV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AV   (&gt;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ventrìculo :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vCond.   y 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E   (&gt;QRS)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a  / Cinética Intermedi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dicados e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xtrasístoles Auriculares y ventricula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arritmias auric.* y ventric. resistentes a Lido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lutter y Fibrilación Auricular*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WPW:  Aumenta PRE de la vía acces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.Indirecto*:     Anticolinérgico en  Nodo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&gt;&gt;Pro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 / 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1</a:t>
            </a:r>
            <a:br>
              <a:rPr sz="4400"/>
            </a:b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tipo    </a:t>
            </a:r>
            <a:r>
              <a:rPr b="0" lang="es-MX" sz="5400" spc="-1" strike="noStrike" baseline="-25000">
                <a:solidFill>
                  <a:srgbClr val="ffcc66"/>
                </a:solidFill>
                <a:latin typeface="Arial"/>
              </a:rPr>
              <a:t>Propafenona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Moduladores más potentes del Canal de Na</a:t>
            </a:r>
            <a:r>
              <a:rPr b="0" lang="es-MX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Asoc. y Disoc. lenta del Canal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  interacción   má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rolongada que el diástole fisiológico, por tanto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mayor grado de inhibición de iNa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 con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PR y QRS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riesgo arritm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3 Abrir llave"/>
          <p:cNvSpPr/>
          <p:nvPr/>
        </p:nvSpPr>
        <p:spPr>
          <a:xfrm>
            <a:off x="1500120" y="4786200"/>
            <a:ext cx="142920" cy="107172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071720"/>
              <a:gd name="textAreaBottom" fmla="*/ 10681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"/>
                  <a:pt x="10800" y="240"/>
                </a:cubicBezTo>
                <a:lnTo>
                  <a:pt x="10800" y="10560"/>
                </a:lnTo>
                <a:cubicBezTo>
                  <a:pt x="10800" y="10680"/>
                  <a:pt x="5400" y="10800"/>
                  <a:pt x="0" y="10800"/>
                </a:cubicBezTo>
                <a:cubicBezTo>
                  <a:pt x="5400" y="10800"/>
                  <a:pt x="10800" y="10920"/>
                  <a:pt x="10800" y="11040"/>
                </a:cubicBezTo>
                <a:lnTo>
                  <a:pt x="10800" y="21360"/>
                </a:lnTo>
                <a:cubicBezTo>
                  <a:pt x="10800" y="21480"/>
                  <a:pt x="16200" y="21600"/>
                  <a:pt x="21600" y="21600"/>
                </a:cubicBez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 c  /  Cinética Lenta</a:t>
            </a:r>
            <a:r>
              <a:rPr b="0" lang="es-MX" sz="4400" spc="-1" strike="noStrike" baseline="-25000">
                <a:solidFill>
                  <a:srgbClr val="ffcc66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primen intensamente la i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, la  Exci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conducción intracardíaca:  Nodo AV  y  vías accesor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Uso*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: extrasístoles o taquicar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 y  de la unión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índromes de preexitación como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* Bajo estricto control médi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ffcc66"/>
                </a:solidFill>
                <a:latin typeface="Arial"/>
              </a:rPr>
              <a:t>1 </a:t>
            </a:r>
            <a:br>
              <a:rPr sz="24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tipo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Propranolo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ntagonismo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Nodo SA y AV, His-Purkinje , A&gt;&gt;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Efecto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:    Frecuencia  SA   y  conducción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n   PRE   Nodo A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 vCond. Ventricular  (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QR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uprimen  automatismo  subsidiario  anómalo (i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n fuerza contráctil (A&gt;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 / Antagonistas-</a:t>
            </a:r>
            <a:r>
              <a:rPr b="0" lang="es-MX" sz="4400" spc="-1" strike="noStrike">
                <a:solidFill>
                  <a:srgbClr val="ffcc66"/>
                </a:solidFill>
                <a:latin typeface="Symbol"/>
                <a:ea typeface="Symbol"/>
              </a:rPr>
              <a:t>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Uso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rritmias secundaria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al incremento del tono simpático: asociadas a estrés, ansiedad, ejercicio, feocromocitoma, hipertiroidismo, anestesia por halot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Taquiarritmias Supraventriculares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asociadas a hipertensión arterial, angina o post infar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trolar la frecuencia ventricular en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: taq.supraventric.   y en arritmias ventriculares (asocias a QT largo) intox.        digitálica, miocardiopatía obstructiva o prolapso mit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ig"/>
          <p:cNvPicPr/>
          <p:nvPr/>
        </p:nvPicPr>
        <p:blipFill>
          <a:blip r:embed="rId1"/>
          <a:stretch/>
        </p:blipFill>
        <p:spPr>
          <a:xfrm>
            <a:off x="228600" y="826920"/>
            <a:ext cx="883908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1800" spc="-1" strike="noStrike">
                <a:solidFill>
                  <a:srgbClr val="ffcc66"/>
                </a:solidFill>
                <a:latin typeface="Arial"/>
              </a:rPr>
              <a:t>1</a:t>
            </a:r>
            <a:br>
              <a:rPr sz="1800"/>
            </a:b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Aumentan duraciòn del potencial de acciòn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hibe  iNa / iCa  y  Antagonista </a:t>
            </a:r>
            <a:r>
              <a:rPr b="1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s-MX" sz="2400" spc="-1" strike="noStrike" baseline="-25000">
                <a:solidFill>
                  <a:srgbClr val="ffffff"/>
                </a:solidFill>
                <a:latin typeface="Times New Roman"/>
              </a:rPr>
              <a:t>1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frecuencia  SA  discret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duración del potencial de 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Aumenta PRE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:   auricular , Nodo AV , Ventricular 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vías accesorias AV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vCond. intra cardíaca (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P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sistémica y coronaria y reduce trabajo cardíac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 III   /  Amiodarona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Indicacion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supraventriculares y ventriculares por reentrada en especial de WP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Reversión sinusal del Flutter y  F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aquicardia supraventricular  o  controlar la frecuencia ventricular de ell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rritmias ventriculares graves refractarias o recurrentes y especialmente aquellas post infarto con baja fracción de ey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ctivación  Nodos  SA y AV  es  función (iCa</a:t>
            </a:r>
            <a:r>
              <a:rPr b="1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) &gt;(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 y Diltia , al inhibir la i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Disminuyen:  Frecuencia  SA* , Cond. AV , Fuer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Aumentan PRE  Nodo AV (vera&gt;dilt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isminuye automatismo anormal dependiente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asodilatación  arteriovenosa,  disminuyendo resistencia vascular  sistémica  y  la P.Arter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ía  refleja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tono adrenérgico cardíaco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umenta el flujo coronario y disminuye demanda de O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Grupo IV  /  Mod.C.Ca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+     </a:t>
            </a:r>
            <a:r>
              <a:rPr b="0" lang="es-MX" sz="2000" spc="-1" strike="noStrike">
                <a:solidFill>
                  <a:srgbClr val="ffcc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Por depresión del Nodo AV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se indican par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un Flutter  y          esporadicamente convertirlo a Ritmo 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Taquicardia supraVentricular  por reentrada o circuito AV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la Taq.Parox.Lactante y las de WPW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Vera* contraindicado en WPW asociado a Flutter o FA, ya que acorta PRE del haz de Kent y puede aumentar la frecuencia ventri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Controlar la frecuencia ventricular de taq.supra V y FA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co efectivos en arritmias ventricular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cc66"/>
                </a:solidFill>
                <a:latin typeface="Arial"/>
              </a:rPr>
              <a:t>Diuréticos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Diu 01"/>
          <p:cNvPicPr/>
          <p:nvPr/>
        </p:nvPicPr>
        <p:blipFill>
          <a:blip r:embed="rId1"/>
          <a:stretch/>
        </p:blipFill>
        <p:spPr>
          <a:xfrm>
            <a:off x="1428840" y="500040"/>
            <a:ext cx="6548400" cy="588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290" name="6 Flecha izquierda"/>
          <p:cNvSpPr/>
          <p:nvPr/>
        </p:nvSpPr>
        <p:spPr>
          <a:xfrm>
            <a:off x="3786120" y="2143080"/>
            <a:ext cx="428760" cy="714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7 Flecha derecha"/>
          <p:cNvSpPr/>
          <p:nvPr/>
        </p:nvSpPr>
        <p:spPr>
          <a:xfrm>
            <a:off x="3000240" y="5000760"/>
            <a:ext cx="714600" cy="7142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9 Flecha arriba"/>
          <p:cNvSpPr/>
          <p:nvPr/>
        </p:nvSpPr>
        <p:spPr>
          <a:xfrm rot="18337800">
            <a:off x="5421600" y="5737680"/>
            <a:ext cx="66708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10 Flecha izquierda"/>
          <p:cNvSpPr/>
          <p:nvPr/>
        </p:nvSpPr>
        <p:spPr>
          <a:xfrm>
            <a:off x="5500800" y="4071960"/>
            <a:ext cx="428400" cy="571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11 Flecha derecha"/>
          <p:cNvSpPr/>
          <p:nvPr/>
        </p:nvSpPr>
        <p:spPr>
          <a:xfrm>
            <a:off x="4786200" y="1928880"/>
            <a:ext cx="42876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12 Flecha abajo"/>
          <p:cNvSpPr/>
          <p:nvPr/>
        </p:nvSpPr>
        <p:spPr>
          <a:xfrm>
            <a:off x="5286240" y="9288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13 Flecha abajo"/>
          <p:cNvSpPr/>
          <p:nvPr/>
        </p:nvSpPr>
        <p:spPr>
          <a:xfrm>
            <a:off x="6072120" y="1357200"/>
            <a:ext cx="57168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14 Flecha izquierda"/>
          <p:cNvSpPr/>
          <p:nvPr/>
        </p:nvSpPr>
        <p:spPr>
          <a:xfrm>
            <a:off x="7143840" y="2928960"/>
            <a:ext cx="6429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15 Flecha izquierda"/>
          <p:cNvSpPr/>
          <p:nvPr/>
        </p:nvSpPr>
        <p:spPr>
          <a:xfrm>
            <a:off x="7286760" y="4357800"/>
            <a:ext cx="57132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16 Flecha izquierda"/>
          <p:cNvSpPr/>
          <p:nvPr/>
        </p:nvSpPr>
        <p:spPr>
          <a:xfrm>
            <a:off x="7358040" y="2357280"/>
            <a:ext cx="500040" cy="785880"/>
          </a:xfrm>
          <a:prstGeom prst="leftArrow">
            <a:avLst>
              <a:gd name="adj1" fmla="val 50000"/>
              <a:gd name="adj2" fmla="val 47426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17 Flecha izquierda"/>
          <p:cNvSpPr/>
          <p:nvPr/>
        </p:nvSpPr>
        <p:spPr>
          <a:xfrm>
            <a:off x="7429680" y="5000760"/>
            <a:ext cx="500040" cy="7142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19 Flecha abajo"/>
          <p:cNvSpPr/>
          <p:nvPr/>
        </p:nvSpPr>
        <p:spPr>
          <a:xfrm>
            <a:off x="2714760" y="142884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20 Flecha izquierda"/>
          <p:cNvSpPr/>
          <p:nvPr/>
        </p:nvSpPr>
        <p:spPr>
          <a:xfrm rot="2067600">
            <a:off x="1857240" y="2714760"/>
            <a:ext cx="452520" cy="64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15 Elipse"/>
          <p:cNvSpPr/>
          <p:nvPr/>
        </p:nvSpPr>
        <p:spPr>
          <a:xfrm>
            <a:off x="3714840" y="1000080"/>
            <a:ext cx="642960" cy="428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4214880" y="5929200"/>
            <a:ext cx="64296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17 Elipse"/>
          <p:cNvSpPr/>
          <p:nvPr/>
        </p:nvSpPr>
        <p:spPr>
          <a:xfrm>
            <a:off x="6000840" y="714240"/>
            <a:ext cx="714240" cy="35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18 Elipse"/>
          <p:cNvSpPr/>
          <p:nvPr/>
        </p:nvSpPr>
        <p:spPr>
          <a:xfrm>
            <a:off x="7429680" y="5857920"/>
            <a:ext cx="5713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4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24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.- Inhibidores Anhidrasa Carbón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Inhibidores 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cetazolamida , Benzolamida , Diclorfenamida , Metazolamida(oft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Baja Potencia  1-3 %  inhib.reabs. Na</a:t>
            </a:r>
            <a:r>
              <a:rPr b="1" lang="es-MX" sz="28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2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12" name="Picture 2" descr="Diu 01"/>
          <p:cNvPicPr/>
          <p:nvPr/>
        </p:nvPicPr>
        <p:blipFill>
          <a:blip r:embed="rId1"/>
          <a:stretch/>
        </p:blipFill>
        <p:spPr>
          <a:xfrm>
            <a:off x="1643040" y="1214280"/>
            <a:ext cx="5786640" cy="548496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 flipH="1" rot="13397400">
            <a:off x="3312720" y="1595520"/>
            <a:ext cx="482760" cy="893520"/>
          </a:xfrm>
          <a:prstGeom prst="upArrow">
            <a:avLst>
              <a:gd name="adj1" fmla="val 50000"/>
              <a:gd name="adj2" fmla="val 50119"/>
            </a:avLst>
          </a:prstGeom>
          <a:solidFill>
            <a:srgbClr val="0000ff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4 Flecha abajo"/>
          <p:cNvSpPr/>
          <p:nvPr/>
        </p:nvSpPr>
        <p:spPr>
          <a:xfrm rot="3126600">
            <a:off x="3888000" y="2205720"/>
            <a:ext cx="370080" cy="80316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fig"/>
          <p:cNvPicPr/>
          <p:nvPr/>
        </p:nvPicPr>
        <p:blipFill>
          <a:blip r:embed="rId1"/>
          <a:stretch/>
        </p:blipFill>
        <p:spPr>
          <a:xfrm>
            <a:off x="762120" y="328680"/>
            <a:ext cx="75438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Mecanismo de Inhibidores de  </a:t>
            </a:r>
            <a:br>
              <a:rPr sz="3200"/>
            </a:br>
            <a:r>
              <a:rPr b="0" lang="es-MX" sz="32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1:   Anhidrasa Carbónica (Zn-metaloenzima) 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apical  o  lumin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ivel epitelial  o  citoplasmátic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2 : Indirectamente inhibe reabs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Symbol"/>
                <a:ea typeface="Symbol"/>
              </a:rPr>
              <a:t>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exc.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8, 9 y 10 : reabs. dista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secr.distal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5148360" y="5445000"/>
            <a:ext cx="647640" cy="289080"/>
          </a:xfrm>
          <a:custGeom>
            <a:avLst/>
            <a:gdLst>
              <a:gd name="textAreaLeft" fmla="*/ 119160 w 647640"/>
              <a:gd name="textAreaRight" fmla="*/ 440280 w 64764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49" hR="21600" stAng="10800000" swAng="5400000"/>
                <a:lnTo>
                  <a:pt x="10713" y="0"/>
                </a:lnTo>
                <a:arcTo wR="7949" hR="21600" stAng="-5400000" swAng="2768863"/>
                <a:lnTo>
                  <a:pt x="21145" y="14400"/>
                </a:lnTo>
                <a:lnTo>
                  <a:pt x="17280" y="21600"/>
                </a:lnTo>
                <a:lnTo>
                  <a:pt x="12505" y="14400"/>
                </a:lnTo>
                <a:lnTo>
                  <a:pt x="15443" y="14400"/>
                </a:lnTo>
                <a:arcTo wR="7949" hR="21600" stAng="-2631137" swAng="-2545823"/>
                <a:lnTo>
                  <a:pt x="9331" y="329"/>
                </a:lnTo>
                <a:arcTo wR="7949" hR="21600" stAng="-5623040" swAng="-5176960"/>
                <a:close/>
              </a:path>
              <a:path fill="darkenLess" w="21600" h="21600">
                <a:moveTo>
                  <a:pt x="0" y="21600"/>
                </a:moveTo>
                <a:arcTo wR="7949" hR="21600" stAng="10800000" swAng="5400000"/>
                <a:lnTo>
                  <a:pt x="7949" y="0"/>
                </a:lnTo>
                <a:arcTo wR="7949" hR="21600" stAng="-5400000" swAng="223040"/>
                <a:lnTo>
                  <a:pt x="9331" y="329"/>
                </a:lnTo>
                <a:arcTo wR="7949" hR="21600" stAng="-5623040" swAng="-517696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3780000" y="3284640"/>
            <a:ext cx="72720" cy="431640"/>
          </a:xfrm>
          <a:custGeom>
            <a:avLst/>
            <a:gdLst>
              <a:gd name="textAreaLeft" fmla="*/ 21240 w 72720"/>
              <a:gd name="textAreaRight" fmla="*/ 73080 w 727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         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I.Anhidrasa Carbónic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0" name="Picture 3" descr="File0001"/>
          <p:cNvPicPr/>
          <p:nvPr/>
        </p:nvPicPr>
        <p:blipFill>
          <a:blip r:embed="rId1"/>
          <a:stretch/>
        </p:blipFill>
        <p:spPr>
          <a:xfrm>
            <a:off x="2071800" y="1857240"/>
            <a:ext cx="5468760" cy="4857840"/>
          </a:xfrm>
          <a:prstGeom prst="rect">
            <a:avLst/>
          </a:prstGeom>
          <a:ln w="0">
            <a:noFill/>
          </a:ln>
        </p:spPr>
      </p:pic>
      <p:sp>
        <p:nvSpPr>
          <p:cNvPr id="321" name="5 Elipse"/>
          <p:cNvSpPr/>
          <p:nvPr/>
        </p:nvSpPr>
        <p:spPr>
          <a:xfrm>
            <a:off x="2571840" y="2500200"/>
            <a:ext cx="642960" cy="50004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4 Rayo"/>
          <p:cNvSpPr/>
          <p:nvPr/>
        </p:nvSpPr>
        <p:spPr>
          <a:xfrm rot="456000">
            <a:off x="3040200" y="3978360"/>
            <a:ext cx="785520" cy="64296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5 Rayo"/>
          <p:cNvSpPr/>
          <p:nvPr/>
        </p:nvSpPr>
        <p:spPr>
          <a:xfrm rot="6552000">
            <a:off x="5429880" y="4177080"/>
            <a:ext cx="762120" cy="5443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6 Flecha abajo"/>
          <p:cNvSpPr/>
          <p:nvPr/>
        </p:nvSpPr>
        <p:spPr>
          <a:xfrm>
            <a:off x="4429080" y="30718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7 Flecha abajo"/>
          <p:cNvSpPr/>
          <p:nvPr/>
        </p:nvSpPr>
        <p:spPr>
          <a:xfrm>
            <a:off x="5000760" y="3071880"/>
            <a:ext cx="285480" cy="50004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8 Flecha arriba"/>
          <p:cNvSpPr/>
          <p:nvPr/>
        </p:nvSpPr>
        <p:spPr>
          <a:xfrm rot="891600">
            <a:off x="2863800" y="5452920"/>
            <a:ext cx="271440" cy="638280"/>
          </a:xfrm>
          <a:prstGeom prst="upArrow">
            <a:avLst>
              <a:gd name="adj1" fmla="val 50000"/>
              <a:gd name="adj2" fmla="val 50164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9 Flecha abajo"/>
          <p:cNvSpPr/>
          <p:nvPr/>
        </p:nvSpPr>
        <p:spPr>
          <a:xfrm rot="20583000">
            <a:off x="2127240" y="2820600"/>
            <a:ext cx="347760" cy="7542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10 Flecha abajo"/>
          <p:cNvSpPr/>
          <p:nvPr/>
        </p:nvSpPr>
        <p:spPr>
          <a:xfrm rot="1437600">
            <a:off x="3347640" y="2463480"/>
            <a:ext cx="376200" cy="738000"/>
          </a:xfrm>
          <a:prstGeom prst="downArrow">
            <a:avLst>
              <a:gd name="adj1" fmla="val 50000"/>
              <a:gd name="adj2" fmla="val 49869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Inhibidores de la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Anhidrasa Carbón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laucoma y cirugía de cataratas(local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mo diurético en bloqueo secuen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pacientes con alcalosis metabólica (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n especial a diurétic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calinización urin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obredosis e intoxicaciones con ácidos déb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Inhibidores de la Anhidrasa </a:t>
            </a:r>
            <a:br>
              <a:rPr sz="4000"/>
            </a:b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         Carbónica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Hipokalem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idosis metaból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La acetazolamida ha sido reportada como teratogénica y embriotóxica en animales, a dosis elevadas; en mujeres embarazadas no hay estudios bien controlados, por lo que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o debe administrarse durante el embarazo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pecialmente durante el primer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rimestre.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Se han detectado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niveles bajos del fármaco en la leche de mujeres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lactantes a las que se les ha administrado acetazolamida, por lo que se debe tener precaución cuando se administre en estas condiciones.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Inhibidores del Simportador de  Na-Cl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del  </a:t>
            </a:r>
            <a:br>
              <a:rPr sz="3200"/>
            </a:b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sa Cortical  y  del TC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16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iazidas  y  Análogos Bioisost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Tiazidas y Análogo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iazídicos:  cloro, hidrocloro, flume  y  bendroflumetiaz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nálogos bioisostéricos:   clortalidona,  metolazona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quinetazona y torasem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Inhibidores Moderados  reabs. de sodio 5%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38" name="Picture 2" descr="Diu 01"/>
          <p:cNvPicPr/>
          <p:nvPr/>
        </p:nvPicPr>
        <p:blipFill>
          <a:blip r:embed="rId1"/>
          <a:stretch/>
        </p:blipFill>
        <p:spPr>
          <a:xfrm>
            <a:off x="1714680" y="1214280"/>
            <a:ext cx="6400800" cy="547704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3"/>
          <p:cNvSpPr/>
          <p:nvPr/>
        </p:nvSpPr>
        <p:spPr>
          <a:xfrm rot="1990800">
            <a:off x="4611240" y="1738080"/>
            <a:ext cx="1001880" cy="444240"/>
          </a:xfrm>
          <a:prstGeom prst="rightArrow">
            <a:avLst>
              <a:gd name="adj1" fmla="val 50000"/>
              <a:gd name="adj2" fmla="val 34967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AutoShape 7"/>
          <p:cNvSpPr/>
          <p:nvPr/>
        </p:nvSpPr>
        <p:spPr>
          <a:xfrm rot="1962000">
            <a:off x="4571640" y="2852640"/>
            <a:ext cx="863640" cy="358920"/>
          </a:xfrm>
          <a:prstGeom prst="rightArrow">
            <a:avLst>
              <a:gd name="adj1" fmla="val 50000"/>
              <a:gd name="adj2" fmla="val 60155"/>
            </a:avLst>
          </a:prstGeom>
          <a:solidFill>
            <a:srgbClr val="0000ff"/>
          </a:solidFill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6,7 : Inhibe reabs.  Na Cl  en asa ascendente grue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rtical  y  en la fracción inicial TC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1. Inhibe cotransportador  luminal /ap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lectroneutral  de 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y 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6,7.2.   Secundariamente  el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&lt; N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ctiv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l Intercambiador  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asolat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  aumento de la reabsorción global de C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 8, 9 y 10 : Secreción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Mecanismo de Tiazida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Picture 3" descr="File0013"/>
          <p:cNvPicPr/>
          <p:nvPr/>
        </p:nvPicPr>
        <p:blipFill>
          <a:blip r:embed="rId1"/>
          <a:stretch/>
        </p:blipFill>
        <p:spPr>
          <a:xfrm>
            <a:off x="1428840" y="2000160"/>
            <a:ext cx="6448320" cy="4575240"/>
          </a:xfrm>
          <a:prstGeom prst="rect">
            <a:avLst/>
          </a:prstGeom>
          <a:ln w="0">
            <a:noFill/>
          </a:ln>
        </p:spPr>
      </p:pic>
      <p:sp>
        <p:nvSpPr>
          <p:cNvPr id="345" name="5 Elipse"/>
          <p:cNvSpPr/>
          <p:nvPr/>
        </p:nvSpPr>
        <p:spPr>
          <a:xfrm>
            <a:off x="1500120" y="2500200"/>
            <a:ext cx="642960" cy="57168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4 Rayo"/>
          <p:cNvSpPr/>
          <p:nvPr/>
        </p:nvSpPr>
        <p:spPr>
          <a:xfrm rot="680400">
            <a:off x="2368440" y="2599920"/>
            <a:ext cx="1116000" cy="95400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7 Flecha a la derecha con bandas"/>
          <p:cNvSpPr/>
          <p:nvPr/>
        </p:nvSpPr>
        <p:spPr>
          <a:xfrm>
            <a:off x="2857680" y="5357880"/>
            <a:ext cx="714240" cy="285840"/>
          </a:xfrm>
          <a:custGeom>
            <a:avLst/>
            <a:gdLst>
              <a:gd name="textAreaLeft" fmla="*/ 44640 w 714240"/>
              <a:gd name="textAreaRight" fmla="*/ 642960 w 71424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714375" h="285750">
                <a:moveTo>
                  <a:pt x="0" y="71438"/>
                </a:moveTo>
                <a:lnTo>
                  <a:pt x="8930" y="71438"/>
                </a:lnTo>
                <a:lnTo>
                  <a:pt x="8930" y="214313"/>
                </a:lnTo>
                <a:lnTo>
                  <a:pt x="0" y="214313"/>
                </a:lnTo>
                <a:close/>
                <a:moveTo>
                  <a:pt x="17859" y="71438"/>
                </a:moveTo>
                <a:lnTo>
                  <a:pt x="35719" y="71438"/>
                </a:lnTo>
                <a:lnTo>
                  <a:pt x="35719" y="214313"/>
                </a:lnTo>
                <a:lnTo>
                  <a:pt x="17859" y="214313"/>
                </a:lnTo>
                <a:close/>
                <a:moveTo>
                  <a:pt x="44648" y="71438"/>
                </a:moveTo>
                <a:lnTo>
                  <a:pt x="571500" y="71438"/>
                </a:lnTo>
                <a:lnTo>
                  <a:pt x="571500" y="0"/>
                </a:lnTo>
                <a:lnTo>
                  <a:pt x="714375" y="142875"/>
                </a:lnTo>
                <a:lnTo>
                  <a:pt x="571500" y="285750"/>
                </a:lnTo>
                <a:lnTo>
                  <a:pt x="571500" y="214313"/>
                </a:lnTo>
                <a:lnTo>
                  <a:pt x="44648" y="21431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8 Flecha a la derecha con bandas"/>
          <p:cNvSpPr/>
          <p:nvPr/>
        </p:nvSpPr>
        <p:spPr>
          <a:xfrm>
            <a:off x="5286240" y="5572080"/>
            <a:ext cx="714600" cy="214200"/>
          </a:xfrm>
          <a:custGeom>
            <a:avLst/>
            <a:gdLst>
              <a:gd name="textAreaLeft" fmla="*/ 33480 w 714600"/>
              <a:gd name="textAreaRight" fmla="*/ 661320 w 714600"/>
              <a:gd name="textAreaTop" fmla="*/ 53280 h 214200"/>
              <a:gd name="textAreaBottom" fmla="*/ 160920 h 214200"/>
            </a:gdLst>
            <a:ahLst/>
            <a:rect l="textAreaLeft" t="textAreaTop" r="textAreaRight" b="textAreaBottom"/>
            <a:pathLst>
              <a:path w="714375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close/>
                <a:moveTo>
                  <a:pt x="33486" y="53578"/>
                </a:moveTo>
                <a:lnTo>
                  <a:pt x="607219" y="53578"/>
                </a:lnTo>
                <a:lnTo>
                  <a:pt x="607219" y="0"/>
                </a:lnTo>
                <a:lnTo>
                  <a:pt x="714375" y="107157"/>
                </a:lnTo>
                <a:lnTo>
                  <a:pt x="607219" y="214313"/>
                </a:lnTo>
                <a:lnTo>
                  <a:pt x="607219" y="160735"/>
                </a:lnTo>
                <a:lnTo>
                  <a:pt x="33486" y="16073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Tiazídic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ICC leve  o  moderada  y en el edema asoci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hepático o renal crónico y el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tensión premenstru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Hipertensión inicial y junto con reducción de so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trolan la HTA leve a mode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tratamiento de la hipercalciure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g"/>
          <p:cNvPicPr/>
          <p:nvPr/>
        </p:nvPicPr>
        <p:blipFill>
          <a:blip r:embed="rId1"/>
          <a:stretch/>
        </p:blipFill>
        <p:spPr>
          <a:xfrm>
            <a:off x="762120" y="353880"/>
            <a:ext cx="761976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Diuréticos Tiazídicos / E.Adverso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percalcemia a largo plaz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3.- Inhibidores del Simportador 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    Na-K-2Cl  del  Asa Medul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Diuréticos  del  A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urosemida,  Bumetanida,  Ácido Etacrí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Times New Roman"/>
              </a:rPr>
              <a:t>Potentes   20-25 %  inhib. de la reabsorción de so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(Or/Pa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Diu 01"/>
          <p:cNvPicPr/>
          <p:nvPr/>
        </p:nvPicPr>
        <p:blipFill>
          <a:blip r:embed="rId1"/>
          <a:stretch/>
        </p:blipFill>
        <p:spPr>
          <a:xfrm>
            <a:off x="1785960" y="1714680"/>
            <a:ext cx="5429160" cy="48765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>
            <a:off x="4429080" y="45007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0000ff"/>
          </a:solidFill>
          <a:ln cap="sq"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Nivel de ac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5 : - Inhib. Simportador luminal  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, 2 Cl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l Asa ascendente gruesa medular o zona dilutoria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- ↑ Excreción de Ca , al reducir   grad.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otencial (+) , que promueve su reabsorció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 3,4 :  Repercute con menor aporte de  Na  a la z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 contra corriente, leve reducción de hipertoní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itios 8, 9 y 10 :  Secreción  distal  K</a:t>
            </a:r>
            <a:r>
              <a:rPr b="0" lang="es-MX" sz="24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/ 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canismo de D. del Asa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63" name="Picture 3" descr="File0012"/>
          <p:cNvPicPr/>
          <p:nvPr/>
        </p:nvPicPr>
        <p:blipFill>
          <a:blip r:embed="rId1"/>
          <a:stretch/>
        </p:blipFill>
        <p:spPr>
          <a:xfrm>
            <a:off x="1428840" y="1928880"/>
            <a:ext cx="6546600" cy="4709880"/>
          </a:xfrm>
          <a:prstGeom prst="rect">
            <a:avLst/>
          </a:prstGeom>
          <a:ln w="0">
            <a:noFill/>
          </a:ln>
        </p:spPr>
      </p:pic>
      <p:sp>
        <p:nvSpPr>
          <p:cNvPr id="364" name="5 Elipse"/>
          <p:cNvSpPr/>
          <p:nvPr/>
        </p:nvSpPr>
        <p:spPr>
          <a:xfrm>
            <a:off x="1500120" y="2571840"/>
            <a:ext cx="714600" cy="571320"/>
          </a:xfrm>
          <a:prstGeom prst="ellipse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4 Rayo"/>
          <p:cNvSpPr/>
          <p:nvPr/>
        </p:nvSpPr>
        <p:spPr>
          <a:xfrm rot="967200">
            <a:off x="2590920" y="2308320"/>
            <a:ext cx="857160" cy="1285920"/>
          </a:xfrm>
          <a:prstGeom prst="lightningBolt">
            <a:avLst/>
          </a:pr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5 Flecha curvada hacia la izquierda"/>
          <p:cNvSpPr/>
          <p:nvPr/>
        </p:nvSpPr>
        <p:spPr>
          <a:xfrm>
            <a:off x="4143240" y="4286160"/>
            <a:ext cx="571680" cy="714600"/>
          </a:xfrm>
          <a:custGeom>
            <a:avLst/>
            <a:gdLst>
              <a:gd name="textAreaLeft" fmla="*/ 76320 w 571680"/>
              <a:gd name="textAreaRight" fmla="*/ 495360 w 571680"/>
              <a:gd name="textAreaTop" fmla="*/ 124920 h 714600"/>
              <a:gd name="textAreaBottom" fmla="*/ 5180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3215003"/>
                <a:lnTo>
                  <a:pt x="5400" y="21360"/>
                </a:lnTo>
                <a:lnTo>
                  <a:pt x="0" y="17280"/>
                </a:lnTo>
                <a:lnTo>
                  <a:pt x="5400" y="12720"/>
                </a:lnTo>
                <a:lnTo>
                  <a:pt x="5400" y="14880"/>
                </a:lnTo>
                <a:arcTo wR="21600" hR="7560" stAng="3215003" swAng="-2857569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7 Flecha curvada hacia la izquierda"/>
          <p:cNvSpPr/>
          <p:nvPr/>
        </p:nvSpPr>
        <p:spPr>
          <a:xfrm>
            <a:off x="2928960" y="5500800"/>
            <a:ext cx="357120" cy="357120"/>
          </a:xfrm>
          <a:custGeom>
            <a:avLst/>
            <a:gdLst>
              <a:gd name="textAreaLeft" fmla="*/ 47880 w 357120"/>
              <a:gd name="textAreaRight" fmla="*/ 309240 w 357120"/>
              <a:gd name="textAreaTop" fmla="*/ 55800 h 357120"/>
              <a:gd name="textAreaBottom" fmla="*/ 2566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026114"/>
                <a:lnTo>
                  <a:pt x="5400" y="21386"/>
                </a:lnTo>
                <a:lnTo>
                  <a:pt x="0" y="16200"/>
                </a:lnTo>
                <a:lnTo>
                  <a:pt x="5400" y="10586"/>
                </a:lnTo>
                <a:lnTo>
                  <a:pt x="5400" y="13286"/>
                </a:lnTo>
                <a:arcTo wR="21600" hR="6750" stAng="3026114" swAng="-2560128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0000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7 Triángulo isósceles"/>
          <p:cNvSpPr/>
          <p:nvPr/>
        </p:nvSpPr>
        <p:spPr>
          <a:xfrm>
            <a:off x="2571840" y="542916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8 Llamada de flecha hacia arriba"/>
          <p:cNvSpPr/>
          <p:nvPr/>
        </p:nvSpPr>
        <p:spPr>
          <a:xfrm>
            <a:off x="3714840" y="6021360"/>
            <a:ext cx="1000080" cy="550800"/>
          </a:xfrm>
          <a:prstGeom prst="upArrowCallout">
            <a:avLst>
              <a:gd name="adj1" fmla="val 22698"/>
              <a:gd name="adj2" fmla="val 19972"/>
              <a:gd name="adj3" fmla="val 25000"/>
              <a:gd name="adj4" fmla="val 113317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Paracel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66"/>
                </a:solidFill>
                <a:latin typeface="Arial"/>
              </a:rPr>
              <a:t>Uso de Diuréticos del As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dema cardíaco, hepático  o  re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CC Izquierda con edema pulmon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n crisis hipercalcém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No son de primera elección en  H.T. es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    </a:t>
            </a: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Diuréticos del Asa / E. Adv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Desequilibrio hidro-electrolít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natr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kal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calosis metabó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Hipocalcem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totoxic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4.- Economizadores de K</a:t>
            </a:r>
            <a:r>
              <a:rPr b="0" lang="es-ES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Arial"/>
              </a:rPr>
              <a:t>Economizadores de K</a:t>
            </a:r>
            <a:r>
              <a:rPr b="0" lang="es-MX" sz="4400" spc="-1" strike="noStrike" baseline="30000">
                <a:solidFill>
                  <a:srgbClr val="ffcc66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1° tipo :    Spironolact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° tipo :   Amilorida y  Triamt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Baja potencia :  1-3 %  inhib.  reabsorción  de sod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01:25:33Z</dcterms:created>
  <dc:creator>Gonzalez</dc:creator>
  <dc:description/>
  <dc:language>en-US</dc:language>
  <cp:lastModifiedBy>Universidad de Chile</cp:lastModifiedBy>
  <dcterms:modified xsi:type="dcterms:W3CDTF">2011-11-18T15:32:39Z</dcterms:modified>
  <cp:revision>279</cp:revision>
  <dc:subject/>
  <dc:title>Indicaciones G.C.</dc:title>
</cp:coreProperties>
</file>