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CB94-721F-417F-B466-45E8FA49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1D4-8E38-495B-876E-F1565216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82F5-511A-4324-B767-213D953A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E52A-BED5-4CC3-8261-D8DDFEC9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D1C8-ABFB-4D1C-A6B5-136D1A5A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0214-8CF1-4CC8-B17F-020769DA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8F2C-BDFB-49FA-80CC-7385411A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6FEE-9F70-42C3-BAB9-46256516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B131-FC9E-4A8B-9FC4-11962964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50C2-A38B-454B-A7FC-1CDEE1F4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2C66-7E8B-4EC9-99B3-BDEBBCD6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BD9-DF0A-411D-8301-E3445EED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C7EC-B8E1-4ED8-B464-DF0F62FC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1662-4DB4-427E-9FF5-FE2FA1F6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D2CF-D789-45F5-A3E9-C6D587B4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4230-0AFA-4E90-8310-0FE58A64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4767-68CE-43D8-8093-5DE59E8B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59E4-5F8D-4E01-BBBD-778DE457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725-E14C-4C25-865B-341252AB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B96-3669-41F4-9853-88D55785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C498-344C-4A33-B032-B9F1E4DD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F21-ED1F-47DC-BBBF-92342749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AF6-899A-4278-B695-499F139A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2996-4E3B-4D2F-90A4-07AD8089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0BAA-6CC6-4903-A691-0C8871281A2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163D-D1DA-400F-931E-ABF5970CD59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TEORIA DE LA ARQUITECTURA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ROFESORA: PILAR BAR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YUDANTE: CRISTIAN RAYN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Actividades de la cla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Notas y corr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ormar 10 grupo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rogramación del semest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ntrol de lectura de B. Zev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522440" y="136512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440" y="13651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627200" y="498600"/>
          <a:ext cx="5891040" cy="5860800"/>
        </p:xfrm>
        <a:graphic>
          <a:graphicData uri="http://schemas.openxmlformats.org/drawingml/2006/table">
            <a:tbl>
              <a:tblPr/>
              <a:tblGrid>
                <a:gridCol w="614520"/>
                <a:gridCol w="1008000"/>
                <a:gridCol w="1763640"/>
                <a:gridCol w="2504880"/>
              </a:tblGrid>
              <a:tr h="3373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GUNDO SEMESTRE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5 DE 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HI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ÜEDAD RENACIMI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1 DE 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HI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ROCO AL SIGLO XV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8 DE 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HI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LOS XIX Y 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5 DE 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IAD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2 DE AG0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UEBA HI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9 DE 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-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EXPRESIONISMO-CUBISMO-FUTURIS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5 DE S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-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CONSTRUCTIVISMO-DADA-SURREALIS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2 DE S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-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 STIJL-POP 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9 DE S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IADO DE FIESTAS PAT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6 DE S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TESIS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LLER DE ESCRITURA-ENS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3 DE 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UEBA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0 DE 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SCHUMI - RO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7 DE OCTU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NE - FO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4 DE 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SENMAN - TOYO I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1 DE 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ROKAWA - HERZOG&amp;DE MEU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7 DE 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BESKIND - KOOLHA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4 DE 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REGA DE TRABAJOS FI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4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1 DE 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ÓN DE LOS MEJORES TRABAJOS Y ENTREGA DE NO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8  DE 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A DE TALL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2 pruebas 30% (15% cada una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xposición grupal 15%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Visitas a exposiciones 10% (21/11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arpeta de tareas 1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Trabajo individual final 25%. Sólo se aceptarán trabajos que hayan sido corregidos en el taller de ensayos (26 de septiembre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utoevaluación 5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sistencia 5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are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icha iglesia de Los Benedictinos: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29/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trol de lectura B. Zevi: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26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mentario crítico de una noticia: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03/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mentario crítico del Seminari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Arquitectura+Vanguardia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(2 pág.):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10/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icha Centro de Justicia de Santiago: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07/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LAS TAREAS SE ENTREGARAN EN FORMATO CARTA ESCRITAS EN COMPUTADOR, CORCHETEADAS. EN LA PRIMERA PÁGINA SE INDICARÁ NOMBRE DEL TRABAJO, DEL ALUMNO Y FECHA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3:28:31Z</dcterms:created>
  <dc:creator>Pilar Barba</dc:creator>
  <dc:description/>
  <dc:language>en-US</dc:language>
  <cp:lastModifiedBy>Pilar Barba</cp:lastModifiedBy>
  <dcterms:modified xsi:type="dcterms:W3CDTF">2007-07-25T16:11:54Z</dcterms:modified>
  <cp:revision>17</cp:revision>
  <dc:subject/>
  <dc:title>TEORIA DE LA ARQUITECTURA I</dc:title>
</cp:coreProperties>
</file>