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43E-0B4C-4A7A-86C0-EC9D0413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A16-A5F6-434F-985C-000D236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54A-CAB7-4E0D-BE1A-EEB69E2B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F2F-6BBD-4728-A569-3B078724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077-2B4F-485E-A9C3-AAE4DEF2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A12-5AFE-4A9C-8C34-694D81D5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8EE-75ED-44D4-B76C-E8910253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886-3176-40C7-B67C-F4EEF2B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548-8ECA-496E-AE72-1BB59F26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A75-0115-48E2-A67B-538A0A8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D83-814F-44A5-908D-446EE9E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66C-D7DA-4413-8D07-5C2B7072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025D-1C00-4C96-8436-DF7ABA53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669780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ANTECEDENTES DE LA COMUNA DE PROVID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5087880" cy="4849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2708280"/>
            <a:ext cx="720720" cy="7192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1268280"/>
            <a:ext cx="22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20.874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124.530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14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394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norte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laza de la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Pedro de Valdivia-De las escultu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sur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Providencia-Balmace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arque Urugu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643040"/>
            <a:ext cx="5724360" cy="204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02160" y="3817800"/>
            <a:ext cx="4641840" cy="304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2000" y="2852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Providencia, vistas hacia el poniente (iz.) y oriente (der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9700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Providencia (“Japonés”), en ribera sur (iz.). Vista hacia la Plaza Baqued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51280"/>
            <a:ext cx="4067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35640" y="1557360"/>
            <a:ext cx="33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laza Baquedano con la convergencia de las Comunas de Providencia, Santiago y Recoleta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, y los parques: Bustamante, Providencia, Forestal y Gómez Rojas, junto al río Mapoc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295880" cy="5257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00720" y="2924280"/>
            <a:ext cx="4378320" cy="3139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27640" y="1557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61657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399564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6400800" cy="236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77080" y="4437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laza Baquedano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638680" y="1700280"/>
            <a:ext cx="35053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72360" cy="360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549360"/>
            <a:ext cx="64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El río Mapocho marca la línea de edificación en altura permitida hacia el sur, por la existencia del primer subcentro metropolitano Provid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20640"/>
            <a:ext cx="72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rovidencia en el primer sub-centro metropolitano formado, y comenzando una etapa de renovación urbana, que elevará su altura considerablemente. En la foto, costanera norte en construcción (ya termina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635280" cy="249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2438280" cy="166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2362320" cy="1627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476280"/>
            <a:ext cx="426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Rivera norte, Parque Pedro de Valdivia y de las Esculturas, luego de la construcción de la nueva Costanera Norte, en parte en la caja del r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1628640"/>
            <a:ext cx="51832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53000" cy="561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67280" y="2128680"/>
            <a:ext cx="5076720" cy="346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067280" y="1125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Pedro de Valdivia con la nueva costanera norte en construcción y terminada. Vista al pon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94560" cy="4610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1640" y="620640"/>
            <a:ext cx="61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Nuevo puente La Concepción que comunica con la Avda. Providencia y Estación de metro Pedro de Vald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516720" cy="2990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620640"/>
            <a:ext cx="54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Parque  “Uruguay”, vista al poniente, ribera sur del Mapoc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157720"/>
            <a:ext cx="338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4680000"/>
            <a:ext cx="57988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6156360" cy="319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00800" y="1989000"/>
            <a:ext cx="2743200" cy="1805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45000"/>
            <a:ext cx="79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Los vecinos de P. de Valdivia Norte, han solicitado que el nuevo túnel El Salto-Kennedy sólo entre en funciones cuando la nueva Costanera Sur haya sido construida, pues de lo contrario provocaría aún más grandes atochamientos que los que existen en la actual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268280"/>
            <a:ext cx="669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Verdana"/>
              </a:rPr>
              <a:t>Túnel El Salto-Kennedy en construcción, acometiendo por el sur en la comuna de Provid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716360" cy="27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4500360" cy="2621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445000"/>
            <a:ext cx="46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 la iz. Posición de acometida del nuevo túnel; a la der. Acometida del canal San Carlos en el río Mapoc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82000" y="2565360"/>
            <a:ext cx="1962000" cy="132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164360" y="4005360"/>
            <a:ext cx="19796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9:43:38Z</dcterms:created>
  <dc:creator>mpavez</dc:creator>
  <dc:description/>
  <dc:language>en-US</dc:language>
  <cp:lastModifiedBy>mpavez</cp:lastModifiedBy>
  <dcterms:modified xsi:type="dcterms:W3CDTF">2008-01-29T14:01:43Z</dcterms:modified>
  <cp:revision>19</cp:revision>
  <dc:subject/>
  <dc:title>Diapositiva 1</dc:title>
</cp:coreProperties>
</file>