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AA3-EA07-42D2-9B3C-F50046A6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FDD-5F71-4C93-A297-2324D5F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A2C-1D50-4B19-8744-568C02B2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9F0-5F93-4C7E-A039-3EF4D261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1CC-8FB3-4446-806D-972E858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49D-E448-4F8B-B393-119C073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98C-7ED5-4DB6-8C92-6A1F5694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915-1A27-439E-B434-FA4763C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A0B-772B-4E00-BBF8-E232A56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7E5-AA0B-426C-B74A-4D3BCE9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116-38DE-4524-A340-FB5AAEE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C7F-13C4-4791-8FEE-4816D58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6A50-A1E0-4817-A51D-BD9B7A43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2381400"/>
            <a:ext cx="4248360" cy="404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357720"/>
            <a:ext cx="432000" cy="358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TECEDENTES DE LA COMUNA DE IN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276640"/>
            <a:ext cx="28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65.479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39.19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 actu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848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Km lineales borde rí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2 km 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 del rí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Bandas verdes Costanera N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Tirso de M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628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4513320" cy="319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907920"/>
            <a:ext cx="22320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 observa (al norte y sur del río) espacios parque reservados entre par-costaneras, como proyectos viales derivados del Plan Intercomunal de 1960-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ambién se observa que aún se conserva antiguo estadio, hoy de Chilectra próximo a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96148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52600" cy="19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76280"/>
            <a:ext cx="3600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ituación en 1997 (iz.) donde se observa un espacio parque practicable ya plantado entre costanera del Plan 1960-1994 y calle de servicio, (Foto por gentileza de Claudio Monteneg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bajo,  situación actual luego del paso de una nueva costanera con características de autopista (Costanera Norte), dejando sólo bandas verdes decorativas no practic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38:35Z</dcterms:created>
  <dc:creator>mpavez</dc:creator>
  <dc:description/>
  <dc:language>en-US</dc:language>
  <cp:lastModifiedBy>mpavez</cp:lastModifiedBy>
  <dcterms:modified xsi:type="dcterms:W3CDTF">2008-01-29T14:03:00Z</dcterms:modified>
  <cp:revision>6</cp:revision>
  <dc:subject/>
  <dc:title>Diapositiva 1</dc:title>
</cp:coreProperties>
</file>