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20D-96B1-433D-BAC3-942D5D55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1FC-F9FF-48FE-9342-6865C361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B99-7435-40F0-BD9F-4D6CED92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FBC-58EA-469D-8C51-9B579D05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3E2-EC04-4905-A7C1-15498AC3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15A-2418-44F1-9081-1420695F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327-ABAA-43E5-B480-34F944F8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0FE-D013-46D5-9251-6F4B52C3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DF8-F504-472C-9511-14A547DB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75D-2556-4993-8C7C-EF76EB39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171-0E3D-4DB4-9D66-DC69973B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B43-58EE-40B9-94FD-C51E8C9E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6B86-04C9-4DA6-9423-7CE550760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765000"/>
            <a:ext cx="7920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ANTECEDENTES COMUNA DE SANTIAGO (COMUNA CENTR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5184720" cy="4942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84360" y="3068640"/>
            <a:ext cx="64944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1484280"/>
            <a:ext cx="29527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blación comunal en 2002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200.792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royección al 2020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128.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Superficie comun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22,4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Densidad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 8.963 hab/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arques en ribe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r ribera sur del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arque de los Reyes (antiguos Estadio Servicio de Seguro Social  y Parque Centenario de la Independencia de Chi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arque Forestal (antiguos Plaza Venezuela-Parque Recoleta-Parque Forestal Ponien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052640"/>
            <a:ext cx="28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quipo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620640"/>
            <a:ext cx="842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2498760"/>
            <a:ext cx="6769080" cy="320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1125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Espacios Ver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010280" cy="3157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094280"/>
            <a:ext cx="4572000" cy="157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6600" y="12952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rque de Los Rey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x “Parque Centenario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29200" y="4083120"/>
            <a:ext cx="34290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00680" y="170028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3657600" cy="2365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95640" y="5589720"/>
            <a:ext cx="403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lacio de Bellas Artes, sobre el Parque Forestal (existen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974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Antigua laguna artificial parte del parque Forestal, hoy inexist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4330800"/>
            <a:ext cx="36576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73480"/>
            <a:ext cx="7021440" cy="3022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1484280"/>
            <a:ext cx="55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l mercado central histó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791320" cy="246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4708440"/>
            <a:ext cx="5105520" cy="2149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2895840" cy="1995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19920" y="448776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Interior de la ex estación de trenes Mapocho, actual Centro Cultural Mapoc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3505320" cy="1808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3500280"/>
            <a:ext cx="36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Vista del río Mapocho y  “puente-restaurante” próximo a Plaza Baquedano y frente a Parque Forestal (desechos directo al Mapoch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140360" cy="277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15000" y="609588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ío Mapocho y Parque Forestal, frente al centro de Santi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4143240"/>
            <a:ext cx="4140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7871" r="0" b="8726"/>
          <a:stretch/>
        </p:blipFill>
        <p:spPr>
          <a:xfrm>
            <a:off x="0" y="404640"/>
            <a:ext cx="7740720" cy="6021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V="1">
            <a:off x="7236000" y="5445000"/>
            <a:ext cx="6490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64560" y="530064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Pío No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804000" y="4941720"/>
            <a:ext cx="108108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64560" y="4581360"/>
            <a:ext cx="127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Ex vial, teatro “El Puent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084720" y="4292640"/>
            <a:ext cx="180036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35840" y="22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43320" y="4005360"/>
            <a:ext cx="96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Purís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716360" y="3500280"/>
            <a:ext cx="3240360" cy="165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03640" y="256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56720" y="321300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Lore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851280" y="2781000"/>
            <a:ext cx="4033800" cy="20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87840" y="24670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2520" y="1844640"/>
            <a:ext cx="95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Recol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771640" y="1989000"/>
            <a:ext cx="5113440" cy="244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17120" y="2565360"/>
            <a:ext cx="103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Patron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63640" y="907920"/>
            <a:ext cx="6193080" cy="316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91640" y="6922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La Pa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195640" y="1268280"/>
            <a:ext cx="5761080" cy="309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92720" y="1122480"/>
            <a:ext cx="80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P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Los Car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58920" y="549360"/>
            <a:ext cx="6769080" cy="34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28000" y="33336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Pte. P. Hur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10031" r="55523" b="12759"/>
          <a:stretch/>
        </p:blipFill>
        <p:spPr>
          <a:xfrm>
            <a:off x="4211640" y="2421000"/>
            <a:ext cx="4932360" cy="201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0" b="8353"/>
          <a:stretch/>
        </p:blipFill>
        <p:spPr>
          <a:xfrm>
            <a:off x="0" y="836640"/>
            <a:ext cx="9144000" cy="141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0" t="24110" r="0" b="15675"/>
          <a:stretch/>
        </p:blipFill>
        <p:spPr>
          <a:xfrm>
            <a:off x="0" y="465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2600" y="1052640"/>
            <a:ext cx="148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UENTE PIO NONO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2766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2800" y="2565360"/>
            <a:ext cx="133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UENTE PURÍS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920" y="4627440"/>
            <a:ext cx="12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UENTE LORE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08360" y="472428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8360" y="2421000"/>
            <a:ext cx="3311640" cy="204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3880" y="2565360"/>
            <a:ext cx="136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TEATRO EL PU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20:04:39Z</dcterms:created>
  <dc:creator>mpavez</dc:creator>
  <dc:description/>
  <dc:language>en-US</dc:language>
  <cp:lastModifiedBy>mpavez</cp:lastModifiedBy>
  <dcterms:modified xsi:type="dcterms:W3CDTF">2008-01-29T14:03:40Z</dcterms:modified>
  <cp:revision>12</cp:revision>
  <dc:subject/>
  <dc:title>Diapositiva 1</dc:title>
</cp:coreProperties>
</file>