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219-47BD-455E-B9AE-911D965E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02A-5D90-4494-8180-0B01B10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770-C258-471F-8F2F-1B1544A4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E03-AB7C-46AE-9B00-EA0225A0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C56-CE17-42D9-9F95-EAC84ED3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878-7833-4B8E-95BB-685CC4D2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9AA-6574-4D1C-A961-A053FDEA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CE3-173A-46F5-B84A-DA580C2A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B4A-063F-4B52-922F-14E4D87B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D4C-1652-47BB-B32D-378410F1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502-B793-4039-B67C-1EF1F468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4B5-0636-451D-B6E5-234D3F94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6756-EBAA-4A61-BF11-31EAB8C1E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39720"/>
            <a:ext cx="2608200" cy="21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5920"/>
            <a:ext cx="20005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es-ES" sz="800" spc="-1" strike="noStrike">
                <a:solidFill>
                  <a:srgbClr val="000000"/>
                </a:solidFill>
                <a:latin typeface="Arial"/>
              </a:rPr>
              <a:t>Geometría asistida por Computad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sarrollo de mosa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FAU 2008  /  Departamento de  Construcció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Prof: Mirtha Pallares 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Ayud: Elisabeth Ávalos / Benjamín Leyt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447840"/>
            <a:ext cx="8064720" cy="6410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611280" y="134136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611280" y="249228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92428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611280" y="335772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611280" y="386064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29600" cy="449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5157720"/>
            <a:ext cx="8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29600" cy="4314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5229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29600" cy="431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2293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29600" cy="506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734080"/>
            <a:ext cx="115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365040"/>
            <a:ext cx="8964720" cy="6118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4076640"/>
            <a:ext cx="9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3429000"/>
            <a:ext cx="115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00:58:08Z</dcterms:created>
  <dc:creator>benja</dc:creator>
  <dc:description/>
  <dc:language>en-US</dc:language>
  <cp:lastModifiedBy>benja</cp:lastModifiedBy>
  <dcterms:modified xsi:type="dcterms:W3CDTF">2008-04-26T01:32:26Z</dcterms:modified>
  <cp:revision>3</cp:revision>
  <dc:subject/>
  <dc:title>Diapositiva 1</dc:title>
</cp:coreProperties>
</file>