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C9F-579E-4AB2-80D5-CD677EC9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8A1-A76E-4AEA-B082-DB24F83A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E90-F115-4EA4-A733-794AEBDD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771-4737-427C-8869-54115625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CA8-BCF2-451A-AC21-F737A992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019-456D-4CB8-8D43-76A17F0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D36-C729-40DF-B37A-DB9F80D2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689-F1B8-4784-9712-83F28157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F59-235D-4F7D-86B5-1F27E2F3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F03-351C-46F5-BAB8-532CEF8F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AA5-5AC6-4DB8-90C5-70BA2C31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62B-69D8-4CFF-8B41-666CB7D3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44C8-A234-43D6-94B0-A3A9DD667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75232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5120" y="765000"/>
            <a:ext cx="30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*ejercicio califi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72200" y="765000"/>
            <a:ext cx="3620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Ex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eberán diseñar y fabricar un soporte para la transparencia que contiene a la figura orig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Asimismo, deberán desarrollar un indicador que asegure la ubicación del espectador, es decir ‘V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Deberá estar debidamente señalizado el eje EE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5016600" cy="3762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0200" y="193356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3640" y="358920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8720" y="17175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74920" y="315756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6560" y="40942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porte 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07640" y="1285920"/>
            <a:ext cx="86364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4160" y="99684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 figura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867120" y="32778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98720" y="3925800"/>
            <a:ext cx="141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gura homólo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n el p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98560" y="1357200"/>
            <a:ext cx="288720" cy="505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7840" y="925560"/>
            <a:ext cx="178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Punto V anclad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oporte transpa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72200" y="765000"/>
            <a:ext cx="362088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anklin Gothic Medium"/>
              </a:rPr>
              <a:t>Ani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1341360"/>
            <a:ext cx="6985080" cy="45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ea Nº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rea planteada se desarrollará en dos et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a de ellas será calif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ª etapa: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 determinar la homóloga de una forma dada escogida por ustedes que se desarrollará en Sketch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tapa: Gru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seleccionarán, de la primera etapa, algunos trabajos los que serán reproducidos espaci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727" t="0" r="0" b="7546"/>
          <a:stretch/>
        </p:blipFill>
        <p:spPr>
          <a:xfrm>
            <a:off x="0" y="692280"/>
            <a:ext cx="5724360" cy="539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765000"/>
            <a:ext cx="471636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1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da una figura plana, por ejemplo sus mosaicos, deben determinar la figura homóloga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Sketchp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atos del ejercicio deberán estar relacionados con las características del entorno donde será reproducida (lugar por confirm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sos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- Determinar la forma a homol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- Determinar el lugar donde será reproducida la figura homolog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- Establecer las medidas y posición de los datos que definirán la hom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orma a homologar, Eje de homología, Centro de Homología, Recta Límite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635040"/>
            <a:ext cx="3621240" cy="56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Medium"/>
              </a:rPr>
              <a:t>Procedimiento para determinar la forma a homolog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1.- Escoger al menos 5 imágenes para correc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2.- Escoger 3 posibles lugares dentro de la FAU y mandar fo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Franklin Gothic Medium"/>
              </a:rPr>
              <a:t>Subir a U-cursos carpeta de cada alumno con sus alternativas, plazo 11 de julio hasta 18:00hrs</a:t>
            </a: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2.- La alternativa definitiva deberá ser re dibujada en </a:t>
            </a: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sketchpad </a:t>
            </a: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teniendo como límite de dibujo las siguientes dimensiones:</a:t>
            </a:r>
            <a:r>
              <a:rPr b="0" i="1" lang="es-ES" sz="1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27cm de largo x 21cm de anc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(Atención: El tamaño se refiere a la figura original y no al resultado de la homologí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9771" t="17506" r="32439" b="50548"/>
          <a:stretch/>
        </p:blipFill>
        <p:spPr>
          <a:xfrm>
            <a:off x="684360" y="1773360"/>
            <a:ext cx="4363920" cy="338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360" y="1773360"/>
            <a:ext cx="439236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4680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8360" y="1773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5230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0" y="3286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9626" t="26597" r="10747" b="25828"/>
          <a:stretch/>
        </p:blipFill>
        <p:spPr>
          <a:xfrm>
            <a:off x="539640" y="765000"/>
            <a:ext cx="8280360" cy="309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860640"/>
            <a:ext cx="8424720" cy="25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3.- Una vez que tengan inscrita la figura en el formato ‘carta’, deberán realizar la homología teniendo en cuenta estas rel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figura original está apoyada en el plano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se plano está inclinado con respecto a  //’ que será el su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V corresponde al espectador, el cual en ese único punto verá la figura homóloga sin distorsión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76560" y="565452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60920" y="59436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10629" t="3691" r="10629" b="4014"/>
          <a:stretch/>
        </p:blipFill>
        <p:spPr>
          <a:xfrm>
            <a:off x="250920" y="907920"/>
            <a:ext cx="6480000" cy="540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72200" y="765000"/>
            <a:ext cx="362088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Al abatir el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or ej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4.- Para desarrollar la homología determinan  la distancia desde EE’ a L = 120cm; y desde EE’ a V= 155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La recta que contiene a V y el punto A puede ser perpendicular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Si ustedes desean pueden ubicar V en otra posición como lo indica la siguiente  figura (ejemplo en la página siguie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1800" y="357336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924280"/>
            <a:ext cx="0" cy="3313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0629" t="0" r="10629" b="3548"/>
          <a:stretch/>
        </p:blipFill>
        <p:spPr>
          <a:xfrm>
            <a:off x="250920" y="1197000"/>
            <a:ext cx="6480000" cy="4962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2200" y="765000"/>
            <a:ext cx="362088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El segmento VA’ rotado 75º con respecto a E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6745" t="0" r="15876" b="3456"/>
          <a:stretch/>
        </p:blipFill>
        <p:spPr>
          <a:xfrm>
            <a:off x="755640" y="1413000"/>
            <a:ext cx="5545080" cy="4967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72200" y="765000"/>
            <a:ext cx="362088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Medium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"/>
              </a:rPr>
              <a:t>Obtención de la figura homóloga correspondiente a la hoja tamaño c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3600000" y="3824280"/>
            <a:ext cx="2808360" cy="2160360"/>
          </a:xfrm>
          <a:custGeom>
            <a:avLst/>
            <a:gdLst>
              <a:gd name="textAreaLeft" fmla="*/ 702360 w 2808360"/>
              <a:gd name="textAreaRight" fmla="*/ 2106000 w 2808360"/>
              <a:gd name="textAreaTop" fmla="*/ 540360 h 2160360"/>
              <a:gd name="textAreaBottom" fmla="*/ 16200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023" y="21600"/>
                </a:lnTo>
                <a:lnTo>
                  <a:pt x="6577" y="21600"/>
                </a:lnTo>
                <a:close/>
              </a:path>
            </a:pathLst>
          </a:custGeom>
          <a:solidFill>
            <a:srgbClr val="99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15385" r="0" b="11229"/>
          <a:stretch/>
        </p:blipFill>
        <p:spPr>
          <a:xfrm>
            <a:off x="324000" y="1916280"/>
            <a:ext cx="4895640" cy="391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4237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57240" y="63360"/>
            <a:ext cx="34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Universidad de Chile / F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Departamento de Ciencias de la Construcción / </a:t>
            </a:r>
            <a:r>
              <a:rPr b="1" i="1" lang="en-US" sz="1000" spc="-1" strike="noStrike">
                <a:solidFill>
                  <a:srgbClr val="808080"/>
                </a:solidFill>
                <a:latin typeface="Franklin Gothic Medium"/>
              </a:rPr>
              <a:t>Geomet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Mirtha Pallarés / Marcelo Valenzu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Franklin Gothic Medium"/>
              </a:rPr>
              <a:t>Elisabeth Ávalos / Benjamín Ley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85520" y="9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Julio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72200" y="765000"/>
            <a:ext cx="3620880" cy="61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Geometría Proy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Homología de 2ª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Medium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Medium"/>
              </a:rPr>
              <a:t>Una vez desarrollado todo este procedimiento en Sketchpad y obtener una figura similar a la de la izquierda, se escogerán las mejores piezas para pasar a la etapa de representación a ‘escala human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sta aquí todo el proceso se desarrolla en Sketchpa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rmina la primera eta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rega: 4 Ago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ubir archivo en Sketchpad a U-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- Entregar Imagen impresa de la figura homologada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2:22:33Z</dcterms:created>
  <dc:creator>benja</dc:creator>
  <dc:description/>
  <dc:language>en-US</dc:language>
  <cp:lastModifiedBy>benjamin</cp:lastModifiedBy>
  <dcterms:modified xsi:type="dcterms:W3CDTF">2008-07-08T01:47:17Z</dcterms:modified>
  <cp:revision>11</cp:revision>
  <dc:subject/>
  <dc:title>Diapositiva 1</dc:title>
</cp:coreProperties>
</file>