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60D-15E0-440C-8239-FB14B9E1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335-F1C6-4FEE-87C5-52EA132C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925-7312-4974-B75C-FB74150E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3E0-4F0B-44F4-A9A5-316A2959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64E-DF92-4AF7-A287-BE673BE3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9F1-8143-4174-BE67-D7AF71D4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568-0A8B-461C-BA70-53469A8D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DBC-7FF8-43B5-8537-0819CBBF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66E-F520-4244-A047-837CA3C1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F9B-153F-489D-B18A-2406E799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218-D03B-49EC-8298-A79C4C90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0C9-AF23-4433-9172-14A6D77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6432-3E0D-4564-91D0-B09F44D0C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2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SCUELA DE 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TALLER DE 2do AÑO DISEÑO INDUST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ÍTULO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NTEGRANTES: (EN ORDEN ALFABÉTICO X APELLID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ROFESORES: FELIPE ABALLAY M. – REBECCA SILVA 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ANTIAGO, NOVIEMBRE DE 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LANTEAMIENTO D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SCRIPTIVA DE LA SIT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BREVES ENUNCIADOS FUNDAMENTADOS EN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BSERVACIONES  </a:t>
              </a: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ERTINENTES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A LAS DECI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L PROYECT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1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2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3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4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GUIÓ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S ACONSEJABLE PAUTEAR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XPOSICIÓN ORAL CON IN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MPLEMENTARIA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A LA DIAPOSITIVA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REDUNDANTE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. CADA GRUPO DEBE HA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SU “GUIÓN” DE ACUERDO A SU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BREVEMENTE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LO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YA QUE DECIR SOBRE LO CONSTA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N SITU DURANTE LA VISITA, OBSERV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TESTIMONIOS DE LA GENTE DEL LUG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1 -  LÁMINAS 1 Y 2 (LA PARTE SUPERIOR CORRESPONDE A LA DIAPOSITI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O LÁMINA, EL RECUADRO ROJO INFERIOR CORRESPONDE AL “GUIÓN” QUE C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GRUPO DEBERÍA PAUTEAR PARA OPTIMIZAR SU PRESENTACIÓN. EL TIEMPO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EXPOSICIÓN POR EQUIPO </a:t>
            </a:r>
            <a:r>
              <a:rPr b="1" lang="es-CL" sz="1700" spc="-1" strike="noStrike" u="sng">
                <a:solidFill>
                  <a:srgbClr val="000000"/>
                </a:solidFill>
                <a:uFillTx/>
                <a:latin typeface="Arial"/>
              </a:rPr>
              <a:t>NO DEBE EXCEDER LOS 15 MINU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 – LÁMINAS 3 Y 4 (PRESENTACIÓN DE ANTECED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MATERIAL DE APOYO GRÁFICO, ILUSTRATIVO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HERENTE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CON LA SÍNTESIS DESCRIPTIVA PRE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DEALMENTE, RESEÑAR UNA O DOS LÍNEAS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REFUERCEN EL SENTIDO DE LO DICHO PREVIAMEN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IDENTIFICACIÓN DEL PROBL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NUNCIAR EL PROBLEMA QUE 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ORIGEN A LA RES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 GENE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GENE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S ESPECÍFI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ESPECÍFICO 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L MOMENTO DE PRESENT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 MATERIAL DE APOYO VISUAL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BEN EXPLICARSE SÓLO AQUEL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AS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EXPRESAM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MOSTRADAS EN LA IMAGE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PROCURAR EXPLICAR CON NUEST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ROPIAS PALABRAS, Y MU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CINTAMENTE, LOS OBJE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OS Y PUNTUALES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A QUE ASPI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PRO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4000" y="112536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000" y="227808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1280" y="112536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1280" y="227808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 – LÁMINAS 5 (CONCEPTUALIZACIÓN) Y 6 (REPRESENTACIÓN PRELI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5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ESARROLLO DE PROPUESTA FOR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 - CONFIGUR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 - (PRESENT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MODELAMIEN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DEBEN EXPLICARSE DE M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RECTO Y CONCISO LOS CRITE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AJO LOS CUALES FUERON TOM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S DECISIONES PARA LA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ORMAL; SON PREEMINENTEMENTE BOCE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CROQUIS DE ESTUDIO QUE DAN CUENT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EVOLUCIÓN DE LA ID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MUESTRA LA PRIMERA VERSIÓN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O QUE SERÍA EL PRODUCTO TERMI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MO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BJE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(FORMA,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STRUCTURA), PERO NO HAY QUE OLVIDAR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ADA PROPUESTA TIENE UN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SPECÍFICO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Y SÓLO EN ESE CONTEXTO 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ISLUMBRA SU REAL  POTENCI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528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056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8764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056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764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1964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9128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 – LÁMINAS 7 Y 8 (REPRESENTACIÓN TÉCN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7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- PLANIMETR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 ACOTADA Y CON ESCALA GRÁFIC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 – DETALLES CONSTRUC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 – ACOTAD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ESCALA Y MATERIALIDAD INDICAD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ON LA PLANIMETRÍA SE EXPLICA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MENSIONAMIENTO, PARTES O PIEZA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SPOSICIÓN ESPACIAL Y ES EL PREÁMB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LOS TEMAS DE CONSTRUCCIÓN Y/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ABRICACIÓN DEL PRODU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TODO 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LACIONADO A LA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STR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: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TO, VENTAJAS COMPA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FICIENCIA DEL PROCESO, ET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280" y="907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5280" y="2131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RO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56000" y="2133720"/>
              <a:ext cx="165564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TE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9280" y="2133720"/>
              <a:ext cx="4032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VIÑETA MATERIALES EMPLE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RDENADOS POR PREDOMINACIA 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ONFIGURACIÓN DE PIEZA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ATERIAL – DIMENSIONES – CANTIDAD – CO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J: PLETINA Fe – 500x30x3mm – (x3) - $150 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 – LÁMINAS 9 Y 10 (REPRESENTACIÓN DE USO Y CONTEX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8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5 – RELACIONES DE U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ESQUEMAS, CROQUIS U OTRA FORM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PRESENTACIÓN RIGUROSA QUE INVOLUC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L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USUARI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HACIENDO USO DIARIO Y CAS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 COMO ASÍ MISMO VINCUL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SU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MPLAZAMIENTO EN EL LUGAR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6 – IMAGEN DESCRIPTIVA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FOTOMONTAJ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NINGÚN PRODUCTO ESTÁ “EN EL AIRE”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TODOS TIENEN UN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EN SU US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LO DEBE MANIFESTARSE COMO PA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MPORTANTE INTEGRADA AL PROCE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JEMPLO: SI ESTÁ EN EL BAÑO, EL BAÑO DE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BER SIDO ESTUDIADO Y ANALIZ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QUÍ TAMBIÉN SE EXPONEN LOS 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UNCIONALES, ERGONÓMICOS Y COGNITIV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IERRE DE LA PRESEN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UNA BREVE SENTENCIA SOBRE 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SPIRACIONES DEL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8436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59280" y="1052640"/>
              <a:ext cx="194472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43640" y="1773360"/>
              <a:ext cx="237636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9:51:39Z</dcterms:created>
  <dc:creator>Alex Hurtado</dc:creator>
  <dc:description/>
  <dc:language>en-US</dc:language>
  <cp:lastModifiedBy>Alex Hurtado</cp:lastModifiedBy>
  <dcterms:modified xsi:type="dcterms:W3CDTF">2008-10-18T03:46:37Z</dcterms:modified>
  <cp:revision>42</cp:revision>
  <dc:subject/>
  <dc:title>Diapositiva 1</dc:title>
</cp:coreProperties>
</file>