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A680-B166-4FFD-98FB-877CA99E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0BB8-7732-48EA-BCE2-71ADB529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F0F7-7D28-400C-ACAA-46D1B38A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965-CCA7-450F-A2D6-C23C0D03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C397-87D4-48A2-9429-AF92A954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EEB3-8EF7-4352-964E-9FE13C09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102C-B5F4-42AB-A35C-CFA5F62E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5AA3-DF6F-4C7F-886B-899DA6E9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ED27-F053-4E5D-8A43-BC4F6FE8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DACB-EA4A-4481-B0A5-5C96E2E3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9DCD-0764-452C-A716-03F137A6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5C11-C5D1-4BDE-AD40-ADA30CBA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5C2A-1AE3-4EF8-8C6B-9527BEDD7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23746" b="0"/>
          <a:stretch/>
        </p:blipFill>
        <p:spPr>
          <a:xfrm>
            <a:off x="0" y="0"/>
            <a:ext cx="9144000" cy="5006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00720" y="5445000"/>
            <a:ext cx="29527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56360" y="0"/>
            <a:ext cx="237636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59633" b="30656"/>
          <a:stretch/>
        </p:blipFill>
        <p:spPr>
          <a:xfrm>
            <a:off x="1547640" y="260280"/>
            <a:ext cx="6193080" cy="5826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52625" b="24132"/>
          <a:stretch/>
        </p:blipFill>
        <p:spPr>
          <a:xfrm>
            <a:off x="1332000" y="189000"/>
            <a:ext cx="6769080" cy="5937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76360" y="549360"/>
            <a:ext cx="5761080" cy="5321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19370" b="0"/>
          <a:stretch/>
        </p:blipFill>
        <p:spPr>
          <a:xfrm>
            <a:off x="468360" y="189000"/>
            <a:ext cx="8675640" cy="5892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33372" b="5443"/>
          <a:stretch/>
        </p:blipFill>
        <p:spPr>
          <a:xfrm>
            <a:off x="755640" y="260280"/>
            <a:ext cx="7561440" cy="5877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23746" b="0"/>
          <a:stretch/>
        </p:blipFill>
        <p:spPr>
          <a:xfrm>
            <a:off x="539640" y="0"/>
            <a:ext cx="8353440" cy="5999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28126" b="0"/>
          <a:stretch/>
        </p:blipFill>
        <p:spPr>
          <a:xfrm>
            <a:off x="684360" y="115920"/>
            <a:ext cx="7920000" cy="6033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26370" b="0"/>
          <a:stretch/>
        </p:blipFill>
        <p:spPr>
          <a:xfrm>
            <a:off x="539640" y="54000"/>
            <a:ext cx="8136000" cy="6053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1:16:06Z</dcterms:created>
  <dc:creator>benja</dc:creator>
  <dc:description/>
  <dc:language>en-US</dc:language>
  <cp:lastModifiedBy>benja</cp:lastModifiedBy>
  <dcterms:modified xsi:type="dcterms:W3CDTF">2008-04-27T21:25:00Z</dcterms:modified>
  <cp:revision>3</cp:revision>
  <dc:subject/>
  <dc:title>Diapositiva 1</dc:title>
</cp:coreProperties>
</file>