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485-C366-4871-A2CF-131BEA73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1A1-26ED-4448-AF81-AEA97E16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CBD-9B4F-4F22-A8C4-20E9913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734-8EE9-4368-A35D-8129A814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013-CE48-4EC5-BD79-CFD9988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075-31B5-4802-AC7E-11F24C3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D2F-D9F6-488C-ABED-0471C633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6D9-2720-48E0-B890-9F505E5A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DA2-BEDC-4547-A59F-9EDCC811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241-4850-47FF-87E3-FB95D8F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907-AC02-40B6-95E8-025B4C4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1CF-781B-4383-81D9-D1572BFB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296-8250-4601-B9B8-49E2D38F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0" r="52096" b="0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28 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328680"/>
            <a:ext cx="8686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502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645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33509" b="0"/>
          <a:stretch/>
        </p:blipFill>
        <p:spPr>
          <a:xfrm>
            <a:off x="539640" y="189000"/>
            <a:ext cx="684072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49134" b="5844"/>
          <a:stretch/>
        </p:blipFill>
        <p:spPr>
          <a:xfrm>
            <a:off x="468360" y="0"/>
            <a:ext cx="578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7546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229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1748" t="8029" r="16743" b="13059"/>
          <a:stretch/>
        </p:blipFill>
        <p:spPr>
          <a:xfrm>
            <a:off x="539640" y="4762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630" t="253" r="17632" b="0"/>
          <a:stretch/>
        </p:blipFill>
        <p:spPr>
          <a:xfrm>
            <a:off x="539640" y="620640"/>
            <a:ext cx="7632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760" t="0" r="17632" b="0"/>
          <a:stretch/>
        </p:blipFill>
        <p:spPr>
          <a:xfrm>
            <a:off x="611280" y="0"/>
            <a:ext cx="81374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476280"/>
            <a:ext cx="8496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15329"/>
          <a:stretch/>
        </p:blipFill>
        <p:spPr>
          <a:xfrm>
            <a:off x="684360" y="260280"/>
            <a:ext cx="80103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4309" b="16551"/>
          <a:stretch/>
        </p:blipFill>
        <p:spPr>
          <a:xfrm>
            <a:off x="611280" y="189000"/>
            <a:ext cx="83534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9T07:16:31Z</dcterms:modified>
  <cp:revision>6</cp:revision>
  <dc:subject/>
  <dc:title>Diapositiva 1</dc:title>
</cp:coreProperties>
</file>