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E9E-347A-453C-B9B5-A5082C1F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38F-8856-480F-9593-292AECCC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3D4-4720-45AD-ABA6-820DA80E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647-8FDB-466B-B0D5-82D58D3C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328-624B-46A1-9F01-AF69D3BE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4E1-0F29-4F7D-A408-8A0EA11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DEF-07C8-4330-A8E2-9C7E281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EA5-FFED-4154-BD76-C5C47E78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FB3-BD67-4B47-8923-788FD784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B4F-66E4-42D0-851F-11126001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750-8622-4C23-A345-4964AC3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BEE-54FB-4BE2-98FA-2B52986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FE5-0BEB-45BF-B944-F218AE53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2_1" descr=""/>
          <p:cNvPicPr/>
          <p:nvPr/>
        </p:nvPicPr>
        <p:blipFill>
          <a:blip r:embed="rId1"/>
          <a:srcRect l="0" t="16598" r="34201" b="0"/>
          <a:stretch/>
        </p:blipFill>
        <p:spPr>
          <a:xfrm>
            <a:off x="457200" y="0"/>
            <a:ext cx="8686800" cy="574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80880"/>
            <a:ext cx="2057400" cy="20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da la siguiente figura : espiral, generada por una serie de arcos basados en una trama de cuadriláteros, determinar su figura homóloga s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 recta homóloga de NA está a 45º con respecto a EE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CD cuadrado. Sus vértices son centros de arcos FGH; HIJ; JKL; CEF y LMN respectiv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2_2" descr=""/>
          <p:cNvPicPr/>
          <p:nvPr/>
        </p:nvPicPr>
        <p:blipFill>
          <a:blip r:embed="rId1"/>
          <a:srcRect l="0" t="6316" r="18710" b="0"/>
          <a:stretch/>
        </p:blipFill>
        <p:spPr>
          <a:xfrm>
            <a:off x="457200" y="0"/>
            <a:ext cx="8686800" cy="548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380880"/>
            <a:ext cx="167616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ro se determinan los puntos homólogos de la trama que encierra a la espir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2_3" descr=""/>
          <p:cNvPicPr/>
          <p:nvPr/>
        </p:nvPicPr>
        <p:blipFill>
          <a:blip r:embed="rId1"/>
          <a:srcRect l="0" t="8420" r="19770" b="0"/>
          <a:stretch/>
        </p:blipFill>
        <p:spPr>
          <a:xfrm>
            <a:off x="457200" y="0"/>
            <a:ext cx="8686800" cy="5437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533520"/>
            <a:ext cx="228600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ego se unen sus puntos homólogos y se generan los puntos de la espiral que coinciden con las diagonales de los cuadrad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2_4" descr=""/>
          <p:cNvPicPr/>
          <p:nvPr/>
        </p:nvPicPr>
        <p:blipFill>
          <a:blip r:embed="rId1"/>
          <a:srcRect l="1732" t="9474" r="20924" b="0"/>
          <a:stretch/>
        </p:blipFill>
        <p:spPr>
          <a:xfrm>
            <a:off x="457200" y="0"/>
            <a:ext cx="8686800" cy="557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609480"/>
            <a:ext cx="228600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determinan puntos 1,2,3,4,5 pertenecientes a cada uno de los arcos y se homologan tomando como referencia los puntos ABC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homologan rectas A1, C2, B3, D4 y D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jercicio%202_5" descr=""/>
          <p:cNvPicPr/>
          <p:nvPr/>
        </p:nvPicPr>
        <p:blipFill>
          <a:blip r:embed="rId1"/>
          <a:srcRect l="5195" t="0" r="17300" b="0"/>
          <a:stretch/>
        </p:blipFill>
        <p:spPr>
          <a:xfrm>
            <a:off x="609480" y="228600"/>
            <a:ext cx="8534520" cy="506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0948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n Sketchpad muevan el punto V para apreciar la deformación de la figura homólog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7:04:42Z</dcterms:modified>
  <cp:revision>11</cp:revision>
  <dc:subject/>
  <dc:title>Diapositiva 1</dc:title>
</cp:coreProperties>
</file>