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725B-6081-45E3-8BCB-FB673B4A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1B30-6A01-4E61-A691-207E8F18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AB6B-4A67-4C07-A94F-5B2F33D0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A559-91BE-4F7B-B28C-139619CC9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75C1-D1DF-4ADF-988C-5E7E80C90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12F7-0C9D-4A6E-8C5E-F90B0FBB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264-3B19-4B23-B4BD-4D2126F8E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D58-C2E9-4C43-BBA5-56D19265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7C51-DFEA-45ED-88FD-25BE3F7C6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A6E9-E701-4EC1-B045-FD1C4720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AB18-DE23-4ED3-899C-2073860A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136-1271-44C6-AC74-78318CB2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C141-C13F-4462-B251-CC4950961011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 PROYECTOS DE INTEG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1468440"/>
            <a:ext cx="8064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.S. 40 / Proyecto Habitacional de Integración Social (P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yecto que cumpla con las disposiciones del D.S. 40 y D.S. 1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2421000"/>
            <a:ext cx="6408720" cy="3425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diciones espe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ínimo un 30% de viviendas susceptibles de ser adquirida con la aplicación del título I del D.S. 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ínimo un 30% de viviendas susceptibles de ser adquiridas con aplicación del subsidio habitacional que regulan los capítulos I y/o II del D.S. 174 (Construcción Nuevos Terrenos y Adquisición de Vivienda Construi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ue incluya un número no mayor de 150 vivie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 PROYECTOS DE INTEGRACIÓN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1468440"/>
            <a:ext cx="8064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ítulo I D.S. 4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dquisición de viviendas económicas, nuevas o usadas, o a la construcción de viviendas económicas (título I DFL 2 y Art. 162 LGU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ontos máximos de subsidio y ahorro (UF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32000" y="2637000"/>
            <a:ext cx="6408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87280" y="3213000"/>
          <a:ext cx="7056720" cy="909720"/>
        </p:xfrm>
        <a:graphic>
          <a:graphicData uri="http://schemas.openxmlformats.org/drawingml/2006/table">
            <a:tbl>
              <a:tblPr/>
              <a:tblGrid>
                <a:gridCol w="2376720"/>
                <a:gridCol w="1439640"/>
                <a:gridCol w="1584360"/>
                <a:gridCol w="165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mo precio vivien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subsi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o ahor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no integr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ta 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5 – P x 0.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de 1.000 y hasta 2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SIDIOS MINVU EXIST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1319040"/>
            <a:ext cx="8064720" cy="531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.S. 174 / Fondo Solidario de Vivienda (FS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9900"/>
                </a:solidFill>
                <a:latin typeface="Arial"/>
              </a:rPr>
              <a:t>Capítulo I – Fondo Solidario de Vivienda 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hasta primer quin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NT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strucción Nuevos Terrenos (colectiv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dquisición Vivienda Construida (individ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669900"/>
                </a:solidFill>
                <a:latin typeface="Arial"/>
              </a:rPr>
              <a:t>Capítulo II – Fondo Solidario de Vivienda 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Hasta segundo quinti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V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Adquisición Vivienda Construida (individua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9900"/>
                </a:solidFill>
                <a:latin typeface="Arial"/>
              </a:rPr>
              <a:t>Cumplir con cuadro normativo - Superficie total no inferior a 55 m</a:t>
            </a:r>
            <a:r>
              <a:rPr b="1" lang="es-MX" sz="1800" spc="-1" strike="noStrike" baseline="30000">
                <a:solidFill>
                  <a:srgbClr val="6699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Zona de estar – Comedor – Cocina / 2 dormitorios proyectados / 1 b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yecto de ampliación tercer dormito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DRO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1208" t="14564" r="10141" b="10636"/>
          <a:stretch/>
        </p:blipFill>
        <p:spPr>
          <a:xfrm>
            <a:off x="1258920" y="981000"/>
            <a:ext cx="6696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39640" y="476280"/>
            <a:ext cx="8064720" cy="36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DRO NORM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21208" t="18512" r="10141" b="15539"/>
          <a:stretch/>
        </p:blipFill>
        <p:spPr>
          <a:xfrm>
            <a:off x="1332000" y="1125360"/>
            <a:ext cx="6696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7T01:38:06Z</dcterms:created>
  <dc:creator>Angela Silva Santelices</dc:creator>
  <dc:description/>
  <dc:language>en-US</dc:language>
  <cp:lastModifiedBy>jdiaz</cp:lastModifiedBy>
  <dcterms:modified xsi:type="dcterms:W3CDTF">2008-05-05T21:19:09Z</dcterms:modified>
  <cp:revision>14</cp:revision>
  <dc:subject/>
  <dc:title>Diapositiva 1</dc:title>
</cp:coreProperties>
</file>