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7997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592-4D3B-47D1-AAC3-D93F4743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FEC-F6DA-41CF-99A2-E549D5AF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9E8-A42B-4D9D-9812-30414005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840-344A-4581-9D30-8C6E4FD5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DBD-9F86-419C-80ED-C5654B1D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868-9B06-4C90-B56E-DC523A6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1FB-1B14-462E-A2A7-5A2B10D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FBB-7152-4D6F-B167-0D9ABE2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16000"/>
            <a:ext cx="97218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95D-5B02-46B8-8956-331025D9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7B3-F143-4A1C-A03E-C30021D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825-208A-44C5-973D-C5733AA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390-20B2-4129-9846-E827A6D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3000"/>
          </a:bodyPr>
          <a:p>
            <a:pPr marL="286920" indent="-286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2316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959040" indent="-1908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0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4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5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6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5005440"/>
            <a:ext cx="25210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5005440"/>
            <a:ext cx="34192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5005440"/>
            <a:ext cx="252072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38A9E10-8905-46EE-9A86-78AB18ACB54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medidas.jpg"/>
          <p:cNvPicPr/>
          <p:nvPr/>
        </p:nvPicPr>
        <p:blipFill>
          <a:blip r:embed="rId1"/>
          <a:srcRect l="9657" t="2427" r="8332" b="2427"/>
          <a:stretch/>
        </p:blipFill>
        <p:spPr>
          <a:xfrm>
            <a:off x="58680" y="1771560"/>
            <a:ext cx="10580760" cy="30718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328680" y="70020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IGDT"/>
                <a:ea typeface="AIGDT"/>
              </a:rPr>
              <a:t>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Jessica\Mis documentos\Universidad\Taller\puentes\076-03.jpg"/>
          <p:cNvPicPr/>
          <p:nvPr/>
        </p:nvPicPr>
        <p:blipFill>
          <a:blip r:embed="rId1"/>
          <a:stretch/>
        </p:blipFill>
        <p:spPr>
          <a:xfrm>
            <a:off x="8186760" y="4414680"/>
            <a:ext cx="1932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Jessica\Mis documentos\Universidad\Taller\puentes\076-06.jpg"/>
          <p:cNvPicPr/>
          <p:nvPr/>
        </p:nvPicPr>
        <p:blipFill>
          <a:blip r:embed="rId2"/>
          <a:stretch/>
        </p:blipFill>
        <p:spPr>
          <a:xfrm>
            <a:off x="0" y="3843360"/>
            <a:ext cx="196704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Jessica\Mis documentos\Universidad\Taller\puentes\076-09.jpg"/>
          <p:cNvPicPr/>
          <p:nvPr/>
        </p:nvPicPr>
        <p:blipFill>
          <a:blip r:embed="rId3"/>
          <a:stretch/>
        </p:blipFill>
        <p:spPr>
          <a:xfrm>
            <a:off x="4900680" y="4343400"/>
            <a:ext cx="29541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Jessica\Mis documentos\Universidad\Taller\puentes\076-15.jpg"/>
          <p:cNvPicPr/>
          <p:nvPr/>
        </p:nvPicPr>
        <p:blipFill>
          <a:blip r:embed="rId4"/>
          <a:stretch/>
        </p:blipFill>
        <p:spPr>
          <a:xfrm>
            <a:off x="114480" y="200160"/>
            <a:ext cx="218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ssica\Mis documentos\Universidad\Taller\puentes\076-08.jpg"/>
          <p:cNvPicPr/>
          <p:nvPr/>
        </p:nvPicPr>
        <p:blipFill>
          <a:blip r:embed="rId5"/>
          <a:stretch/>
        </p:blipFill>
        <p:spPr>
          <a:xfrm>
            <a:off x="114480" y="1852560"/>
            <a:ext cx="2143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Jessica\Mis documentos\Universidad\Taller\puentes\68.jpg"/>
          <p:cNvPicPr/>
          <p:nvPr/>
        </p:nvPicPr>
        <p:blipFill>
          <a:blip r:embed="rId6"/>
          <a:stretch/>
        </p:blipFill>
        <p:spPr>
          <a:xfrm>
            <a:off x="6900840" y="0"/>
            <a:ext cx="391176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Jessica\Mis documentos\Universidad\Taller\puentes\076-07.jpg"/>
          <p:cNvPicPr/>
          <p:nvPr/>
        </p:nvPicPr>
        <p:blipFill>
          <a:blip r:embed="rId7"/>
          <a:stretch/>
        </p:blipFill>
        <p:spPr>
          <a:xfrm>
            <a:off x="2328840" y="485640"/>
            <a:ext cx="25351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Jessica\Mis documentos\Universidad\Taller\puentes\076-010.jpg"/>
          <p:cNvPicPr/>
          <p:nvPr/>
        </p:nvPicPr>
        <p:blipFill>
          <a:blip r:embed="rId8"/>
          <a:stretch/>
        </p:blipFill>
        <p:spPr>
          <a:xfrm>
            <a:off x="3471840" y="2057400"/>
            <a:ext cx="24019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Jessica\Mis documentos\Universidad\Taller\puentes\076-11.jpg"/>
          <p:cNvPicPr/>
          <p:nvPr/>
        </p:nvPicPr>
        <p:blipFill>
          <a:blip r:embed="rId9"/>
          <a:stretch/>
        </p:blipFill>
        <p:spPr>
          <a:xfrm>
            <a:off x="6900840" y="2343240"/>
            <a:ext cx="3900600" cy="18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Jessica\Mis documentos\Universidad\Taller\puentes\076-02.jpg"/>
          <p:cNvPicPr/>
          <p:nvPr/>
        </p:nvPicPr>
        <p:blipFill>
          <a:blip r:embed="rId10"/>
          <a:stretch/>
        </p:blipFill>
        <p:spPr>
          <a:xfrm>
            <a:off x="2328840" y="3629160"/>
            <a:ext cx="2093760" cy="1546200"/>
          </a:xfrm>
          <a:prstGeom prst="rect">
            <a:avLst/>
          </a:prstGeom>
          <a:ln w="0">
            <a:noFill/>
          </a:ln>
        </p:spPr>
      </p:pic>
      <p:sp>
        <p:nvSpPr>
          <p:cNvPr id="53" name="13 CuadroTexto"/>
          <p:cNvSpPr/>
          <p:nvPr/>
        </p:nvSpPr>
        <p:spPr>
          <a:xfrm>
            <a:off x="4900680" y="557280"/>
            <a:ext cx="192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arela peatonal en Petrer (Españ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me Pinó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Jessica\Mis documentos\Universidad\Taller\puentes\71.jpg"/>
          <p:cNvPicPr/>
          <p:nvPr/>
        </p:nvPicPr>
        <p:blipFill>
          <a:blip r:embed="rId1"/>
          <a:stretch/>
        </p:blipFill>
        <p:spPr>
          <a:xfrm>
            <a:off x="0" y="2809800"/>
            <a:ext cx="40892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Jessica\Mis documentos\Universidad\Taller\puentes\Image30.jpg"/>
          <p:cNvPicPr/>
          <p:nvPr/>
        </p:nvPicPr>
        <p:blipFill>
          <a:blip r:embed="rId2"/>
          <a:stretch/>
        </p:blipFill>
        <p:spPr>
          <a:xfrm>
            <a:off x="5910120" y="2021040"/>
            <a:ext cx="4891320" cy="337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Jessica\Mis documentos\Universidad\Taller\puentes\passerelle solferino.jpg"/>
          <p:cNvPicPr/>
          <p:nvPr/>
        </p:nvPicPr>
        <p:blipFill>
          <a:blip r:embed="rId3"/>
          <a:stretch/>
        </p:blipFill>
        <p:spPr>
          <a:xfrm>
            <a:off x="0" y="0"/>
            <a:ext cx="10801440" cy="2021040"/>
          </a:xfrm>
          <a:prstGeom prst="rect">
            <a:avLst/>
          </a:prstGeom>
          <a:ln w="0">
            <a:noFill/>
          </a:ln>
        </p:spPr>
      </p:pic>
      <p:sp>
        <p:nvSpPr>
          <p:cNvPr id="57" name="13 CuadroTexto"/>
          <p:cNvSpPr/>
          <p:nvPr/>
        </p:nvSpPr>
        <p:spPr>
          <a:xfrm>
            <a:off x="0" y="2052720"/>
            <a:ext cx="3887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serelle Solferino (París, Franc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arc Mim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3379680" cy="504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21640" y="108000"/>
            <a:ext cx="3835080" cy="5113440"/>
          </a:xfrm>
          <a:prstGeom prst="rect">
            <a:avLst/>
          </a:prstGeom>
          <a:ln w="0">
            <a:noFill/>
          </a:ln>
        </p:spPr>
      </p:pic>
      <p:sp>
        <p:nvSpPr>
          <p:cNvPr id="60" name="13 CuadroTexto"/>
          <p:cNvSpPr/>
          <p:nvPr/>
        </p:nvSpPr>
        <p:spPr>
          <a:xfrm>
            <a:off x="3529080" y="252360"/>
            <a:ext cx="19429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ambla de Mar  Barcello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Viaplana - Pi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3 CuadroTexto"/>
          <p:cNvSpPr/>
          <p:nvPr/>
        </p:nvSpPr>
        <p:spPr>
          <a:xfrm>
            <a:off x="5184720" y="3852720"/>
            <a:ext cx="38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illeniumBrid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ond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ve Arup &amp;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6192720" cy="502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359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393876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32360" y="108000"/>
            <a:ext cx="482436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0" r="1492" b="0"/>
          <a:stretch/>
        </p:blipFill>
        <p:spPr>
          <a:xfrm>
            <a:off x="5829480" y="2844720"/>
            <a:ext cx="482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6:35Z</dcterms:created>
  <dc:creator> </dc:creator>
  <dc:description/>
  <dc:language>en-US</dc:language>
  <cp:lastModifiedBy>C Saldaña</cp:lastModifiedBy>
  <dcterms:modified xsi:type="dcterms:W3CDTF">2007-05-08T21:09:43Z</dcterms:modified>
  <cp:revision>4</cp:revision>
  <dc:subject/>
  <dc:title>Diapositiva 1</dc:title>
</cp:coreProperties>
</file>