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2E1-C99D-48D1-9FF5-E8A3439D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A32-CCE2-4CC5-846F-8A1859A3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2C-68A4-42C9-A5A3-DE697932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144-4FF7-43D3-A972-2EBCE1DC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00AB-B0B9-4359-825D-EC04DE85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2E4-8E0F-4271-9E07-ED17A73E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1E0B-B504-46E5-8481-658153C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B9D-B71C-4AF7-B6A0-949334A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3E3-64E9-44E7-8C53-6DB30D0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59E0-1C28-46B9-8419-4D5F4EC6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FD6C-245E-48AB-8C36-BA6213E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799-6B7D-40F0-8B41-BBE41445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4EDE-D319-47EB-A27B-EB30FB3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9DE-BE26-4114-B27F-BE79ECF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3446-876A-41E3-A9D6-76E9EDE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A26-A822-471D-9E9D-BE0BA273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E02F-1700-4A86-88C6-126FF140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C3C-9422-4529-BCED-976CD9E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72E-91D6-4C50-AC45-B2AFE4E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7A0-4450-49CF-A353-81D7A96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CB6-3ED4-4F0D-96E4-06CB6A09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0E3-5719-4000-98BC-71462146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BC8-6687-4D30-9918-B2D9DDD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D9E-0552-40D3-B18D-BC048F5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D9EC-6CC3-4174-93C4-10A797ECA8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E26-250E-44F0-9C88-A994BBB99C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761760"/>
            <a:ext cx="6697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grama de Matemática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rera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60465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ivel: Primer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esoras:  Lily Altimira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. Eugenia Humere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 Ayud.: Cristián Escobedo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10684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684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I: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primitivas . Integral in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ropiedades de la integral indefin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 Fórmulas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es inmedi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ción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la constante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 definida: Teorema fundamental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álculo integ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al cálculo de á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97384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981000"/>
            <a:ext cx="76201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 pruebas parciales anuales (2 por cada semestre)     con ponderaciones de un  15%, 20%, 25% y 25%, respectiv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lleres de Matemáticas Calificados ( no        recuperables) .El promedio de ellos tendrá un 15% de ponde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término de cada semestre se tomará una    Prueba Recuperativa a aquellos alumnos que por    razones justificadas no hayan rendido una y sólo    una de las 2 pruebas pa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40692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s de Prueb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1 : Miércoles 29 de Abril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2 : Miércoles 24de Junio (2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3 : Miércoles 09 de Sept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4 : Miércoles 11 de Nov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1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 Ju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2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8 N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4535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WOKOWSKI Álgebra y Trigonometría con Geometr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nalítica, Editorial Lati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HMANN CHARLES Geometría Analítica,  Editorial Hispa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Cálculo con Geometría Analítica, 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Matemáticas Previas al Cálculo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EWART  Cálcul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Editorial Thom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ARSON / HOSTETLER Cálculo con Geometría Analítica,  Editorial McGraw-Hil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 la Geometría Analítica. Apunte Docente; Autor Lily Altim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327640" cy="10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1800" y="198864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r una formación científica básica al futuro profesional y las herramientas necesarias e indispensables para desarrollar la capacidad de razonamiento lógico deductivo e induc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Presentación de la Asign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tura anual de carácter obligatorio inserta en la categoría de Ciencias Básicas que pretende entregar al alumno una formación científica y los conocimientos y herramientas necesarios e indispensables para desarrollar la capacidad de razonamiento lógico inductivo y deductivo, sirviendo de base a las otras asignaturas del currículo de la carrera, a través de la Geometría y el Cálc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5320" y="304920"/>
            <a:ext cx="62658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Unidades Programática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4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    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   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I  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V  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   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I  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4818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s Por Un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: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azones trigonométricas directas e inver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solución de triángulos rectángul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c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: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de di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ivisión de un segmento en una razón d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endiente y ángulo de incl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dición de paralelismo y perpendicu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línea rect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circunferenci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ónicas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I: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roducción a las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función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ominio y recorrido de una fun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de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in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mportamiento de una función en un interv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écnicas de gra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ipos de funciones reales: constante, linea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com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V: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intuitivo de límite desde el p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vista gráfico y ana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lím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ímites algebraicos. Asíntotas verticale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rizo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ones continuas y dis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asificación de dis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: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rpretación geométrica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ctas tangente y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de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gla de la cad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rivadas de orden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5:35:51Z</dcterms:created>
  <dc:creator>Daniel Alvarado</dc:creator>
  <dc:description/>
  <dc:language>en-US</dc:language>
  <cp:lastModifiedBy>mhumeres</cp:lastModifiedBy>
  <dcterms:modified xsi:type="dcterms:W3CDTF">2009-03-11T11:09:43Z</dcterms:modified>
  <cp:revision>24</cp:revision>
  <dc:subject/>
  <dc:title>Programa de Matemáticas Carrera de Diseño</dc:title>
</cp:coreProperties>
</file>