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0A9-E2AE-4884-ABD2-B97899F5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052-D948-4124-86E9-A6D928FC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633-27D9-46FA-895C-26F160D6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1AD-1FEA-4850-9B65-DBDC8522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2C2-AF51-4334-9DC5-B6C19F71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85C-17D7-4CF1-8D13-FEE33767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59B-DD73-4B2A-80AE-7C938119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C9A-4A50-4820-91A1-D4D30BE4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8DF-0E3A-4441-8502-F3041A67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ECF-58DF-4A40-B627-95A1ADD5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9D4-EE1D-41DA-A868-6F97D4EF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EC0-B08E-44F6-938D-F4535A25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FECB-0022-418D-BD1F-B022A09CE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838080"/>
            <a:ext cx="5456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CURSO</a:t>
            </a:r>
            <a:br>
              <a:rPr sz="4400"/>
            </a:b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ESTRUCTURAS III</a:t>
            </a:r>
            <a:br>
              <a:rPr sz="4400"/>
            </a:br>
            <a:br>
              <a:rPr sz="4400"/>
            </a:br>
            <a:r>
              <a:rPr b="1" lang="es-ES_tradnl" sz="3200" spc="-1" strike="noStrike">
                <a:solidFill>
                  <a:srgbClr val="3366ff"/>
                </a:solidFill>
                <a:latin typeface="Arial Black"/>
              </a:rPr>
              <a:t>UNIDAD II</a:t>
            </a:r>
            <a:br>
              <a:rPr sz="3200"/>
            </a:br>
            <a:r>
              <a:rPr b="1" lang="es-ES_tradnl" sz="3200" spc="-1" strike="noStrike">
                <a:solidFill>
                  <a:srgbClr val="3366ff"/>
                </a:solidFill>
                <a:latin typeface="Arial Black"/>
              </a:rPr>
              <a:t>SUELOS Y FUNDACION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5720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OFESOR: LEOPOLDO DOMINICH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AYUDANTE: NADIA TRONC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0120" y="1682640"/>
                <a:ext cx="5033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0,8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2,5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2954160"/>
                <a:ext cx="46987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145040" y="2286000"/>
                <a:ext cx="1950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073400" y="3701880"/>
                <a:ext cx="4154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138560" y="4498920"/>
                <a:ext cx="4929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CAN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kg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114800" y="5229360"/>
                <a:ext cx="4676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524480" y="1371600"/>
                <a:ext cx="1425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08640" y="3159000"/>
                <a:ext cx="3797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13320" y="2209680"/>
                <a:ext cx="3668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kg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545000" y="3809880"/>
                <a:ext cx="216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29160" y="4343400"/>
                <a:ext cx="2328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028840" y="4876560"/>
            <a:ext cx="2971800" cy="914760"/>
            <a:chOff x="5028840" y="4876560"/>
            <a:chExt cx="2971800" cy="914760"/>
          </a:xfrm>
        </p:grpSpPr>
        <p:sp>
          <p:nvSpPr>
            <p:cNvPr id="292" name=""/>
            <p:cNvSpPr/>
            <p:nvPr/>
          </p:nvSpPr>
          <p:spPr>
            <a:xfrm flipV="1">
              <a:off x="58672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181480" y="487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848720" y="4876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028840" y="5257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2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-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686480" y="1357200"/>
                <a:ext cx="1928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800600" y="2270160"/>
                <a:ext cx="1803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028840" y="4876560"/>
            <a:ext cx="2971800" cy="914760"/>
            <a:chOff x="5028840" y="4876560"/>
            <a:chExt cx="2971800" cy="914760"/>
          </a:xfrm>
        </p:grpSpPr>
        <p:sp>
          <p:nvSpPr>
            <p:cNvPr id="329" name=""/>
            <p:cNvSpPr/>
            <p:nvPr/>
          </p:nvSpPr>
          <p:spPr>
            <a:xfrm flipV="1">
              <a:off x="58672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181480" y="487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848720" y="4876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028840" y="5257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-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08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181480" y="914400"/>
            <a:ext cx="2590920" cy="3505320"/>
            <a:chOff x="5181480" y="914400"/>
            <a:chExt cx="2590920" cy="3505320"/>
          </a:xfrm>
        </p:grpSpPr>
        <p:sp>
          <p:nvSpPr>
            <p:cNvPr id="336" name=""/>
            <p:cNvSpPr/>
            <p:nvPr/>
          </p:nvSpPr>
          <p:spPr>
            <a:xfrm>
              <a:off x="5867280" y="1523880"/>
              <a:ext cx="1219320" cy="609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21337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81480" y="2133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8672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866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7712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5943240" y="13716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914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14479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13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7086600" y="2666880"/>
              <a:ext cx="609480" cy="1708920"/>
              <a:chOff x="7086600" y="2666880"/>
              <a:chExt cx="609480" cy="1708920"/>
            </a:xfrm>
          </p:grpSpPr>
          <p:sp>
            <p:nvSpPr>
              <p:cNvPr id="347" name=""/>
              <p:cNvSpPr/>
              <p:nvPr/>
            </p:nvSpPr>
            <p:spPr>
              <a:xfrm>
                <a:off x="7467480" y="2666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86600" y="403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019920" y="2254320"/>
              <a:ext cx="1600200" cy="717480"/>
              <a:chOff x="6019920" y="2254320"/>
              <a:chExt cx="1600200" cy="717480"/>
            </a:xfrm>
          </p:grpSpPr>
          <p:sp>
            <p:nvSpPr>
              <p:cNvPr id="350" name=""/>
              <p:cNvSpPr/>
              <p:nvPr/>
            </p:nvSpPr>
            <p:spPr>
              <a:xfrm>
                <a:off x="6248520" y="2286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19920" y="25146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82040" y="22543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10800000">
              <a:off x="6248520" y="2743200"/>
              <a:ext cx="1218960" cy="45720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86400" y="2438280"/>
              <a:ext cx="762120" cy="3049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629400" y="3048120"/>
              <a:ext cx="838080" cy="761760"/>
              <a:chOff x="6629400" y="3048120"/>
              <a:chExt cx="838080" cy="761760"/>
            </a:xfrm>
          </p:grpSpPr>
          <p:sp>
            <p:nvSpPr>
              <p:cNvPr id="356" name=""/>
              <p:cNvSpPr/>
              <p:nvPr/>
            </p:nvSpPr>
            <p:spPr>
              <a:xfrm flipV="1" rot="16200000">
                <a:off x="6780960" y="327672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2940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24480" y="2743200"/>
              <a:ext cx="1371600" cy="1632600"/>
              <a:chOff x="6324480" y="2743200"/>
              <a:chExt cx="1371600" cy="16326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24480" y="3962520"/>
                <a:ext cx="1371600" cy="413280"/>
                <a:chOff x="6324480" y="3962520"/>
                <a:chExt cx="1371600" cy="4132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324480" y="396252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05720" y="403848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162920" y="2743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520" y="4571640"/>
            <a:ext cx="4343400" cy="1600200"/>
            <a:chOff x="533520" y="4571640"/>
            <a:chExt cx="4343400" cy="1600200"/>
          </a:xfrm>
        </p:grpSpPr>
        <p:sp>
          <p:nvSpPr>
            <p:cNvPr id="365" name=""/>
            <p:cNvSpPr/>
            <p:nvPr/>
          </p:nvSpPr>
          <p:spPr>
            <a:xfrm>
              <a:off x="533520" y="51195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3920" y="5638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218960" y="4571640"/>
              <a:ext cx="2971800" cy="1600200"/>
              <a:chOff x="1218960" y="4571640"/>
              <a:chExt cx="2971800" cy="1600200"/>
            </a:xfrm>
          </p:grpSpPr>
          <p:sp>
            <p:nvSpPr>
              <p:cNvPr id="368" name=""/>
              <p:cNvSpPr/>
              <p:nvPr/>
            </p:nvSpPr>
            <p:spPr>
              <a:xfrm>
                <a:off x="1371600" y="5486400"/>
                <a:ext cx="266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0800000">
                <a:off x="2057400" y="5486040"/>
                <a:ext cx="1981440" cy="68580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71600" y="5257800"/>
                <a:ext cx="685800" cy="2286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2057400" y="45720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371600" y="45716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038840" y="457200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1218960" y="4952880"/>
                <a:ext cx="29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19320" y="457200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50-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590920" y="457200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5867280" y="914400"/>
            <a:ext cx="2590920" cy="3505320"/>
            <a:chOff x="5867280" y="914400"/>
            <a:chExt cx="2590920" cy="3505320"/>
          </a:xfrm>
        </p:grpSpPr>
        <p:sp>
          <p:nvSpPr>
            <p:cNvPr id="378" name=""/>
            <p:cNvSpPr/>
            <p:nvPr/>
          </p:nvSpPr>
          <p:spPr>
            <a:xfrm>
              <a:off x="6553080" y="1523880"/>
              <a:ext cx="1219320" cy="609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2200" y="21337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67280" y="2133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5530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7724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292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6629040" y="13716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8880" y="914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53080" y="14479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7772400" y="2666880"/>
              <a:ext cx="609480" cy="1708920"/>
              <a:chOff x="7772400" y="2666880"/>
              <a:chExt cx="609480" cy="1708920"/>
            </a:xfrm>
          </p:grpSpPr>
          <p:sp>
            <p:nvSpPr>
              <p:cNvPr id="389" name=""/>
              <p:cNvSpPr/>
              <p:nvPr/>
            </p:nvSpPr>
            <p:spPr>
              <a:xfrm>
                <a:off x="8153280" y="2666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72400" y="403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705720" y="2254320"/>
              <a:ext cx="1600200" cy="717480"/>
              <a:chOff x="6705720" y="2254320"/>
              <a:chExt cx="1600200" cy="717480"/>
            </a:xfrm>
          </p:grpSpPr>
          <p:sp>
            <p:nvSpPr>
              <p:cNvPr id="392" name=""/>
              <p:cNvSpPr/>
              <p:nvPr/>
            </p:nvSpPr>
            <p:spPr>
              <a:xfrm>
                <a:off x="6934320" y="2286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25146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467840" y="22543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rot="10800000">
              <a:off x="6934320" y="2743200"/>
              <a:ext cx="1218960" cy="45720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2200" y="2438280"/>
              <a:ext cx="762120" cy="3049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7315200" y="3048120"/>
              <a:ext cx="838080" cy="761760"/>
              <a:chOff x="7315200" y="3048120"/>
              <a:chExt cx="838080" cy="761760"/>
            </a:xfrm>
          </p:grpSpPr>
          <p:sp>
            <p:nvSpPr>
              <p:cNvPr id="398" name=""/>
              <p:cNvSpPr/>
              <p:nvPr/>
            </p:nvSpPr>
            <p:spPr>
              <a:xfrm flipV="1" rot="16200000">
                <a:off x="7466760" y="327672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1520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010280" y="2743200"/>
              <a:ext cx="1371600" cy="1632600"/>
              <a:chOff x="7010280" y="2743200"/>
              <a:chExt cx="1371600" cy="163260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7010280" y="3962520"/>
                <a:ext cx="1371600" cy="413280"/>
                <a:chOff x="7010280" y="3962520"/>
                <a:chExt cx="1371600" cy="4132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010280" y="396252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391520" y="403848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7848720" y="2743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428840" y="1131840"/>
                <a:ext cx="21589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28840" y="1660680"/>
                <a:ext cx="20336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/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428840" y="2173320"/>
                <a:ext cx="27669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428840" y="2651040"/>
                <a:ext cx="1614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428840" y="3174840"/>
                <a:ext cx="37526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428840" y="3718080"/>
                <a:ext cx="2997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>
                      <m:rPr>
                        <m:lit/>
                        <m:nor/>
                      </m:rPr>
                      <m:t xml:space="preserve">kgc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952880" y="4724280"/>
            <a:ext cx="3429000" cy="1371600"/>
            <a:chOff x="4952880" y="4724280"/>
            <a:chExt cx="3429000" cy="1371600"/>
          </a:xfrm>
        </p:grpSpPr>
        <p:sp>
          <p:nvSpPr>
            <p:cNvPr id="412" name=""/>
            <p:cNvSpPr/>
            <p:nvPr/>
          </p:nvSpPr>
          <p:spPr>
            <a:xfrm>
              <a:off x="617184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19560" y="48765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2924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4876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5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71840" y="5333760"/>
              <a:ext cx="2057400" cy="609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790600" y="5333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790600" y="5943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43240" y="51814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52880" y="54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4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53080" y="5562360"/>
              <a:ext cx="1295280" cy="152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724280" y="1600200"/>
            <a:ext cx="3584520" cy="1057320"/>
            <a:chOff x="4724280" y="1600200"/>
            <a:chExt cx="3584520" cy="1057320"/>
          </a:xfrm>
        </p:grpSpPr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5290920" y="1600200"/>
                  <a:ext cx="23256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SPUESTA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OLCANT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4724280" y="2260800"/>
                  <a:ext cx="35845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65</m:t>
                      </m:r>
                      <m:r>
                        <m:rPr>
                          <m:lit/>
                          <m:nor/>
                        </m:rPr>
                        <m:t xml:space="preserve">kgcm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14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0</m:t>
                      </m:r>
                      <m:r>
                        <m:rPr>
                          <m:lit/>
                          <m:nor/>
                        </m:rPr>
                        <m:t xml:space="preserve">kgc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JERCICIO Nº1 FU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6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0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137160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valúe si el </a:t>
            </a: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Momen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Respuesta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 mayor que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Momento Volcante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terminando si la Fun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ta en equilibrio o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80880" y="380880"/>
            <a:ext cx="8001000" cy="5524200"/>
            <a:chOff x="-380880" y="380880"/>
            <a:chExt cx="8001000" cy="5524200"/>
          </a:xfrm>
        </p:grpSpPr>
        <p:sp>
          <p:nvSpPr>
            <p:cNvPr id="44" name=""/>
            <p:cNvSpPr/>
            <p:nvPr/>
          </p:nvSpPr>
          <p:spPr>
            <a:xfrm>
              <a:off x="-380880" y="380880"/>
              <a:ext cx="80010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      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FUNDACION CORRI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3960" y="1215000"/>
              <a:ext cx="3983400" cy="45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042720" y="1586160"/>
              <a:ext cx="367920" cy="113832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0840" y="5637600"/>
              <a:ext cx="125136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7040" y="5268960"/>
              <a:ext cx="33868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12560" y="533484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504960" y="2286000"/>
            <a:ext cx="5374080" cy="4264200"/>
            <a:chOff x="3504960" y="2286000"/>
            <a:chExt cx="5374080" cy="4264200"/>
          </a:xfrm>
        </p:grpSpPr>
        <p:grpSp>
          <p:nvGrpSpPr>
            <p:cNvPr id="51" name=""/>
            <p:cNvGrpSpPr/>
            <p:nvPr/>
          </p:nvGrpSpPr>
          <p:grpSpPr>
            <a:xfrm>
              <a:off x="4952880" y="2700360"/>
              <a:ext cx="3926160" cy="3849840"/>
              <a:chOff x="4952880" y="2700360"/>
              <a:chExt cx="3926160" cy="3849840"/>
            </a:xfrm>
          </p:grpSpPr>
          <p:pic>
            <p:nvPicPr>
              <p:cNvPr id="52" name="fund5b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2880" y="2700360"/>
                <a:ext cx="39261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095880" y="5734080"/>
                <a:ext cx="236232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019920" y="5734080"/>
                <a:ext cx="2438280" cy="816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Arial Black"/>
                  </a:rPr>
                  <a:t>Sección A - A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ff"/>
                    </a:solidFill>
                    <a:latin typeface="Arial"/>
                  </a:rPr>
                  <a:t>Fundación Céntr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 flipH="1" flipV="1">
              <a:off x="3504960" y="2286000"/>
              <a:ext cx="2895480" cy="123840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48520" y="228600"/>
            <a:ext cx="2666880" cy="2266200"/>
            <a:chOff x="6248520" y="228600"/>
            <a:chExt cx="2666880" cy="2266200"/>
          </a:xfrm>
        </p:grpSpPr>
        <p:pic>
          <p:nvPicPr>
            <p:cNvPr id="57" name="fund5d%20copy" descr=""/>
            <p:cNvPicPr/>
            <p:nvPr/>
          </p:nvPicPr>
          <p:blipFill>
            <a:blip r:embed="rId3"/>
            <a:srcRect l="0" t="0" r="0" b="20489"/>
            <a:stretch/>
          </p:blipFill>
          <p:spPr>
            <a:xfrm>
              <a:off x="6248520" y="228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380880" y="380880"/>
            <a:ext cx="8001000" cy="5524560"/>
            <a:chOff x="-380880" y="380880"/>
            <a:chExt cx="8001000" cy="5524560"/>
          </a:xfrm>
        </p:grpSpPr>
        <p:sp>
          <p:nvSpPr>
            <p:cNvPr id="60" name=""/>
            <p:cNvSpPr/>
            <p:nvPr/>
          </p:nvSpPr>
          <p:spPr>
            <a:xfrm>
              <a:off x="-380880" y="380880"/>
              <a:ext cx="80010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      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FUNDACION CORRI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4680" y="1216080"/>
              <a:ext cx="3983040" cy="45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5400000">
              <a:off x="1466640" y="2139840"/>
              <a:ext cx="393480" cy="129564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0120" y="5637240"/>
              <a:ext cx="125244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7040" y="5268960"/>
              <a:ext cx="338760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12920" y="533556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438280" y="2629080"/>
            <a:ext cx="6553440" cy="4195440"/>
            <a:chOff x="2438280" y="2629080"/>
            <a:chExt cx="6553440" cy="4195440"/>
          </a:xfrm>
        </p:grpSpPr>
        <p:pic>
          <p:nvPicPr>
            <p:cNvPr id="67" name="fund5c" descr=""/>
            <p:cNvPicPr/>
            <p:nvPr/>
          </p:nvPicPr>
          <p:blipFill>
            <a:blip r:embed="rId2"/>
            <a:stretch/>
          </p:blipFill>
          <p:spPr>
            <a:xfrm>
              <a:off x="5105520" y="2629080"/>
              <a:ext cx="3886200" cy="36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5880" y="5734080"/>
              <a:ext cx="2362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9920" y="5734080"/>
              <a:ext cx="2438280" cy="109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Black"/>
                </a:rPr>
                <a:t>Sección B - 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Fundación Excén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2438280" y="2819160"/>
              <a:ext cx="3810240" cy="68580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48520" y="228600"/>
            <a:ext cx="2666880" cy="2266200"/>
            <a:chOff x="6248520" y="228600"/>
            <a:chExt cx="2666880" cy="2266200"/>
          </a:xfrm>
        </p:grpSpPr>
        <p:pic>
          <p:nvPicPr>
            <p:cNvPr id="72" name="fund5d%20copy" descr=""/>
            <p:cNvPicPr/>
            <p:nvPr/>
          </p:nvPicPr>
          <p:blipFill>
            <a:blip r:embed="rId3"/>
            <a:srcRect l="0" t="0" r="0" b="20489"/>
            <a:stretch/>
          </p:blipFill>
          <p:spPr>
            <a:xfrm>
              <a:off x="6248520" y="228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380880" y="380880"/>
            <a:ext cx="80010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FUNDACION CORR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4680" y="1216080"/>
            <a:ext cx="5529240" cy="4689360"/>
            <a:chOff x="274680" y="1216080"/>
            <a:chExt cx="5529240" cy="4689360"/>
          </a:xfrm>
        </p:grpSpPr>
        <p:pic>
          <p:nvPicPr>
            <p:cNvPr id="76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4680" y="1216080"/>
              <a:ext cx="3983040" cy="45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09960" y="3822840"/>
              <a:ext cx="368280" cy="113796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0120" y="5637240"/>
              <a:ext cx="125244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7040" y="5268960"/>
              <a:ext cx="338760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2920" y="533556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504960" y="2362320"/>
            <a:ext cx="5107320" cy="4187880"/>
            <a:chOff x="3504960" y="2362320"/>
            <a:chExt cx="5107320" cy="4187880"/>
          </a:xfrm>
        </p:grpSpPr>
        <p:pic>
          <p:nvPicPr>
            <p:cNvPr id="82" name="fund5f" descr=""/>
            <p:cNvPicPr/>
            <p:nvPr/>
          </p:nvPicPr>
          <p:blipFill>
            <a:blip r:embed="rId2"/>
            <a:stretch/>
          </p:blipFill>
          <p:spPr>
            <a:xfrm>
              <a:off x="5486400" y="2362320"/>
              <a:ext cx="31258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095880" y="5734080"/>
              <a:ext cx="2362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5734080"/>
              <a:ext cx="2438280" cy="816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Black"/>
                </a:rPr>
                <a:t>Sección C - C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Fundación Cén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504960" y="3524400"/>
              <a:ext cx="2895480" cy="74268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348240" y="76320"/>
            <a:ext cx="2719440" cy="2418480"/>
            <a:chOff x="6348240" y="76320"/>
            <a:chExt cx="2719440" cy="2418480"/>
          </a:xfrm>
        </p:grpSpPr>
        <p:pic>
          <p:nvPicPr>
            <p:cNvPr id="87" name="fund5e" descr=""/>
            <p:cNvPicPr/>
            <p:nvPr/>
          </p:nvPicPr>
          <p:blipFill>
            <a:blip r:embed="rId3"/>
            <a:srcRect l="0" t="0" r="0" b="18928"/>
            <a:stretch/>
          </p:blipFill>
          <p:spPr>
            <a:xfrm>
              <a:off x="6348240" y="76320"/>
              <a:ext cx="27194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029200" y="2819160"/>
            <a:ext cx="2590920" cy="1219320"/>
            <a:chOff x="5029200" y="2819160"/>
            <a:chExt cx="2590920" cy="1219320"/>
          </a:xfrm>
        </p:grpSpPr>
        <p:sp>
          <p:nvSpPr>
            <p:cNvPr id="90" name=""/>
            <p:cNvSpPr/>
            <p:nvPr/>
          </p:nvSpPr>
          <p:spPr>
            <a:xfrm>
              <a:off x="5715000" y="2819520"/>
              <a:ext cx="121932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342900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29200" y="34290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1500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93432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00600" y="762120"/>
            <a:ext cx="2666880" cy="1371600"/>
            <a:chOff x="4800600" y="762120"/>
            <a:chExt cx="2666880" cy="1371600"/>
          </a:xfrm>
        </p:grpSpPr>
        <p:sp>
          <p:nvSpPr>
            <p:cNvPr id="96" name=""/>
            <p:cNvSpPr/>
            <p:nvPr/>
          </p:nvSpPr>
          <p:spPr>
            <a:xfrm>
              <a:off x="6019920" y="762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0600" y="1447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4120" y="137196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1600560"/>
              <a:ext cx="129528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952520" y="1371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1219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952520" y="1981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4120" y="914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11433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15200" y="914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86000" y="1600200"/>
            <a:ext cx="121932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-7632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724280"/>
            <a:ext cx="6781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= Flexocompresión o Flexión Com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 = Carga Normal Total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(incluido peso propio funda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 = Área de contacto de la fundación con el terre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 = Momento de volcamiento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(en la base de la fundación).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W = Momento resistente de la sección de contact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600" y="1143000"/>
            <a:ext cx="990720" cy="609480"/>
            <a:chOff x="1371600" y="1143000"/>
            <a:chExt cx="990720" cy="609480"/>
          </a:xfrm>
        </p:grpSpPr>
        <p:sp>
          <p:nvSpPr>
            <p:cNvPr id="111" name=""/>
            <p:cNvSpPr/>
            <p:nvPr/>
          </p:nvSpPr>
          <p:spPr>
            <a:xfrm>
              <a:off x="1371600" y="14475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1143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 Black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742840" y="685800"/>
            <a:ext cx="1067040" cy="914400"/>
            <a:chOff x="2742840" y="685800"/>
            <a:chExt cx="1067040" cy="914400"/>
          </a:xfrm>
        </p:grpSpPr>
        <p:sp>
          <p:nvSpPr>
            <p:cNvPr id="114" name=""/>
            <p:cNvSpPr/>
            <p:nvPr/>
          </p:nvSpPr>
          <p:spPr>
            <a:xfrm rot="5400000">
              <a:off x="2437920" y="990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685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 Black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71840" y="2209680"/>
            <a:ext cx="1067040" cy="1143000"/>
            <a:chOff x="6171840" y="2209680"/>
            <a:chExt cx="1067040" cy="1143000"/>
          </a:xfrm>
        </p:grpSpPr>
        <p:sp>
          <p:nvSpPr>
            <p:cNvPr id="117" name=""/>
            <p:cNvSpPr/>
            <p:nvPr/>
          </p:nvSpPr>
          <p:spPr>
            <a:xfrm rot="5400000">
              <a:off x="5790960" y="266688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2209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 Black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638680" y="2514600"/>
            <a:ext cx="1143000" cy="1295280"/>
            <a:chOff x="5638680" y="2514600"/>
            <a:chExt cx="1143000" cy="1295280"/>
          </a:xfrm>
        </p:grpSpPr>
        <p:sp>
          <p:nvSpPr>
            <p:cNvPr id="120" name=""/>
            <p:cNvSpPr/>
            <p:nvPr/>
          </p:nvSpPr>
          <p:spPr>
            <a:xfrm>
              <a:off x="5715000" y="2743200"/>
              <a:ext cx="1066680" cy="10666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2514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62720" y="3962520"/>
            <a:ext cx="2514600" cy="1320840"/>
            <a:chOff x="5562720" y="3962520"/>
            <a:chExt cx="2514600" cy="1320840"/>
          </a:xfrm>
        </p:grpSpPr>
        <p:sp>
          <p:nvSpPr>
            <p:cNvPr id="123" name=""/>
            <p:cNvSpPr/>
            <p:nvPr/>
          </p:nvSpPr>
          <p:spPr>
            <a:xfrm>
              <a:off x="5562720" y="39625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13760" y="44578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2971800"/>
            <a:ext cx="990360" cy="609480"/>
            <a:chOff x="4419720" y="2971800"/>
            <a:chExt cx="990360" cy="609480"/>
          </a:xfrm>
        </p:grpSpPr>
        <p:sp>
          <p:nvSpPr>
            <p:cNvPr id="126" name=""/>
            <p:cNvSpPr/>
            <p:nvPr/>
          </p:nvSpPr>
          <p:spPr>
            <a:xfrm>
              <a:off x="4419720" y="3276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0" y="2971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 Black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124080"/>
            <a:ext cx="7467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Suponiendo una distribución uniforme de las tensiones sobre el terreno y un comportamiento totalmente elástico de éste, se establecen las siguientes condi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191120"/>
            <a:ext cx="7467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Que las tensiones  en el punto más cargado no sea super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 la tensión admi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l terreno no admite tr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66880" y="1447920"/>
            <a:ext cx="3124440" cy="1214640"/>
            <a:chOff x="2666880" y="1447920"/>
            <a:chExt cx="3124440" cy="1214640"/>
          </a:xfrm>
        </p:grpSpPr>
        <p:sp>
          <p:nvSpPr>
            <p:cNvPr id="132" name=""/>
            <p:cNvSpPr/>
            <p:nvPr/>
          </p:nvSpPr>
          <p:spPr>
            <a:xfrm>
              <a:off x="2666880" y="1447920"/>
              <a:ext cx="3124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2081160"/>
              <a:ext cx="16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57400" y="5029200"/>
            <a:ext cx="594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está en equilibrio, siemp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que no pase de la tensión limi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ctr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644480"/>
            <a:ext cx="7619760" cy="3080880"/>
            <a:chOff x="990720" y="1644480"/>
            <a:chExt cx="7619760" cy="3080880"/>
          </a:xfrm>
        </p:grpSpPr>
        <p:grpSp>
          <p:nvGrpSpPr>
            <p:cNvPr id="136" name=""/>
            <p:cNvGrpSpPr/>
            <p:nvPr/>
          </p:nvGrpSpPr>
          <p:grpSpPr>
            <a:xfrm>
              <a:off x="3505320" y="3320640"/>
              <a:ext cx="1828800" cy="761760"/>
              <a:chOff x="3505320" y="3320640"/>
              <a:chExt cx="1828800" cy="7617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505320" y="3320640"/>
                <a:ext cx="1828800" cy="761760"/>
                <a:chOff x="3505320" y="3320640"/>
                <a:chExt cx="1828800" cy="7617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05320" y="3320640"/>
                  <a:ext cx="914400" cy="3808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0800000">
                  <a:off x="4419720" y="3701520"/>
                  <a:ext cx="914400" cy="3808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flipH="1" flipV="1">
                <a:off x="4419360" y="3701160"/>
                <a:ext cx="52236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971800" y="2939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3701880"/>
              <a:ext cx="1827000" cy="547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4311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0600" y="4097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248520" y="3854160"/>
              <a:ext cx="2361960" cy="871200"/>
              <a:chOff x="6248520" y="3854160"/>
              <a:chExt cx="2361960" cy="871200"/>
            </a:xfrm>
          </p:grpSpPr>
          <p:sp>
            <p:nvSpPr>
              <p:cNvPr id="146" name=""/>
              <p:cNvSpPr/>
              <p:nvPr/>
            </p:nvSpPr>
            <p:spPr>
              <a:xfrm rot="10800000">
                <a:off x="6248520" y="3854160"/>
                <a:ext cx="1828800" cy="4572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082760"/>
                <a:ext cx="152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(+) Compres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0800000">
              <a:off x="6248520" y="3625200"/>
              <a:ext cx="18288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1644480"/>
              <a:ext cx="205740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70188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8120" y="3549240"/>
              <a:ext cx="380880" cy="38124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791320" y="3625560"/>
              <a:ext cx="304560" cy="228600"/>
              <a:chOff x="5791320" y="3625560"/>
              <a:chExt cx="304560" cy="228600"/>
            </a:xfrm>
          </p:grpSpPr>
          <p:sp>
            <p:nvSpPr>
              <p:cNvPr id="153" name=""/>
              <p:cNvSpPr/>
              <p:nvPr/>
            </p:nvSpPr>
            <p:spPr>
              <a:xfrm>
                <a:off x="5791320" y="362556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91320" y="377784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57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181480"/>
            <a:ext cx="7848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está en equilibrio, Es el caso límit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ya que se está al borde de la aparición de la tr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6477120" y="3657240"/>
            <a:ext cx="1828800" cy="7621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4159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Com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05320" y="3321000"/>
            <a:ext cx="1828800" cy="761760"/>
            <a:chOff x="3505320" y="3321000"/>
            <a:chExt cx="1828800" cy="761760"/>
          </a:xfrm>
        </p:grpSpPr>
        <p:grpSp>
          <p:nvGrpSpPr>
            <p:cNvPr id="164" name=""/>
            <p:cNvGrpSpPr/>
            <p:nvPr/>
          </p:nvGrpSpPr>
          <p:grpSpPr>
            <a:xfrm>
              <a:off x="3505320" y="3321000"/>
              <a:ext cx="1828800" cy="761760"/>
              <a:chOff x="3505320" y="3321000"/>
              <a:chExt cx="1828800" cy="761760"/>
            </a:xfrm>
          </p:grpSpPr>
          <p:sp>
            <p:nvSpPr>
              <p:cNvPr id="165" name=""/>
              <p:cNvSpPr/>
              <p:nvPr/>
            </p:nvSpPr>
            <p:spPr>
              <a:xfrm>
                <a:off x="3505320" y="332100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0800000">
                <a:off x="4419720" y="370188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4419360" y="3701520"/>
              <a:ext cx="52236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971800" y="2940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701880"/>
            <a:ext cx="1827000" cy="5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31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097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549600"/>
            <a:ext cx="380880" cy="380880"/>
          </a:xfrm>
          <a:prstGeom prst="plus">
            <a:avLst>
              <a:gd name="adj" fmla="val 388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791320" y="3625920"/>
            <a:ext cx="304560" cy="228600"/>
            <a:chOff x="5791320" y="3625920"/>
            <a:chExt cx="304560" cy="228600"/>
          </a:xfrm>
        </p:grpSpPr>
        <p:sp>
          <p:nvSpPr>
            <p:cNvPr id="174" name=""/>
            <p:cNvSpPr/>
            <p:nvPr/>
          </p:nvSpPr>
          <p:spPr>
            <a:xfrm>
              <a:off x="5791320" y="362592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377820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77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50292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no está en equilibrio, porque el terre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no  tiene capacidad de responder ante las tracciones.</a:t>
            </a:r>
            <a:r>
              <a:rPr b="0" lang="es-ES_tradnl" sz="22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550"/>
              </a:spcBef>
              <a:buClr>
                <a:srgbClr val="333399"/>
              </a:buClr>
              <a:buSzPct val="120000"/>
              <a:buFont typeface="Times New Roman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3352680"/>
            <a:ext cx="457200" cy="152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934320" y="3505320"/>
            <a:ext cx="1371600" cy="3808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3886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Com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29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T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05320" y="3200400"/>
            <a:ext cx="1828800" cy="761760"/>
            <a:chOff x="3505320" y="3200400"/>
            <a:chExt cx="1828800" cy="761760"/>
          </a:xfrm>
        </p:grpSpPr>
        <p:grpSp>
          <p:nvGrpSpPr>
            <p:cNvPr id="186" name=""/>
            <p:cNvGrpSpPr/>
            <p:nvPr/>
          </p:nvGrpSpPr>
          <p:grpSpPr>
            <a:xfrm>
              <a:off x="3505320" y="3200400"/>
              <a:ext cx="1828800" cy="761760"/>
              <a:chOff x="3505320" y="3200400"/>
              <a:chExt cx="1828800" cy="761760"/>
            </a:xfrm>
          </p:grpSpPr>
          <p:sp>
            <p:nvSpPr>
              <p:cNvPr id="187" name=""/>
              <p:cNvSpPr/>
              <p:nvPr/>
            </p:nvSpPr>
            <p:spPr>
              <a:xfrm>
                <a:off x="3505320" y="320040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4419720" y="358128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 flipH="1" flipV="1">
              <a:off x="4419360" y="3580920"/>
              <a:ext cx="52236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971800" y="281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581280"/>
            <a:ext cx="1827000" cy="5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976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3429000"/>
            <a:ext cx="380880" cy="380880"/>
          </a:xfrm>
          <a:prstGeom prst="plus">
            <a:avLst>
              <a:gd name="adj" fmla="val 388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791320" y="3505320"/>
            <a:ext cx="304560" cy="228600"/>
            <a:chOff x="5791320" y="3505320"/>
            <a:chExt cx="304560" cy="228600"/>
          </a:xfrm>
        </p:grpSpPr>
        <p:sp>
          <p:nvSpPr>
            <p:cNvPr id="196" name=""/>
            <p:cNvSpPr/>
            <p:nvPr/>
          </p:nvSpPr>
          <p:spPr>
            <a:xfrm>
              <a:off x="5791320" y="350532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365760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99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22:43:29Z</dcterms:created>
  <dc:creator>Loreto</dc:creator>
  <dc:description/>
  <dc:language>en-US</dc:language>
  <cp:lastModifiedBy>portatiluad</cp:lastModifiedBy>
  <dcterms:modified xsi:type="dcterms:W3CDTF">2009-10-05T12:39:10Z</dcterms:modified>
  <cp:revision>5</cp:revision>
  <dc:subject/>
  <dc:title>Presentación de PowerPoint</dc:title>
</cp:coreProperties>
</file>