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8BE-856D-4D4B-BB20-AB8F277D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FB5-8B99-4595-B8BF-9CB29BE7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E02-F553-4B6C-B8D9-1ABA7693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739-1CD0-41D2-8151-E7FD44A0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F0F-E101-4EA3-9D8A-570175E9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7A4-8D47-46A3-9885-BDFD667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125-141D-4905-8323-D48B00F5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1B3-8AC0-4DF2-8D80-74668030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BEB-F994-443C-BE83-0CC6C7C2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522-B1EC-4B23-AD5C-EFFCF5C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A52-7963-48D5-92BC-39028E52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490-4CEB-4E13-8F51-8E51327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0825-D744-4DD4-8A2B-5558B55E6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concursocasacentral.uchilefau.cl/video1.htm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0" y="-7308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ALLER SUHRCKE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_ LICENCIATURA SEGUNDO SEMEST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24000" y="167328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ONOGRAF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59680" y="65214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14_09_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000" y="11592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odegas en La Ri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laceres"/>
          <p:cNvPicPr/>
          <p:nvPr/>
        </p:nvPicPr>
        <p:blipFill>
          <a:blip r:embed="rId1"/>
          <a:stretch/>
        </p:blipFill>
        <p:spPr>
          <a:xfrm>
            <a:off x="755640" y="981000"/>
            <a:ext cx="3095640" cy="201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2924280"/>
            <a:ext cx="35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FRANK GHERY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Marqués de Riscal (Elciego, Álav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laceres"/>
          <p:cNvPicPr/>
          <p:nvPr/>
        </p:nvPicPr>
        <p:blipFill>
          <a:blip r:embed="rId2"/>
          <a:stretch/>
        </p:blipFill>
        <p:spPr>
          <a:xfrm>
            <a:off x="5076720" y="981000"/>
            <a:ext cx="3095640" cy="201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Placeres"/>
          <p:cNvPicPr/>
          <p:nvPr/>
        </p:nvPicPr>
        <p:blipFill>
          <a:blip r:embed="rId3"/>
          <a:stretch/>
        </p:blipFill>
        <p:spPr>
          <a:xfrm>
            <a:off x="755640" y="3973680"/>
            <a:ext cx="3095640" cy="20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laceres"/>
          <p:cNvPicPr/>
          <p:nvPr/>
        </p:nvPicPr>
        <p:blipFill>
          <a:blip r:embed="rId4"/>
          <a:stretch/>
        </p:blipFill>
        <p:spPr>
          <a:xfrm>
            <a:off x="5076720" y="3973680"/>
            <a:ext cx="3095640" cy="201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71960" y="2924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Chivite (Señorío de Arínzano, Navarr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913360"/>
            <a:ext cx="35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ESÚS MANZANARES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Álvaro Palacios (Gratallops, Tarragon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71960" y="5913360"/>
            <a:ext cx="384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OSÉ LUIS SOTA, JAIME GAZTELU y ANA FERNÁNDEZ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Señorío de Otazu (Echauri, Navarr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9719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Museo del Prado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8920" y="1159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os Museos del Eje del P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92428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Thyss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91336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EAN NOUVEL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 Museo Reina Sofí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913360"/>
            <a:ext cx="3848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ACQUES HERZOG Y PIERRE DE MEURON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CaixaForú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Ampliación del Museo Thyssen Bornemisza, junto a la fachada del Palacio de Villahermosa"/>
          <p:cNvPicPr/>
          <p:nvPr/>
        </p:nvPicPr>
        <p:blipFill>
          <a:blip r:embed="rId1"/>
          <a:srcRect l="0" t="0" r="0" b="2612"/>
          <a:stretch/>
        </p:blipFill>
        <p:spPr>
          <a:xfrm>
            <a:off x="755640" y="98100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Ampliación del Museo del Prado"/>
          <p:cNvPicPr/>
          <p:nvPr/>
        </p:nvPicPr>
        <p:blipFill>
          <a:blip r:embed="rId2"/>
          <a:stretch/>
        </p:blipFill>
        <p:spPr>
          <a:xfrm>
            <a:off x="5076720" y="981000"/>
            <a:ext cx="3095640" cy="198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Ampliación del Museo Nacional Centro de Arte Reina Sofía"/>
          <p:cNvPicPr/>
          <p:nvPr/>
        </p:nvPicPr>
        <p:blipFill>
          <a:blip r:embed="rId3"/>
          <a:srcRect l="0" t="0" r="0" b="2697"/>
          <a:stretch/>
        </p:blipFill>
        <p:spPr>
          <a:xfrm>
            <a:off x="755640" y="3981600"/>
            <a:ext cx="3095640" cy="199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simbiosisgroup.net/wp-content/uploads/2008/02/26.jpg"/>
          <p:cNvPicPr/>
          <p:nvPr/>
        </p:nvPicPr>
        <p:blipFill>
          <a:blip r:embed="rId4"/>
          <a:stretch/>
        </p:blipFill>
        <p:spPr>
          <a:xfrm>
            <a:off x="5084640" y="39798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971960" y="2924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CARLO SCARPA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di Castelvecch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924280"/>
            <a:ext cx="35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Museo Nacional de Arte Romano de Mér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91336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NORMAN FOSTER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 Reichst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71960" y="5913360"/>
            <a:ext cx="3632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ODRIGO CHAURIYE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Restauración y Rehabilitación Casa Central U. de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Planta principal del Teatro Romano de Mérida"/>
          <p:cNvPicPr/>
          <p:nvPr/>
        </p:nvPicPr>
        <p:blipFill>
          <a:blip r:embed="rId1"/>
          <a:stretch/>
        </p:blipFill>
        <p:spPr>
          <a:xfrm>
            <a:off x="755640" y="981000"/>
            <a:ext cx="2521080" cy="201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farm1.static.flickr.com/8/11427195_18ddc317a3.jpg?v=0"/>
          <p:cNvPicPr/>
          <p:nvPr/>
        </p:nvPicPr>
        <p:blipFill>
          <a:blip r:embed="rId2"/>
          <a:stretch/>
        </p:blipFill>
        <p:spPr>
          <a:xfrm>
            <a:off x="5076720" y="981000"/>
            <a:ext cx="1824120" cy="20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http://www.berlin-info.de/deutsch/sights/big/reichstag_kuppel.jpg"/>
          <p:cNvPicPr/>
          <p:nvPr/>
        </p:nvPicPr>
        <p:blipFill>
          <a:blip r:embed="rId3"/>
          <a:stretch/>
        </p:blipFill>
        <p:spPr>
          <a:xfrm>
            <a:off x="755640" y="3986280"/>
            <a:ext cx="301932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Ver Vide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9718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719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GAE AULENTI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Gar’d Or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924520"/>
            <a:ext cx="3600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Estación de Atoc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GAE AULENTI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Palacio Alfonso XI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http://idisk.mac.com/aanino/Public/Paris/Orsay/orsay_int_01.jpg"/>
          <p:cNvPicPr/>
          <p:nvPr/>
        </p:nvPicPr>
        <p:blipFill>
          <a:blip r:embed="rId1"/>
          <a:stretch/>
        </p:blipFill>
        <p:spPr>
          <a:xfrm>
            <a:off x="5076720" y="981000"/>
            <a:ext cx="2664000" cy="199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4200" y="1000080"/>
            <a:ext cx="3024000" cy="2022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71960" y="5913360"/>
            <a:ext cx="3632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ORDI GARCÉS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Pica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http://www.arquitectura.com/arquitectura/inter/obras/cultura/garces/picasso/picasso_302.jpg"/>
          <p:cNvPicPr/>
          <p:nvPr/>
        </p:nvPicPr>
        <p:blipFill>
          <a:blip r:embed="rId3"/>
          <a:stretch/>
        </p:blipFill>
        <p:spPr>
          <a:xfrm>
            <a:off x="5076720" y="3965400"/>
            <a:ext cx="3024360" cy="203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faculty-staff.ou.edu/L/A-Robert.R.Lauer-1/atocha"/>
          <p:cNvPicPr/>
          <p:nvPr/>
        </p:nvPicPr>
        <p:blipFill>
          <a:blip r:embed="rId4"/>
          <a:stretch/>
        </p:blipFill>
        <p:spPr>
          <a:xfrm>
            <a:off x="770040" y="3976560"/>
            <a:ext cx="27129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1:25:49Z</dcterms:created>
  <dc:creator>WinuE</dc:creator>
  <dc:description/>
  <dc:language>en-US</dc:language>
  <cp:lastModifiedBy>WinuE</cp:lastModifiedBy>
  <dcterms:modified xsi:type="dcterms:W3CDTF">2009-09-17T00:44:20Z</dcterms:modified>
  <cp:revision>12</cp:revision>
  <dc:subject/>
  <dc:title>Diapositiva 1</dc:title>
</cp:coreProperties>
</file>