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047-4A0F-4A82-9349-743CF6DA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D2F-C67E-4222-AA76-00655BA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D3C-5880-46FF-B810-6DDE97FF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43B-223F-426C-8577-1B5A0054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715-7E50-4B2B-8406-1E5C98E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087-1E1A-4AC6-A292-4D5F5C2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F5A-3697-4CC2-974C-27B86CE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29D-E4ED-4B8F-955D-9E2C17D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C50-495F-42B4-8387-9CF09B8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69F-D5A2-4A77-ACD3-91E6F75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252-8F30-4D1E-B818-2F0337E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BC6-3852-4CE7-B153-CE2A67C4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50B-ED24-41EE-B930-4966351AE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09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VALUACIÓN y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76280"/>
            <a:ext cx="8459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quipamiento y servic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fic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duc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Bod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e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económ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Estructura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aracterización de los 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iclo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odo de trans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ecio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Ocasión de adquis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ultado después del ejerc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8900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a particularidad del negocio inmobiliar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360" y="189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Variables que inciden en la preparación de proyectos inmobil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mer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La demand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l consumidor inmobil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produc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logía de costos asociados a la financiación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y ocurrencia de ingresos en la comercialización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Velocidad de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Marco Jurídico y fiscal que regula la producción inmobil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4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empresarial de la producción inmobil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Constru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arco legal de las Empresas Inmobili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Tipo de impuestos y 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fecto de los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lanificación tribu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mercialización de Productos Inmobiliar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v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odelo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Alternativas de financiamiento 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tipologías de productos inmobili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os modelos de ingresos de venta y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las estrategias de marketing asociadas al tipo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Financiación y riesgo asociado a la producción inmobilia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683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aracterización de las fuentes de financiamiento públicas y priv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Identificación de otras fuentes de financi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Sensibilización de las oportunidades de 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Márgenes de certidu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Relación riesgo - 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Construcción de flujos de caja y criterios de 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683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ructura del flujo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Flujo de caja del inversion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timación del períod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Periodificación de los egresos e ingresos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terminación del costo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Definición de la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Criterio de indicadores, VAN, TI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Comic Sans MS"/>
              </a:rPr>
              <a:t>Escena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218268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Técnic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que tiene por objeto apoyar a la toma de decisiones mediante la determinación de la conveniencia o inconveniencia de asignar recursos a una 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8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evalu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125360"/>
            <a:ext cx="84247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Herramienta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apoyo a la toma de decisiones que recopila, ordena y analiza un conjunto de antecedentes económicos que permiten juzgar cualitativa y cuantitativamente las ventajas o desventajas de asignar recursos a una inici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3844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Comic Sans MS"/>
              </a:rPr>
              <a:t>Estudio y Análisis</a:t>
            </a: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de todos y cada uno los antecedentes necesarios que permitan formular un proyecto a fin de ser eval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842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qué es la preparación de proyect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9479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a de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o la respuesta mas o menos pensada a una necesidad humana buscando solucionar un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Genesis de la Idea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Aprovechar una oportunidad de negoc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scubrir un espacio de a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360" y="1947960"/>
            <a:ext cx="882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opuesta de desarrollo de una idea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en que el bien ofertado corresponde a un espacio habitable para el desarrollo de diferentes fun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 qué es un proyecto inmobiliario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9479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Identificación del proyecto </a:t>
            </a:r>
            <a:r>
              <a:rPr b="0" lang="es-CL" sz="3600" spc="-1" strike="noStrike">
                <a:solidFill>
                  <a:srgbClr val="ffffcc"/>
                </a:solidFill>
                <a:latin typeface="Comic Sans MS"/>
              </a:rPr>
              <a:t>de manera que se pueda caracterizar en forma única en sus variables más rele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62712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tección de particular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9280" y="2852640"/>
            <a:ext cx="84247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l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nálisis cuanti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360" y="62712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¿Como enfrentar la idea de un proyec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724040"/>
            <a:ext cx="84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Residenci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Primer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Segunda vivi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Lot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620640"/>
                <a:tab algn="l" pos="89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Arrend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064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842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Comic Sans MS"/>
              </a:rPr>
              <a:t>Definición de productos inmobiliari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9:51:41Z</dcterms:created>
  <dc:creator>Unidad de Computacion</dc:creator>
  <dc:description/>
  <dc:language>en-US</dc:language>
  <cp:lastModifiedBy>mepallares</cp:lastModifiedBy>
  <dcterms:modified xsi:type="dcterms:W3CDTF">2010-04-01T12:41:43Z</dcterms:modified>
  <cp:revision>12</cp:revision>
  <dc:subject/>
  <dc:title>Diapositiva 1</dc:title>
</cp:coreProperties>
</file>