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2F88-D700-4905-A394-D55DB2A8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345C-3F3C-4FE0-9928-29120EA4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29D0-79B7-487B-812B-5671D739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9CB3-6BB2-471F-9B13-7E92388A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A6B5-6ED0-40E1-9AB6-EABC2EA5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F489-BF02-4758-814D-802E977B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03E2-C2C8-4B3F-A859-57C201AB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75E7-6E9A-4CD3-BB49-E19DD3BF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0752-DC3C-49D2-BBCE-56767B42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8468-A219-4513-8E05-0741A89B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E76E-BE23-43F3-8C99-E18B3544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42B8-8A9A-40A5-B3AF-5B91B83B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CE3E-2710-40DE-ACDF-084BE2800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09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VALUACIÓN y PREPARACIÓN DE PROYECTOS INMOBILIA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9080" y="476280"/>
            <a:ext cx="8459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quipamiento y servici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omer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Ofici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Indus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Sal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duc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Bode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onse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907920"/>
            <a:ext cx="8459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structura económ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structura financi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aracterización de los act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iclo de la p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Modo de transfer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Precio del produ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Ocasión de adquis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Resultado después del ejerc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89000"/>
            <a:ext cx="727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La particularidad del negocio inmobiliari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4360" y="189000"/>
            <a:ext cx="882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Variables que inciden en la preparación de proyectos inmobilia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55736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structura del merc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La demanda inmobili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l consumidor inmobil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Tipología de costos asociados a la producción inmobili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Tipología de costos asociados a la financiación inmobili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Tipo y ocurrencia de ingresos en la comercialización de productos inmobili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Velocidad de v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Marco Jurídico y fiscal que regula la producción inmobili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2412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Caracterización empresarial de la producción inmobili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arco legal de las Empresas Construct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arco legal de las Empresas Inmobili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Tipo de impuestos y 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fecto de los im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Planificación tribu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omercialización de Productos Inmobiliari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55736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odelo de ven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odelo d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Alternativas de financiamiento a la dem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Caracterización de las tipologías de productos inmobili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Identificación de los modelos de ingresos de venta y d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Identificación de las estrategias de marketing asociadas al tipo de 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Financiación y riesgo asociado a la producción inmobiliar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76832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Caracterización de las fuentes de financiamiento públicas y privad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Identificación de otras fuentes de financi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Sensibilización de las oportunidades de finan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árgenes de certidu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Relación riesgo - ren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onstrucción de flujos de caja y criterios de evalu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76832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structura del flujo de c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Flujo de caja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Flujo de caja del inversion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stimación del período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Periodificación de los egresos e ingresos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Determinación del costo del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Definición de la tasa de descu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Criterio de indicadores, VAN, TIR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scenar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5280" y="2182680"/>
            <a:ext cx="8748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cc"/>
                </a:solidFill>
                <a:latin typeface="Comic Sans MS"/>
              </a:rPr>
              <a:t>Técnica</a:t>
            </a: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 que tiene por objeto apoyar a la toma de decisiones mediante la determinación de la conveniencia o inconveniencia de asignar recursos a una activ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842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qué es la evaluación de proyect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1125360"/>
            <a:ext cx="842472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cc"/>
                </a:solidFill>
                <a:latin typeface="Comic Sans MS"/>
              </a:rPr>
              <a:t>Herramienta</a:t>
            </a: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 de apoyo a la toma de decisiones que recopila, ordena y analiza un conjunto de antecedentes económicos que permiten juzgar cualitativa y cuantitativamente las ventajas o desventajas de asignar recursos a una inici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2638440"/>
            <a:ext cx="8748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cc"/>
                </a:solidFill>
                <a:latin typeface="Comic Sans MS"/>
              </a:rPr>
              <a:t>Estudio y Análisis</a:t>
            </a: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 de todos y cada uno los antecedentes necesarios que permitan formular un proyecto a fin de ser evalua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8420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qué es la preparación de proyect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360" y="1947960"/>
            <a:ext cx="882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Idea de proyecto </a:t>
            </a: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o la respuesta mas o menos pensada a una necesidad humana buscando solucionar un probl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Genesis de la Idea</a:t>
            </a: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Aprovechar una oportunidad de negoc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Descubrir un espacio de a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360" y="62712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 qué es un proyecto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360" y="1947960"/>
            <a:ext cx="882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Propuesta de desarrollo de una idea </a:t>
            </a: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en que el bien ofertado corresponde a un espacio habitable para el desarrollo de diferentes func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360" y="62712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 qué es un proyecto inmobiliario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194796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Identificación del proyecto </a:t>
            </a: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de manera que se pueda caracterizar en forma única en sus variables más relev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360" y="62712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Detección de particulari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19280" y="2852640"/>
            <a:ext cx="842472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Análisis cualita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Análisis cuanti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360" y="627120"/>
            <a:ext cx="88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Como enfrentar la idea de un proyect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1724040"/>
            <a:ext cx="8459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Residenci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Primera vivi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Segunda vivi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Lote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Arrendami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8420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Definición de productos inmobiliari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19:51:41Z</dcterms:created>
  <dc:creator>Unidad de Computacion</dc:creator>
  <dc:description/>
  <dc:language>en-US</dc:language>
  <cp:lastModifiedBy>mepallares</cp:lastModifiedBy>
  <dcterms:modified xsi:type="dcterms:W3CDTF">2010-04-01T12:41:43Z</dcterms:modified>
  <cp:revision>12</cp:revision>
  <dc:subject/>
  <dc:title>Diapositiva 1</dc:title>
</cp:coreProperties>
</file>