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6A4A-A917-4275-BC7E-C79832ED8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B17B-D835-4A77-AA61-6F9740DB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FD69-B0EC-4E4F-9F3A-C4FFB17A3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D8B5-40D9-4EFC-A8AC-A15F5555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5E7A-C749-4BB2-8D9A-C3AB0F7D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FCDD-08C6-4601-A87F-4AF595C0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1923-E0C6-4561-BFAE-A3E05714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2F28-87FC-4666-AEC7-B9DE1821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C777-3AA9-4946-9198-A4AA8512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411D-0B1D-43AA-BAA8-516B1EE0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7BD4-EB3C-400B-8734-FE5B11D4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F8FD-9D1D-497D-8F88-BE149150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604A-B2F4-40A0-AD17-7969C18ED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ortada" descr=""/>
          <p:cNvPicPr/>
          <p:nvPr/>
        </p:nvPicPr>
        <p:blipFill>
          <a:blip r:embed="rId1"/>
          <a:stretch/>
        </p:blipFill>
        <p:spPr>
          <a:xfrm>
            <a:off x="762120" y="868320"/>
            <a:ext cx="8076960" cy="5427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522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ACION DEL TABL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El%20soporte%20básico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5362560" cy="3614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268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SOPOR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20574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ro melami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2286000"/>
            <a:ext cx="1524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2743200"/>
            <a:ext cx="12956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2514600"/>
            <a:ext cx="2286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297180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762120" y="22860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762120" y="25146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762120" y="27432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762120" y="29718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ja de dibuj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5146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ja de apoy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27432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pel adhesiv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4572000"/>
            <a:ext cx="590400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tre el tablero y la hoja de dibujo se recomienda colocar un pliego de papel hilado para minimizar las deficiencias en el dibujo por causa de las irregularidades de la superficie del tabl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 papel adhesivo (cinta de enmascarar) evita que la hoja se desplace de manera imprevista y se perjudique el dibuj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ortada" descr=""/>
          <p:cNvPicPr/>
          <p:nvPr/>
        </p:nvPicPr>
        <p:blipFill>
          <a:blip r:embed="rId1"/>
          <a:srcRect l="11143" t="8450" r="7825" b="8637"/>
          <a:stretch/>
        </p:blipFill>
        <p:spPr>
          <a:xfrm>
            <a:off x="2971800" y="1295280"/>
            <a:ext cx="6095880" cy="4191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1268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REGLAS Y ESCUAD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5021280"/>
            <a:ext cx="590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emás de estos tres elementos, se requiere de una regla graduada (mm), y eventualmente un transportador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9051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adra 30º/60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52680" y="2133720"/>
            <a:ext cx="2819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362320"/>
            <a:ext cx="22860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52680" y="281952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762120" y="21337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62120" y="23623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762120" y="28195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1337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adra 45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25909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la 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268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1 Regla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5105520"/>
            <a:ext cx="46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 material de la hoja y de la cabeza suele ser madera nat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Alinear%20hoja%20con%20regla%20T" descr=""/>
          <p:cNvPicPr/>
          <p:nvPr/>
        </p:nvPicPr>
        <p:blipFill>
          <a:blip r:embed="rId1"/>
          <a:srcRect l="5708" t="13524" r="12522" b="33281"/>
          <a:stretch/>
        </p:blipFill>
        <p:spPr>
          <a:xfrm>
            <a:off x="2971800" y="2362320"/>
            <a:ext cx="5562720" cy="2438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895840" y="2743200"/>
            <a:ext cx="13708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2666880"/>
            <a:ext cx="25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 borde de trabajo de la hoja de la regla T debe ser r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81480" y="289548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228600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373392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181120" y="28954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62120" y="2286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61760" y="3733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05740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 borde de trabajo de la cabeza de la regla T debe ser rec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35053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BEZ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28954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0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81280" y="19051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7924680" y="18284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581280" y="1828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16765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ngitud de la regla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3429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J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4038480"/>
            <a:ext cx="2362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 borde de plástico transparente permite ver el dibujo a través de la reg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181120" y="46483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181480" y="38095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268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2 Escuad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Trazar%20una%20recta%20paralela%20a%20la%20cualquiera" descr=""/>
          <p:cNvPicPr/>
          <p:nvPr/>
        </p:nvPicPr>
        <p:blipFill>
          <a:blip r:embed="rId1"/>
          <a:srcRect l="0" t="14515" r="13203" b="0"/>
          <a:stretch/>
        </p:blipFill>
        <p:spPr>
          <a:xfrm>
            <a:off x="3352680" y="1981080"/>
            <a:ext cx="4600800" cy="3044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2514600"/>
            <a:ext cx="1218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762120" y="2514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adra 45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3048120"/>
            <a:ext cx="3352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62120" y="3048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8195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adra 30º60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57600" y="23162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5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15000" y="3505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5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33526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º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8098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º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9920" y="44956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0º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38480" y="39164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90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Alinear%20hoja%20con%20regla%20T" descr=""/>
          <p:cNvPicPr/>
          <p:nvPr/>
        </p:nvPicPr>
        <p:blipFill>
          <a:blip r:embed="rId1"/>
          <a:srcRect l="7070" t="8536" r="13203" b="10557"/>
          <a:stretch/>
        </p:blipFill>
        <p:spPr>
          <a:xfrm>
            <a:off x="3048120" y="1981080"/>
            <a:ext cx="5333760" cy="3646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1268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ALINEACIÓN PA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4114800"/>
            <a:ext cx="29606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 cabeza de la regla T debe tocar completamente el borde del tabler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3581280" y="396216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33520" y="449568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1523880"/>
            <a:ext cx="296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 hoja de dibujo debe coincidir con el borde de plástico de la regla 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943240" y="198108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886200" y="1981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48769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4876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42864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4952880"/>
            <a:ext cx="29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be quedar un espacio adecuado para apoyar los brazos sin dañar la hoja de dibujo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Dibujar%20línea%20horizontal%20copia" descr=""/>
          <p:cNvPicPr/>
          <p:nvPr/>
        </p:nvPicPr>
        <p:blipFill>
          <a:blip r:embed="rId1"/>
          <a:stretch/>
        </p:blipFill>
        <p:spPr>
          <a:xfrm>
            <a:off x="3062160" y="1676520"/>
            <a:ext cx="6081840" cy="4086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1268280"/>
            <a:ext cx="7632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TRAZAR LIN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1 Trazar línea horizon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Dibujar%20línea%20vertical%20copia" descr=""/>
          <p:cNvPicPr/>
          <p:nvPr/>
        </p:nvPicPr>
        <p:blipFill>
          <a:blip r:embed="rId1"/>
          <a:stretch/>
        </p:blipFill>
        <p:spPr>
          <a:xfrm>
            <a:off x="3200400" y="1676520"/>
            <a:ext cx="5943600" cy="4302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1268280"/>
            <a:ext cx="7632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TRAZAR LIN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2 Trazar línea ver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Trazar%20una%20recta%20cualquiera%20copia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3200400" cy="2352600"/>
          </a:xfrm>
          <a:prstGeom prst="rect">
            <a:avLst/>
          </a:prstGeom>
          <a:ln w="0">
            <a:noFill/>
          </a:ln>
        </p:spPr>
      </p:pic>
      <p:pic>
        <p:nvPicPr>
          <p:cNvPr id="204" name="Trazar%20una%20recta%20paralela%20a%20la%20cualquiera%20con%20regla%20T%20copia" descr=""/>
          <p:cNvPicPr/>
          <p:nvPr/>
        </p:nvPicPr>
        <p:blipFill>
          <a:blip r:embed="rId2"/>
          <a:stretch/>
        </p:blipFill>
        <p:spPr>
          <a:xfrm>
            <a:off x="4191120" y="2590920"/>
            <a:ext cx="4495680" cy="31654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876920" y="1600200"/>
            <a:ext cx="39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4 Trazar línea paralela a la arbitr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1268280"/>
            <a:ext cx="7632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TRAZAR LIN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3 Trazar línea arbitr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20:27:34Z</dcterms:created>
  <dc:creator>Elisabeth Avalos</dc:creator>
  <dc:description/>
  <dc:language>en-US</dc:language>
  <cp:lastModifiedBy>Benja</cp:lastModifiedBy>
  <dcterms:modified xsi:type="dcterms:W3CDTF">2007-03-20T15:30:09Z</dcterms:modified>
  <cp:revision>71</cp:revision>
  <dc:subject/>
  <dc:title>Diapositiva 1</dc:title>
</cp:coreProperties>
</file>