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2E9-0F2F-48CD-8752-A5C3EC2C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9E0-7BDE-49AA-A3EA-CFB72A9E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F9D-CC78-45E6-8A8F-4BA09E3D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E04-FC00-49E2-BE01-F6358BB1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D97-9629-4C4D-8732-46384D1B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46F1-E811-4585-90A6-EEF2E71D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236-64F7-46DD-B1D3-489DF909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807-6A94-4D14-B4EA-81D2E2E9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51C-6B75-46FB-AABC-198422DE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C15-8106-4D99-8AA1-AA6A0C9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343-7C13-4019-9F37-5D769867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AC2-C7FE-4B35-AD77-598A29DD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34F0-47B2-49FA-A85C-CB153555C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rtada" descr=""/>
          <p:cNvPicPr/>
          <p:nvPr/>
        </p:nvPicPr>
        <p:blipFill>
          <a:blip r:embed="rId1"/>
          <a:stretch/>
        </p:blipFill>
        <p:spPr>
          <a:xfrm>
            <a:off x="762120" y="868320"/>
            <a:ext cx="8076960" cy="542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22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ACION DEL TABL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l%20soporte%20básico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62560" cy="361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O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057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ro melam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7432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51460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62120" y="2286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62120" y="2514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62120" y="2743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621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dibu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14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apoy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743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pel adhesiv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72000"/>
            <a:ext cx="59040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e el tablero y la hoja de dibujo se recomienda colocar un pliego de papel hilado para minimizar las deficiencias en el dibujo por causa de las irregularidades de la superficie del tabl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papel adhesivo (cinta de enmascarar) evita que la hoja se desplace de manera imprevista y se perjudique el dibu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ortada" descr=""/>
          <p:cNvPicPr/>
          <p:nvPr/>
        </p:nvPicPr>
        <p:blipFill>
          <a:blip r:embed="rId1"/>
          <a:srcRect l="11143" t="8450" r="7825" b="8637"/>
          <a:stretch/>
        </p:blipFill>
        <p:spPr>
          <a:xfrm>
            <a:off x="2971800" y="1295280"/>
            <a:ext cx="609588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REGLAS Y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02128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emás de estos tres elementos, se requiere de una regla graduada (mm), y eventualmente un transportador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/60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133720"/>
            <a:ext cx="2819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3623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8195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62120" y="2133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62120" y="2362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2120" y="2819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133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909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la 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 Regla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5105520"/>
            <a:ext cx="46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aterial de la hoja y de la cabeza suele ser madera na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linear%20hoja%20con%20regla%20T" descr=""/>
          <p:cNvPicPr/>
          <p:nvPr/>
        </p:nvPicPr>
        <p:blipFill>
          <a:blip r:embed="rId1"/>
          <a:srcRect l="5708" t="13524" r="12522" b="33281"/>
          <a:stretch/>
        </p:blipFill>
        <p:spPr>
          <a:xfrm>
            <a:off x="2971800" y="2362320"/>
            <a:ext cx="556272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95840" y="27432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6668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hoja de la regla T debe ser 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2860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81120" y="2895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6212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5740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cabeza de la regla T debe ser rec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E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895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905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924680" y="1828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58128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676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itud de la regla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429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0384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plástico transparente permite ver el dibujo a través de la reg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181120" y="4648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81480" y="38095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2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razar%20una%20recta%20paralela%20a%20la%20cualquiera" descr=""/>
          <p:cNvPicPr/>
          <p:nvPr/>
        </p:nvPicPr>
        <p:blipFill>
          <a:blip r:embed="rId1"/>
          <a:srcRect l="0" t="14515" r="13203" b="0"/>
          <a:stretch/>
        </p:blipFill>
        <p:spPr>
          <a:xfrm>
            <a:off x="3352680" y="1981080"/>
            <a:ext cx="4600800" cy="304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5146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6212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048120"/>
            <a:ext cx="3352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6212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819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6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316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505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352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809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3916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linear%20hoja%20con%20regla%20T" descr=""/>
          <p:cNvPicPr/>
          <p:nvPr/>
        </p:nvPicPr>
        <p:blipFill>
          <a:blip r:embed="rId1"/>
          <a:srcRect l="7070" t="8536" r="13203" b="10557"/>
          <a:stretch/>
        </p:blipFill>
        <p:spPr>
          <a:xfrm>
            <a:off x="3048120" y="1981080"/>
            <a:ext cx="5333760" cy="3646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ALINEACIÓN PA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114800"/>
            <a:ext cx="296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cabeza de la regla T debe tocar completamente el borde del tabler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581280" y="39621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520" y="44956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1523880"/>
            <a:ext cx="296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hoja de dibujo debe coincidir con el borde de plástico de la regla 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943240" y="19810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8620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8769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42864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952880"/>
            <a:ext cx="29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be quedar un espacio adecuado para apoyar los brazos sin dañar la hoja de dibujo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Dibujar%20línea%20horizontal%20copia" descr=""/>
          <p:cNvPicPr/>
          <p:nvPr/>
        </p:nvPicPr>
        <p:blipFill>
          <a:blip r:embed="rId1"/>
          <a:stretch/>
        </p:blipFill>
        <p:spPr>
          <a:xfrm>
            <a:off x="3062160" y="1676520"/>
            <a:ext cx="6081840" cy="40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1 Trazar línea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ibujar%20línea%20vertical%20copia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943600" cy="430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2 Trazar línea ver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Trazar%20una%20recta%20cualquiera%20copia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200400" cy="2352600"/>
          </a:xfrm>
          <a:prstGeom prst="rect">
            <a:avLst/>
          </a:prstGeom>
          <a:ln w="0">
            <a:noFill/>
          </a:ln>
        </p:spPr>
      </p:pic>
      <p:pic>
        <p:nvPicPr>
          <p:cNvPr id="204" name="Trazar%20una%20recta%20paralela%20a%20la%20cualquiera%20con%20regla%20T%20copia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495680" cy="316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876920" y="1600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4 Trazar línea paralela a l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3 Trazar líne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0:27:34Z</dcterms:created>
  <dc:creator>Elisabeth Avalos</dc:creator>
  <dc:description/>
  <dc:language>en-US</dc:language>
  <cp:lastModifiedBy>Benja</cp:lastModifiedBy>
  <dcterms:modified xsi:type="dcterms:W3CDTF">2007-03-20T15:30:09Z</dcterms:modified>
  <cp:revision>71</cp:revision>
  <dc:subject/>
  <dc:title>Diapositiva 1</dc:title>
</cp:coreProperties>
</file>