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A72A-4AD8-408F-8CFC-77A3ACFA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8BC3-A3E7-48D8-B764-37D73914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A015-4C72-4FD9-9240-F4488727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E068-0802-4F7B-8FC1-B4D34606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F099-AEE3-4CF2-9325-A3D00166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0187-FE48-4805-BE35-B23A38CA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DD2C-FECE-44C1-9D80-AB245623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7162-4628-4A3D-9C66-C3E8B7E2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37AB-4EF2-4988-9863-BD58CA6D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F2BA-A8F6-4E48-AC2D-B1300D36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3F36-9582-46B9-BC32-1919AB78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CE80-DBA3-4ECD-9021-CAB794D1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6BB1-D8E0-4235-B9AC-938A53E73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ortada" descr=""/>
          <p:cNvPicPr/>
          <p:nvPr/>
        </p:nvPicPr>
        <p:blipFill>
          <a:blip r:embed="rId1"/>
          <a:stretch/>
        </p:blipFill>
        <p:spPr>
          <a:xfrm>
            <a:off x="762120" y="868320"/>
            <a:ext cx="8076960" cy="5427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522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ACION DEL TABL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El%20soporte%20básico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5362560" cy="3614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SOPOR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20574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ro melam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28600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743200"/>
            <a:ext cx="1295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2514600"/>
            <a:ext cx="2286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297180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762120" y="22860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762120" y="2514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62120" y="27432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62120" y="29718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ja de dibuj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5146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ja de apoy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7432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pel adhesiv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4572000"/>
            <a:ext cx="590400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re el tablero y la hoja de dibujo se recomienda colocar un pliego de papel hilado para minimizar las deficiencias en el dibujo por causa de las irregularidades de la superficie del tabl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papel adhesivo (cinta de enmascarar) evita que la hoja se desplace de manera imprevista y se perjudique el dibuj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ortada" descr=""/>
          <p:cNvPicPr/>
          <p:nvPr/>
        </p:nvPicPr>
        <p:blipFill>
          <a:blip r:embed="rId1"/>
          <a:srcRect l="11143" t="8450" r="7825" b="8637"/>
          <a:stretch/>
        </p:blipFill>
        <p:spPr>
          <a:xfrm>
            <a:off x="2971800" y="1295280"/>
            <a:ext cx="6095880" cy="4191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REGLAS Y ESCUAD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5021280"/>
            <a:ext cx="590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emás de estos tres elementos, se requiere de una regla graduada (mm), y eventualmente un transportador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9051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30º/60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2133720"/>
            <a:ext cx="2819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362320"/>
            <a:ext cx="2286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28195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62120" y="21337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62120" y="23623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62120" y="28195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1337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45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909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la 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1 Regla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5105520"/>
            <a:ext cx="46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material de la hoja y de la cabeza suele ser madera na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Alinear%20hoja%20con%20regla%20T" descr=""/>
          <p:cNvPicPr/>
          <p:nvPr/>
        </p:nvPicPr>
        <p:blipFill>
          <a:blip r:embed="rId1"/>
          <a:srcRect l="5708" t="13524" r="12522" b="33281"/>
          <a:stretch/>
        </p:blipFill>
        <p:spPr>
          <a:xfrm>
            <a:off x="2971800" y="2362320"/>
            <a:ext cx="5562720" cy="2438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95840" y="2743200"/>
            <a:ext cx="13708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66688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borde de trabajo de la hoja de la regla T debe ser r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8954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228600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37339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181120" y="28954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62120" y="2286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05740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borde de trabajo de la cabeza de la regla T debe ser rec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505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BEZ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28954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19051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924680" y="1828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581280" y="1828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16765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ngitud de la regla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3429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J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403848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borde de plástico transparente permite ver el dibujo a través de la reg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181120" y="46483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181480" y="38095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2 Escuad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Trazar%20una%20recta%20paralela%20a%20la%20cualquiera" descr=""/>
          <p:cNvPicPr/>
          <p:nvPr/>
        </p:nvPicPr>
        <p:blipFill>
          <a:blip r:embed="rId1"/>
          <a:srcRect l="0" t="14515" r="13203" b="0"/>
          <a:stretch/>
        </p:blipFill>
        <p:spPr>
          <a:xfrm>
            <a:off x="3352680" y="1981080"/>
            <a:ext cx="4600800" cy="3044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2514600"/>
            <a:ext cx="1218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6212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45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3048120"/>
            <a:ext cx="3352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62120" y="3048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8195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30º60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23162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5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3505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5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3352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º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809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º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4495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º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3916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90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Alinear%20hoja%20con%20regla%20T" descr=""/>
          <p:cNvPicPr/>
          <p:nvPr/>
        </p:nvPicPr>
        <p:blipFill>
          <a:blip r:embed="rId1"/>
          <a:srcRect l="7070" t="8536" r="13203" b="10557"/>
          <a:stretch/>
        </p:blipFill>
        <p:spPr>
          <a:xfrm>
            <a:off x="3048120" y="1981080"/>
            <a:ext cx="5333760" cy="3646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ALINEACIÓN PA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114800"/>
            <a:ext cx="29606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cabeza de la regla T debe tocar completamente el borde del tabler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581280" y="396216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33520" y="44956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1523880"/>
            <a:ext cx="296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hoja de dibujo debe coincidir con el borde de plástico de la regla 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943240" y="198108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886200" y="1981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48769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4876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42864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4952880"/>
            <a:ext cx="29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be quedar un espacio adecuado para apoyar los brazos sin dañar la hoja de dibujo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Dibujar%20línea%20horizontal%20copia" descr=""/>
          <p:cNvPicPr/>
          <p:nvPr/>
        </p:nvPicPr>
        <p:blipFill>
          <a:blip r:embed="rId1"/>
          <a:stretch/>
        </p:blipFill>
        <p:spPr>
          <a:xfrm>
            <a:off x="3062160" y="1676520"/>
            <a:ext cx="6081840" cy="4086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268280"/>
            <a:ext cx="76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TRAZAR LI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1 Trazar línea horizo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Dibujar%20línea%20vertical%20copia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5943600" cy="4302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268280"/>
            <a:ext cx="76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TRAZAR LI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2 Trazar línea ver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Trazar%20una%20recta%20cualquiera%20copia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3200400" cy="2352600"/>
          </a:xfrm>
          <a:prstGeom prst="rect">
            <a:avLst/>
          </a:prstGeom>
          <a:ln w="0">
            <a:noFill/>
          </a:ln>
        </p:spPr>
      </p:pic>
      <p:pic>
        <p:nvPicPr>
          <p:cNvPr id="204" name="Trazar%20una%20recta%20paralela%20a%20la%20cualquiera%20con%20regla%20T%20copia" descr=""/>
          <p:cNvPicPr/>
          <p:nvPr/>
        </p:nvPicPr>
        <p:blipFill>
          <a:blip r:embed="rId2"/>
          <a:stretch/>
        </p:blipFill>
        <p:spPr>
          <a:xfrm>
            <a:off x="4191120" y="2590920"/>
            <a:ext cx="4495680" cy="31654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876920" y="1600200"/>
            <a:ext cx="39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4 Trazar línea paralela a la arbitr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268280"/>
            <a:ext cx="76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TRAZAR LI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3 Trazar línea arbitr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20:27:34Z</dcterms:created>
  <dc:creator>Elisabeth Avalos</dc:creator>
  <dc:description/>
  <dc:language>en-US</dc:language>
  <cp:lastModifiedBy>Benja</cp:lastModifiedBy>
  <dcterms:modified xsi:type="dcterms:W3CDTF">2007-03-20T15:30:09Z</dcterms:modified>
  <cp:revision>71</cp:revision>
  <dc:subject/>
  <dc:title>Diapositiva 1</dc:title>
</cp:coreProperties>
</file>