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1FB-7071-477A-87B8-1BB5406B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08A-04A5-4CC1-AEB7-A97292E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B41-BBB3-41F2-BAA1-3EABD3FE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062-2F86-4F6D-A1C3-AFAD6A1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090-C595-429B-B66D-A60ADBB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635-182D-4B58-9E03-33419AE8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A1C-0DC6-4D08-9362-F75BC2A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92A-D60B-46CC-97E0-FFA0BDF0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406-2F54-4623-A6EE-9CEA41D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CD4-F1AE-4062-8720-14D4017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98F-B467-4B0D-9288-4067CCA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D61-1F9D-4FAD-8EB3-2057F31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D2B5-1A21-4E29-B491-A7EE7219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56720" cy="547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580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2:17:36Z</dcterms:created>
  <dc:creator>benja</dc:creator>
  <dc:description/>
  <dc:language>en-US</dc:language>
  <cp:lastModifiedBy>benja</cp:lastModifiedBy>
  <dcterms:modified xsi:type="dcterms:W3CDTF">2008-04-18T02:17:56Z</dcterms:modified>
  <cp:revision>1</cp:revision>
  <dc:subject/>
  <dc:title>Diapositiva 1</dc:title>
</cp:coreProperties>
</file>