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35E-057C-49AF-9A65-B6D80F72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E82-4A9C-48E2-8156-CFF2A77A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48C-658D-4585-9B87-468CA348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A359-DBF0-4E96-882B-7229FE21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4ED-5F4E-4B58-897E-E02FF0E0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6B56-B056-48A7-BBD1-69EF063E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299-F2A0-4F7E-AC08-F4AFAE2B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83F-5C19-4FA7-BBC0-9ED63257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2373-1AF8-4652-9F24-8FEA5508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1C5-D800-4861-9101-763D3ACA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36C-CD5C-4710-9DE4-6F39B545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1C3-8383-4BE1-86D9-BAA789BB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21BC-0208-4550-80C2-0CC154A5A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856720" cy="5478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280" y="163440"/>
            <a:ext cx="498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Universidad de Chile / fau / Depto. Ciencias de la Constr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Titular: Mirtha Pallarés (arquitect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Ayudante: Elisabeth Ávalos (arquitecto) / Benjamín Leyton (Diseñador Industri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6520" y="39852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1º añ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964720" cy="5808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9280" y="163440"/>
            <a:ext cx="498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4d4d4d"/>
                </a:solidFill>
                <a:latin typeface="Arial"/>
              </a:rPr>
              <a:t>Universidad de Chile / fau / Depto. Ciencias de la Constr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Titular: Mirtha Pallarés (arquitect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d4d4d"/>
                </a:solidFill>
                <a:latin typeface="Arial"/>
              </a:rPr>
              <a:t>Prof. Ayudante: Elisabeth Ávalos (arquitecto) / Benjamín Leyton (Diseñador Industri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6520" y="39852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1º añ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2:17:36Z</dcterms:created>
  <dc:creator>benja</dc:creator>
  <dc:description/>
  <dc:language>en-US</dc:language>
  <cp:lastModifiedBy>benja</cp:lastModifiedBy>
  <dcterms:modified xsi:type="dcterms:W3CDTF">2008-04-18T02:17:56Z</dcterms:modified>
  <cp:revision>1</cp:revision>
  <dc:subject/>
  <dc:title>Diapositiva 1</dc:title>
</cp:coreProperties>
</file>